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C6D7-232A-475B-990E-1133B38F7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are going to address the issue of data discrepancies. </a:t>
            </a:r>
            <a:endParaRPr b="0" lang="en-US" sz="1200" spc="-1" strike="noStrike">
              <a:solidFill>
                <a:srgbClr val="000000"/>
              </a:solidFill>
              <a:latin typeface="Arial"/>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3599-3981-4189-992E-22D7D8F3FE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ssues we have been discussing are related to the quality of the data. This chart summarizes some of those issues and addresses additional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validity – looks at accuracy. That your methods are measuring what you intended to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ility - has to do with the consistency of the data.  It is good to remember that a valid measure is always reliable.  However a reliable measure may or may not be va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 Are all data available – are there a lot of missing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ea typeface="Times New Roman"/>
              </a:rPr>
              <a:t>Precision – All data have sufficient detail and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ea typeface="Times New Roman"/>
              </a:rPr>
              <a:t>Timeliness – Data are timely when they are up-to-date or current, and when the information  reflects the program activities being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ea typeface="Times New Roman"/>
              </a:rPr>
              <a:t>And lastly, Integrity - data are protected from deliberate bias or manipulation for political or person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ea typeface="Times New Roman"/>
              </a:rPr>
              <a:t>These issues should be considered when assessing your data sources. </a:t>
            </a:r>
            <a:endParaRPr b="0" lang="en-US" sz="1200" spc="-1" strike="noStrike">
              <a:solidFill>
                <a:srgbClr val="000000"/>
              </a:solidFill>
              <a:latin typeface="Arial"/>
            </a:endParaRPr>
          </a:p>
        </p:txBody>
      </p:sp>
      <p:sp>
        <p:nvSpPr>
          <p:cNvPr id="1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1A92-CDAB-4E74-9EF6-C926AF904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thought on types of errors to look out for.  Often programs are evaluated to determine if the many interventions produced an immediate and observable health impact that leads to longer term changes in health outcomes such as morbidity and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n evaluation, depending on the design of the study, is vulnerable to all of the errors that I have mentioned before.  There are 3 broad categories to keep in mind when looking at a </a:t>
            </a:r>
            <a:r>
              <a:rPr b="0" lang="en-US" sz="1200" spc="-1" strike="noStrike" u="sng">
                <a:solidFill>
                  <a:srgbClr val="000000"/>
                </a:solidFill>
                <a:uFillTx/>
                <a:latin typeface="Arial"/>
              </a:rPr>
              <a:t>program evaluation</a:t>
            </a:r>
            <a:r>
              <a:rPr b="0" lang="en-US" sz="1200" spc="-1" strike="noStrike">
                <a:solidFill>
                  <a:srgbClr val="000000"/>
                </a:solidFill>
                <a:latin typeface="Arial"/>
              </a:rPr>
              <a:t>.  The first 2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 Positive, or when a program was shown to have had an effect, but in reality it did no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 Negative, or when an evaluation failed to detect a true program effe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o overcome these errors, a </a:t>
            </a:r>
            <a:r>
              <a:rPr b="0" i="1" lang="en-US" sz="1200" spc="-1" strike="noStrike">
                <a:solidFill>
                  <a:srgbClr val="000000"/>
                </a:solidFill>
                <a:latin typeface="Arial"/>
              </a:rPr>
              <a:t>random selection</a:t>
            </a:r>
            <a:r>
              <a:rPr b="0" lang="en-US" sz="1200" spc="-1" strike="noStrike">
                <a:solidFill>
                  <a:srgbClr val="000000"/>
                </a:solidFill>
                <a:latin typeface="Arial"/>
              </a:rPr>
              <a:t> of program participants as well as non-participants are used to compare program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earlier, </a:t>
            </a:r>
            <a:r>
              <a:rPr b="0" i="1" lang="en-US" sz="1200" spc="-1" strike="noStrike">
                <a:solidFill>
                  <a:srgbClr val="000000"/>
                </a:solidFill>
                <a:latin typeface="Arial"/>
              </a:rPr>
              <a:t>random selection</a:t>
            </a:r>
            <a:r>
              <a:rPr b="0" lang="en-US" sz="1200" spc="-1" strike="noStrike">
                <a:solidFill>
                  <a:srgbClr val="000000"/>
                </a:solidFill>
                <a:latin typeface="Arial"/>
              </a:rPr>
              <a:t> helps to ensure that the populations in the sample </a:t>
            </a:r>
            <a:r>
              <a:rPr b="0" i="1" lang="en-US" sz="1200" spc="-1" strike="noStrike">
                <a:solidFill>
                  <a:srgbClr val="000000"/>
                </a:solidFill>
                <a:latin typeface="Arial"/>
              </a:rPr>
              <a:t>represent</a:t>
            </a:r>
            <a:r>
              <a:rPr b="0" lang="en-US" sz="1200" spc="-1" strike="noStrike">
                <a:solidFill>
                  <a:srgbClr val="000000"/>
                </a:solidFill>
                <a:latin typeface="Arial"/>
              </a:rPr>
              <a:t> the greater population.  It also allows statisticians to calculate an impact to within 90%, 95%, or 99% certai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type of error is an Implementation Error, or there was no program effect found because not enough of the intervention was implemented or the implementation was not done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rror is often overcome by evaluating the implementation process and monitoring how the program was delivered.  So if your impact evaluation shows no effect, it may be useful to look at how the program was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an intervention is judged effective by whe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duces individual chan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reach or penetration into the population of the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sustainability of the change, or how much time the effects of the change last</a:t>
            </a:r>
            <a:endParaRPr b="0" lang="en-US" sz="1200" spc="-1" strike="noStrike">
              <a:solidFill>
                <a:srgbClr val="000000"/>
              </a:solidFill>
              <a:latin typeface="Arial"/>
            </a:endParaRPr>
          </a:p>
        </p:txBody>
      </p:sp>
      <p:sp>
        <p:nvSpPr>
          <p:cNvPr id="2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D07A-35BC-4098-9891-F0856440F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w that we’ve discussed the factors that can contribute to discrepant data, let’s talk about what we can do to interpret the data.</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irst is to probe. To ask questions. To investigate what could be causing the conflicting numbers.  As we discussed, you can look at the populations being studied, the potential sources of bias, how indicators are defined and other issues related to data quality.  Another tool you can use is to look at the confidence intervals of the indicator of interest in both studies .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s I said in my earlier example, you may have an estimate like 3% prevalence, plus or minus 2%.  That range of plus or minus 2% is the confidence interval.  But how does a researcher know how wide of a range to use for the confidence interval?</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ll you can use a statistical calculation to say that an certain estimate will occur within a given range 90%, 95%, or even 99% of the time.  This is the amount of uncertainty associated with a specific measurement.  The most common confidence interval around an estimate is when a researcher is 95% confident in the result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 your confidence interval is your </a:t>
            </a:r>
            <a:r>
              <a:rPr b="0" i="1" lang="en-US" sz="1200" spc="-1" strike="noStrike">
                <a:solidFill>
                  <a:srgbClr val="000000"/>
                </a:solidFill>
                <a:latin typeface="Arial"/>
              </a:rPr>
              <a:t>margin of error, </a:t>
            </a:r>
            <a:r>
              <a:rPr b="0" lang="en-US" sz="1200" spc="-1" strike="noStrike">
                <a:solidFill>
                  <a:srgbClr val="000000"/>
                </a:solidFill>
                <a:latin typeface="Arial"/>
              </a:rPr>
              <a:t>or the amount you expect the results to vary given a certain percentage of the time.</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way this can help you to interpret discrepant data from two different studies is to ask yourself the size of the confidence interval and if they overlap.  Let’s look at an example.</a:t>
            </a:r>
            <a:endParaRPr b="0" lang="en-US" sz="1200" spc="-1" strike="noStrike">
              <a:solidFill>
                <a:srgbClr val="000000"/>
              </a:solidFill>
              <a:latin typeface="Arial"/>
            </a:endParaRPr>
          </a:p>
        </p:txBody>
      </p:sp>
      <p:sp>
        <p:nvSpPr>
          <p:cNvPr id="2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00F3-E0DF-48DC-8042-3CFDE7B18B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have 2 studies, study A and study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A found that 53% of women reported multiple partners study B found that 61% of women had multiple partners.   Is this difference significant?  Yes – the end ranges of each Confidence Interval do not overl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slightly change our example so that  the confidence intervals are wider – meaning the range of the confidence interval is gre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02A0-CA25-4503-AA89-FA30CE38B5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ve changed the Confidence Intervals so that it is now 48-58% for study A and 57-65% for study be.  So our Confidence Intervals are wider (meaning the margin of error in both studies was greater), then the intervals would overlap. This means that our margin of error in both studies is wide enough so that the estimates from each study could be found within the other study’s Confidence Interval.  This suggests that the difference between the two studies is no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we don’t just look at Confidence Interval alone, but all of the other issues we’ve discussed.  This is just a researcher’s rule of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to always remember when interpreting data is – to use common sense. The finding of non-use of condoms with high risk partners at 53% or 61%, it is simply - too high and intervent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ast point on Confidence Intervals is that they are only calculated and reported when a random sampling technique was used. If the samples were not randomly selected then there will not be Confidence Intervals to com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BD44-35BD-4E83-80C4-D688CDBF54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17440" y="696960"/>
            <a:ext cx="4648320" cy="3486240"/>
          </a:xfrm>
          <a:prstGeom prst="rect">
            <a:avLst/>
          </a:prstGeom>
          <a:ln w="0">
            <a:noFill/>
          </a:ln>
        </p:spPr>
      </p:sp>
      <p:sp>
        <p:nvSpPr>
          <p:cNvPr id="2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t’s go back to our slide on techniques you can use to interpret data discrepancie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 addition to investigating sampling approaches, error, indicator definitions, terminology, data quality, and Confidence Intervals, what else can you do?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 can always reference additional studies that looked at the same variables. More evidence with similar estimates give you a stronger indication that the results are accurate.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stly – what else can you do to if you are struggling to decipher the difference between 2 studie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sk an expert.  A statistician can help you to understand the differences between methodologies and the nuances between some of the statistical approaches applied to studies.  They are an invaluable resource to the decision making process.  </a:t>
            </a:r>
            <a:endParaRPr b="0" lang="en-US" sz="1200" spc="-1" strike="noStrike">
              <a:solidFill>
                <a:srgbClr val="000000"/>
              </a:solidFill>
              <a:latin typeface="Arial"/>
            </a:endParaRPr>
          </a:p>
        </p:txBody>
      </p:sp>
      <p:sp>
        <p:nvSpPr>
          <p:cNvPr id="2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FF00-90C1-4D44-AE95-119F8A65A0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17440" y="696960"/>
            <a:ext cx="4648320" cy="3486240"/>
          </a:xfrm>
          <a:prstGeom prst="rect">
            <a:avLst/>
          </a:prstGeom>
          <a:ln w="0">
            <a:noFill/>
          </a:ln>
        </p:spPr>
      </p:sp>
      <p:sp>
        <p:nvSpPr>
          <p:cNvPr id="21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ould like to do a small group exercise where each group will read about two different sets of data, the 2005 Demographic Health Survey, or DHS, and the 2005 Priorities for Local AIDS Control Efforts, or PLACE,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handout packet you will find a brief description of both studies as well as 6 tables comparing data from both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ive you 20 minutes for each of you to read through the handout and discuss the two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 TO NEXT SLIDE BEFORE BEGINNING]</a:t>
            </a:r>
            <a:endParaRPr b="0" lang="en-US" sz="1200" spc="-1" strike="noStrike">
              <a:solidFill>
                <a:srgbClr val="000000"/>
              </a:solidFill>
              <a:latin typeface="Arial"/>
            </a:endParaRPr>
          </a:p>
        </p:txBody>
      </p:sp>
      <p:sp>
        <p:nvSpPr>
          <p:cNvPr id="2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F4F6-D8DD-4503-AB4C-11F2081279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17440" y="696960"/>
            <a:ext cx="4648320" cy="3486240"/>
          </a:xfrm>
          <a:prstGeom prst="rect">
            <a:avLst/>
          </a:prstGeom>
          <a:ln w="0">
            <a:noFill/>
          </a:ln>
        </p:spPr>
      </p:sp>
      <p:sp>
        <p:nvSpPr>
          <p:cNvPr id="2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you are discussing in your groups.  Think about answers to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 th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re they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re they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ach study group compare to the greater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 two studie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use of each type of data for program planners?  For policy 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0 minutes, we will go around and have each group provide an answer to one question.  We will then all discuss this group’s answer, whether we all agree or no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s should circulate throughout the groups and help guide them in their interpretation of the data]</a:t>
            </a:r>
            <a:endParaRPr b="0" lang="en-US" sz="1200" spc="-1" strike="noStrike">
              <a:solidFill>
                <a:srgbClr val="000000"/>
              </a:solidFill>
              <a:latin typeface="Arial"/>
            </a:endParaRPr>
          </a:p>
        </p:txBody>
      </p:sp>
      <p:sp>
        <p:nvSpPr>
          <p:cNvPr id="2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F5A3-8A59-469A-B26D-9E358602E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is in the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DHS and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men and women of reproductive age (15 to 49 yea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population samples from rural, semi-urban, and urban area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Tables 1a and 1b</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 larger sample size of femal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consisted of an older popul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ore likely to be married or living with a partner.</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ables 1a and 1b</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d a larger sample size of mal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consisted of a younger popul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ess likely to be married or living with a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are they loc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DHS and PLACE: implemented in 12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National household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Survey conducted where local stakeholders perceive the highest acquisition and transmission of HIV is likely to occur (the 23 Priority Prevention Areas or P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ere they sel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two-stage cluster survey” is a probability sampling technique that involves random s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combined non-probability and probability sampling</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ed key informant interviews with PPA to identify a list of “public venues where people met new sexual partn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selection of venues from list with greater probability given to larger 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es each study group compare to the greater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Survey respondents were selected randomly, therefore the information reflects the general population (also, a two-stage cluster design limits how applicable the findings are at the household level, that is the results describe more national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PLACE methodology targets specific sites where people meet sexual partners or HIV transmission is more likely to occur (also, the information is gathered directly from targeted areas and therefore the findings reflect more the population within those specified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s the data in the two studies different? </a:t>
            </a:r>
            <a:r>
              <a:rPr b="0" lang="en-US" sz="1200" spc="-1" strike="noStrike">
                <a:solidFill>
                  <a:srgbClr val="000000"/>
                </a:solidFill>
                <a:latin typeface="Arial"/>
              </a:rPr>
              <a:t>Tables 3a, 3b, 4a, and 4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For both males and femal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less likely to have had sex with 2+ partners in the past 12 month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less likely to have had sex with a non-marital or non-cohabitating partner in the past 12 month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more likely to have </a:t>
            </a:r>
            <a:r>
              <a:rPr b="0" lang="en-US" sz="1200" spc="-1" strike="noStrike" u="sng">
                <a:solidFill>
                  <a:srgbClr val="000000"/>
                </a:solidFill>
                <a:uFillTx/>
                <a:latin typeface="Arial"/>
              </a:rPr>
              <a:t>NOT</a:t>
            </a:r>
            <a:r>
              <a:rPr b="0" lang="en-US" sz="1200" spc="-1" strike="noStrike">
                <a:solidFill>
                  <a:srgbClr val="000000"/>
                </a:solidFill>
                <a:latin typeface="Arial"/>
              </a:rPr>
              <a:t> used a condom at last sex in the past 12 month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or both males and femal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more likely to have had sex with 2+ partners in the past 12 month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more likely to have had sex with a non-marital or non-cohabitating partner in the past 12 month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s more likely to have used a condom at last sex in the past 12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use of each type of data for program planners?  For policy maker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provides more local picture: </a:t>
            </a:r>
            <a:r>
              <a:rPr b="0" lang="en-US" sz="1200" spc="-1" strike="noStrike">
                <a:solidFill>
                  <a:srgbClr val="000000"/>
                </a:solidFill>
                <a:latin typeface="Arial"/>
              </a:rPr>
              <a:t>National surveys, like the DHS, mask the diversity in local epidemic contexts and provide limited insight into where high levels of sexual partnership may occur. HIV prevention programs could benefit from greater understanding of the determinants of local epidemics in high transmission are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population is high-risk: </a:t>
            </a:r>
            <a:r>
              <a:rPr b="0" lang="en-US" sz="1200" spc="-1" strike="noStrike">
                <a:solidFill>
                  <a:srgbClr val="000000"/>
                </a:solidFill>
                <a:latin typeface="Arial"/>
              </a:rPr>
              <a:t>The PLACE population is more likely to have higher rates of partner acquisition than the DHS population, and is more likely to have sex with non-marital or non-cohabitating partners, suggesting that the PLACE population is more likely to acquire and transmit HIV.</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relevant to programs: </a:t>
            </a:r>
            <a:r>
              <a:rPr b="0" lang="en-US" sz="1200" spc="-1" strike="noStrike">
                <a:solidFill>
                  <a:srgbClr val="000000"/>
                </a:solidFill>
                <a:latin typeface="Arial"/>
              </a:rPr>
              <a:t>PLACE identifies sites where people are likely to meet new sex partners and therefore are logical targets for prevention efforts. Therefore this information is useful at the program level because it can be used to target locations for prevention and test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ce PLACE and DHS: </a:t>
            </a:r>
            <a:r>
              <a:rPr b="0" lang="en-US" sz="1200" spc="-1" strike="noStrike">
                <a:solidFill>
                  <a:srgbClr val="000000"/>
                </a:solidFill>
                <a:latin typeface="Arial"/>
              </a:rPr>
              <a:t>DHS and PLACE offer views on knowledge, attitudes, and practices at different levels of resolution: DHS at the national and regional level, PLACE at the local level.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S advantages: </a:t>
            </a:r>
            <a:r>
              <a:rPr b="0" lang="en-US" sz="1200" spc="-1" strike="noStrike">
                <a:solidFill>
                  <a:srgbClr val="000000"/>
                </a:solidFill>
                <a:latin typeface="Arial"/>
              </a:rPr>
              <a:t>The DHS provides an update on the scope of the epidemic and progress towards eliminating HIV within the entire country.  It also can highlight regions where further prevention efforts are nee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advantages: </a:t>
            </a:r>
            <a:r>
              <a:rPr b="0" lang="en-US" sz="1200" spc="-1" strike="noStrike">
                <a:solidFill>
                  <a:srgbClr val="000000"/>
                </a:solidFill>
                <a:latin typeface="Arial"/>
              </a:rPr>
              <a:t>The PLACE assessment provides further local insight on the scope of the epidemic at venues where there is a greater likelihood of HIV transmission.  It can therefore be used to target prevention efforts and track progress towards eliminating HIV at the local leve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Sets of data for 2 types of decisions:</a:t>
            </a:r>
            <a:r>
              <a:rPr b="0" lang="en-US" sz="1200" spc="-1" strike="noStrike">
                <a:solidFill>
                  <a:srgbClr val="000000"/>
                </a:solidFill>
                <a:latin typeface="Arial"/>
              </a:rPr>
              <a:t> In conclusion, it is not the case that the PLACE study is better than the DHS study or vice versa.  They can be used together, the DHS to make decisions concerning national progress towards fighting HIV and what are the focus regions, and PLACE to make decisions about targeting prevention interventions at the local level.</a:t>
            </a:r>
            <a:endParaRPr b="0" lang="en-US" sz="1200" spc="-1" strike="noStrike">
              <a:solidFill>
                <a:srgbClr val="000000"/>
              </a:solidFill>
              <a:latin typeface="Arial"/>
            </a:endParaRPr>
          </a:p>
        </p:txBody>
      </p:sp>
      <p:sp>
        <p:nvSpPr>
          <p:cNvPr id="2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B5B9-C967-4E95-A3BC-73A4B163A1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6FDE-DCA0-434F-842F-D0EA7CF86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data discrepancies? This is when you encounter two different estimates for the same indicator from two separate studies or data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cision makers this puts us in a difficult situation – we need to know which estimate to use to inform our decision.  We need to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does this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 we interpret this information i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through an example…..Here you see figures for HIV prevalence among men and women of reproductive age for country X in 2007.  The DHS estimates 4.1% and sentinel surveillance estimates 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der – does the difference matter?  Which estimate should I use?</a:t>
            </a:r>
            <a:endParaRPr b="0" lang="en-US" sz="1200" spc="-1" strike="noStrike">
              <a:solidFill>
                <a:srgbClr val="000000"/>
              </a:solidFill>
              <a:latin typeface="Arial"/>
            </a:endParaRPr>
          </a:p>
        </p:txBody>
      </p:sp>
      <p:sp>
        <p:nvSpPr>
          <p:cNvPr id="1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E0C7-1CA8-43C6-AE73-450DDCE8A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is question, we need to consider what causes data discrepancies.  There are many things that can cause discrepancies in data.  In today’s discussion we will touch on some of the largest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aced with a data discrepancy the first thing to investigate is if there are any differences in the study population – or the specific samples included in th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rarely survey an entire population of interest as this is extremely expensive and time consuming. Instances where this is done include the census or instances where the population of interest is sm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don’t survey everyone in the population of interest specific techniques are used to sample subsets of the populations of interest.  Depending on how the sample is selected, the study results will differ if the same question is asked to different groups of people – even if they come form the same population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if data are discrepant you will need to know about the populations that the data came from.  You will need to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 th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re they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re they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y compare with the greater population? Are they representative of the greater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27A2-B58D-40A5-B682-05CE47B987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understand the answers to these questions we will talk a bit about different sampling technique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are two primary ways to sample a population.  The first is Probability Sampling.  The idea behind this type of sampling technique is that all cases are </a:t>
            </a:r>
            <a:r>
              <a:rPr b="0" i="1" lang="en-US" sz="1200" spc="-1" strike="noStrike">
                <a:solidFill>
                  <a:srgbClr val="000000"/>
                </a:solidFill>
                <a:latin typeface="Arial"/>
              </a:rPr>
              <a:t>randomly selected</a:t>
            </a:r>
            <a:r>
              <a:rPr b="0" lang="en-US" sz="1200" spc="-1" strike="noStrike">
                <a:solidFill>
                  <a:srgbClr val="000000"/>
                </a:solidFill>
                <a:latin typeface="Arial"/>
              </a:rPr>
              <a:t>.  All eligible cases, or individuals, have the same chance of being chosen for a study.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ENGAGE PARTICIPANTS:</a:t>
            </a:r>
            <a:r>
              <a:rPr b="0" lang="en-US" sz="1200" spc="-1" strike="noStrike">
                <a:solidFill>
                  <a:srgbClr val="000000"/>
                </a:solidFill>
                <a:latin typeface="Arial"/>
              </a:rPr>
              <a:t>  Why is it important that participants in a study are </a:t>
            </a:r>
            <a:r>
              <a:rPr b="0" i="1" lang="en-US" sz="1200" spc="-1" strike="noStrike">
                <a:solidFill>
                  <a:srgbClr val="000000"/>
                </a:solidFill>
                <a:latin typeface="Arial"/>
              </a:rPr>
              <a:t>randomly</a:t>
            </a:r>
            <a:r>
              <a:rPr b="0" lang="en-US" sz="1200" spc="-1" strike="noStrike">
                <a:solidFill>
                  <a:srgbClr val="000000"/>
                </a:solidFill>
                <a:latin typeface="Arial"/>
              </a:rPr>
              <a:t> chosen?</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nswer – As I said earlier, researchers rarely survey an entire population.  It’s just too expensive.  But if we </a:t>
            </a:r>
            <a:r>
              <a:rPr b="0" i="1" lang="en-US" sz="1200" spc="-1" strike="noStrike">
                <a:solidFill>
                  <a:srgbClr val="000000"/>
                </a:solidFill>
                <a:latin typeface="Arial"/>
              </a:rPr>
              <a:t>randomly</a:t>
            </a:r>
            <a:r>
              <a:rPr b="0" lang="en-US" sz="1200" spc="-1" strike="noStrike">
                <a:solidFill>
                  <a:srgbClr val="000000"/>
                </a:solidFill>
                <a:latin typeface="Arial"/>
              </a:rPr>
              <a:t>  select a small group of individuals within a population for our survey, we can often say that the results of our survey </a:t>
            </a:r>
            <a:r>
              <a:rPr b="0" i="1" lang="en-US" sz="1200" spc="-1" strike="noStrike">
                <a:solidFill>
                  <a:srgbClr val="000000"/>
                </a:solidFill>
                <a:latin typeface="Arial"/>
              </a:rPr>
              <a:t>represent</a:t>
            </a:r>
            <a:r>
              <a:rPr b="0" lang="en-US" sz="1200" spc="-1" strike="noStrike">
                <a:solidFill>
                  <a:srgbClr val="000000"/>
                </a:solidFill>
                <a:latin typeface="Arial"/>
              </a:rPr>
              <a:t> that larger population.     Also, if survey respondents are chosen </a:t>
            </a:r>
            <a:r>
              <a:rPr b="0" i="1" lang="en-US" sz="1200" spc="-1" strike="noStrike">
                <a:solidFill>
                  <a:srgbClr val="000000"/>
                </a:solidFill>
                <a:latin typeface="Arial"/>
              </a:rPr>
              <a:t>randomly</a:t>
            </a:r>
            <a:r>
              <a:rPr b="0" lang="en-US" sz="1200" spc="-1" strike="noStrike">
                <a:solidFill>
                  <a:srgbClr val="000000"/>
                </a:solidFill>
                <a:latin typeface="Arial"/>
              </a:rPr>
              <a:t>, it may also be possible to generalize or infer our survey results to other population groups, points in time, or settings.  For example, if I </a:t>
            </a:r>
            <a:r>
              <a:rPr b="0" i="1" lang="en-US" sz="1200" spc="-1" strike="noStrike">
                <a:solidFill>
                  <a:srgbClr val="000000"/>
                </a:solidFill>
                <a:latin typeface="Arial"/>
              </a:rPr>
              <a:t>randomly</a:t>
            </a:r>
            <a:r>
              <a:rPr b="0" lang="en-US" sz="1200" spc="-1" strike="noStrike">
                <a:solidFill>
                  <a:srgbClr val="000000"/>
                </a:solidFill>
                <a:latin typeface="Arial"/>
              </a:rPr>
              <a:t> chose students at one university, and my sample size was large enough to make a precise estimate, I may be able to say that my findings describe typical students at any university in the country.</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are different types of Probability Sampling designs that ensure </a:t>
            </a:r>
            <a:r>
              <a:rPr b="0" i="1" lang="en-US" sz="1200" spc="-1" strike="noStrike">
                <a:solidFill>
                  <a:srgbClr val="000000"/>
                </a:solidFill>
                <a:latin typeface="Arial"/>
              </a:rPr>
              <a:t>random </a:t>
            </a:r>
            <a:r>
              <a:rPr b="0" lang="en-US" sz="1200" spc="-1" strike="noStrike">
                <a:solidFill>
                  <a:srgbClr val="000000"/>
                </a:solidFill>
                <a:latin typeface="Arial"/>
              </a:rPr>
              <a:t> selection such as simple random sampling, systematic sampling, stratified random sampling, and cluster sampling.</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ENGAGE PARTICIPANTS:</a:t>
            </a:r>
            <a:r>
              <a:rPr b="0" lang="en-US" sz="1200" spc="-1" strike="noStrike">
                <a:solidFill>
                  <a:srgbClr val="000000"/>
                </a:solidFill>
                <a:latin typeface="Arial"/>
              </a:rPr>
              <a:t> Can I always </a:t>
            </a:r>
            <a:r>
              <a:rPr b="0" i="1" lang="en-US" sz="1200" spc="-1" strike="noStrike">
                <a:solidFill>
                  <a:srgbClr val="000000"/>
                </a:solidFill>
                <a:latin typeface="Arial"/>
              </a:rPr>
              <a:t>randomly</a:t>
            </a:r>
            <a:r>
              <a:rPr b="0" lang="en-US" sz="1200" spc="-1" strike="noStrike">
                <a:solidFill>
                  <a:srgbClr val="000000"/>
                </a:solidFill>
                <a:latin typeface="Arial"/>
              </a:rPr>
              <a:t> choose my participants in a study?</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second way to sample a population is Non-probability  Sampling. This technique is used when you are not able to </a:t>
            </a:r>
            <a:r>
              <a:rPr b="0" i="1" lang="en-US" sz="1200" spc="-1" strike="noStrike">
                <a:solidFill>
                  <a:srgbClr val="000000"/>
                </a:solidFill>
                <a:latin typeface="Arial"/>
              </a:rPr>
              <a:t>randomly </a:t>
            </a:r>
            <a:r>
              <a:rPr b="0" lang="en-US" sz="1200" spc="-1" strike="noStrike">
                <a:solidFill>
                  <a:srgbClr val="000000"/>
                </a:solidFill>
                <a:latin typeface="Arial"/>
              </a:rPr>
              <a:t>select your survey participant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r example, you want to look at the behavior of Men who have Sex with Men, but this population is not easy to find or quantify. Without being able to clearly define your population of interest, it will be challenging to </a:t>
            </a:r>
            <a:r>
              <a:rPr b="0" i="1" lang="en-US" sz="1200" spc="-1" strike="noStrike">
                <a:solidFill>
                  <a:srgbClr val="000000"/>
                </a:solidFill>
                <a:latin typeface="Arial"/>
              </a:rPr>
              <a:t>randomly </a:t>
            </a:r>
            <a:r>
              <a:rPr b="0" lang="en-US" sz="1200" spc="-1" strike="noStrike">
                <a:solidFill>
                  <a:srgbClr val="000000"/>
                </a:solidFill>
                <a:latin typeface="Arial"/>
              </a:rPr>
              <a:t>sample from it.  The only way to find survey participants maybe for the investigator to </a:t>
            </a:r>
            <a:r>
              <a:rPr b="0" i="1" lang="en-US" sz="1200" spc="-1" strike="noStrike">
                <a:solidFill>
                  <a:srgbClr val="000000"/>
                </a:solidFill>
                <a:latin typeface="Arial"/>
              </a:rPr>
              <a:t>non-randomly</a:t>
            </a:r>
            <a:r>
              <a:rPr b="0" lang="en-US" sz="1200" spc="-1" strike="noStrike">
                <a:solidFill>
                  <a:srgbClr val="000000"/>
                </a:solidFill>
                <a:latin typeface="Arial"/>
              </a:rPr>
              <a:t>  select them.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nother example is that you want to investigate client satisfaction with a particular service but do not have the funds to conduct a large scale survey.</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reasons to use Non-probability Sampling is that you want to do an exploratory study to direct future research, you don’t want to apply your findings to other populations, or there are very few cases to investigate within a population.  In these cases, you would use Non-probability Sampling methods such as availability or convenience sampling, purposive sampling, quota sampling, or snowball sampling.</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principal difference between Probability and Non-probability sampling is </a:t>
            </a:r>
            <a:r>
              <a:rPr b="0" i="1" lang="en-US" sz="1200" spc="-1" strike="noStrike">
                <a:solidFill>
                  <a:srgbClr val="000000"/>
                </a:solidFill>
                <a:latin typeface="Arial"/>
              </a:rPr>
              <a:t>random selection. </a:t>
            </a:r>
            <a:r>
              <a:rPr b="0" lang="en-US" sz="1200" spc="-1" strike="noStrike">
                <a:solidFill>
                  <a:srgbClr val="000000"/>
                </a:solidFill>
                <a:latin typeface="Arial"/>
              </a:rPr>
              <a:t>If you do not choose your sample participants </a:t>
            </a:r>
            <a:r>
              <a:rPr b="0" i="1" lang="en-US" sz="1200" spc="-1" strike="noStrike">
                <a:solidFill>
                  <a:srgbClr val="000000"/>
                </a:solidFill>
                <a:latin typeface="Arial"/>
              </a:rPr>
              <a:t>randomly, </a:t>
            </a:r>
            <a:r>
              <a:rPr b="0" lang="en-US" sz="1200" spc="-1" strike="noStrike">
                <a:solidFill>
                  <a:srgbClr val="000000"/>
                </a:solidFill>
                <a:latin typeface="Arial"/>
              </a:rPr>
              <a:t>then there is potential for what is called sample bias, or sample selection bias.   This term means that the chances of selecting any case, or survey respondent, are not known.  We therefore cannot say with certainty that the individuals within a survey, and the information they provide, represents the characteristics of a larger population.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ow do researchers decide what sampling technique to use?</a:t>
            </a:r>
            <a:endParaRPr b="0" lang="en-US" sz="1200" spc="-1" strike="noStrike">
              <a:solidFill>
                <a:srgbClr val="000000"/>
              </a:solidFill>
              <a:latin typeface="Arial"/>
            </a:endParaRPr>
          </a:p>
          <a:p>
            <a:pPr>
              <a:spcBef>
                <a:spcPts val="451"/>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desired level of confidence or accuracy in the results; </a:t>
            </a:r>
            <a:endParaRPr b="0" lang="en-US" sz="1200" spc="-1" strike="noStrike">
              <a:solidFill>
                <a:srgbClr val="000000"/>
              </a:solidFill>
              <a:latin typeface="Arial"/>
            </a:endParaRPr>
          </a:p>
          <a:p>
            <a:pPr>
              <a:spcBef>
                <a:spcPts val="451"/>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characteristics of the popula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udget, timeline, capacity of research staff</a:t>
            </a:r>
            <a:endParaRPr b="0" lang="en-US" sz="1200" spc="-1" strike="noStrike">
              <a:solidFill>
                <a:srgbClr val="000000"/>
              </a:solidFill>
              <a:latin typeface="Arial"/>
            </a:endParaRPr>
          </a:p>
          <a:p>
            <a:pPr>
              <a:spcBef>
                <a:spcPts val="451"/>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nd the</a:t>
            </a:r>
            <a:r>
              <a:rPr b="1" lang="en-US" sz="1200" spc="-1" strike="noStrike">
                <a:solidFill>
                  <a:srgbClr val="000000"/>
                </a:solidFill>
                <a:latin typeface="Arial"/>
              </a:rPr>
              <a:t> </a:t>
            </a:r>
            <a:r>
              <a:rPr b="0" lang="en-US" sz="1200" spc="-1" strike="noStrike">
                <a:solidFill>
                  <a:srgbClr val="000000"/>
                </a:solidFill>
                <a:latin typeface="Arial"/>
              </a:rPr>
              <a:t>type of research question;</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I say the type of research question, I mean that sometimes you want to know the size and scope of a problem or you want to prove the existence of a relationship.  In this case a quantitative survey using a Probability Sampling design may be more appropriate.</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owever, if your goal is to explore more sensitive topics in depth, generate understanding of an issue from the perspective, and in the language, of informants, or answer research questions that start with “How”, “What”, &amp; “Why”, an investigator may choose to conduct qualitative research that uses a Non-probability Sampling design.  This approach is more descriptive.</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f course, the best of both worlds is mixed-methods research, where an investigator uses multiple research methods and sampling techniques to learn about a specific phenomenon.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sults from mixed methods research are often both very reliable and very useful for making programmatic decisions.  </a:t>
            </a:r>
            <a:endParaRPr b="0" lang="en-US" sz="1200" spc="-1" strike="noStrike">
              <a:solidFill>
                <a:srgbClr val="000000"/>
              </a:solidFill>
              <a:latin typeface="Arial"/>
            </a:endParaRPr>
          </a:p>
        </p:txBody>
      </p:sp>
      <p:sp>
        <p:nvSpPr>
          <p:cNvPr id="17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22EA-6A93-440E-BD62-7C6FF77AE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reviewed the basics of sampling let’s go back to our example on HIV prevalence estimates from Antenatal Surveillance Survey and the Demographic Health Surveillance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column you see the questions we can ask to help understand the differences between our samples.  We first ask, “Who is in th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HS includes men and women of reproductive age while the ANC surveillance system includes only women who are pregnant. As you see, these populations are not equal.  So we ask, “How do these populations compare in terms of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DHS includes both men and women of reproductive age some of them will be sexually active and some will not whereas in the ANC sample, all of these women were sexually active.  Moreover, in the DHS sample some of these individuals are most likely using contraception such as condoms, whereas in the ANC sample we know that none of the women used condoms. There are most likely other differences but these are the biggest. This tells us that exposure to HIV was most likely higher in the ANC s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third row – How were they selected? The DHS used a random, or Probability Sampling methodology.  The ANC used a purposive, non-random, or non-probability Sampling methodology.  What does this mean?  The DHS is more representative of the actual population than the ANC surveillance data.  However there is well-accepted assumption among experts that trends in ANC sero-prevalence are a good proxy for trends in sexually active population (or those aged 15 to 49 years). It is also important to note that sometimes ANC statistics are corrected to estimate the general population prevalence using statistical mod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ere the study respondents are located also helps us to understand the differences between the two samples. In the last row you see that the ANC study sampled 30 sites out of 372 health centers, 2 of which were in the capital, 12 in other urban areas, and 16 rural sites.  This does not represent the entire population.  Also when it comes to sampling at facilities opposed to in the home, you are not always sure if the clients who frequent the facility are actually from the same geographic location as the health center.  Sometimes urban facilities serve clients from their surrounding rura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 </a:t>
            </a:r>
            <a:r>
              <a:rPr b="0" lang="en-US" sz="1200" spc="-1" strike="noStrike">
                <a:solidFill>
                  <a:srgbClr val="000000"/>
                </a:solidFill>
                <a:latin typeface="Arial"/>
              </a:rPr>
              <a:t>So what does all of this mean for interpreting the two HIV estim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The ANC estimate is most likely ov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 </a:t>
            </a:r>
            <a:r>
              <a:rPr b="0" lang="en-US" sz="1200" spc="-1" strike="noStrike">
                <a:solidFill>
                  <a:srgbClr val="000000"/>
                </a:solidFill>
                <a:latin typeface="Arial"/>
              </a:rPr>
              <a:t>Can you determine if it is wildly overestimated or mild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S, 4.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tinel surveillance,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Most likely the overestimate is on the low side because it is not very far off from the DHS which is a nationally representative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 </a:t>
            </a:r>
            <a:r>
              <a:rPr b="0" lang="en-US" sz="1200" spc="-1" strike="noStrike">
                <a:solidFill>
                  <a:srgbClr val="000000"/>
                </a:solidFill>
                <a:latin typeface="Arial"/>
              </a:rPr>
              <a:t>Which estimate should we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Both should inform your decision making. The point here is that they are both strong methodologies even if the DHS is a random sample of the general population.  It’s important to remember that the difference between 4.1 and 6.4 is less that 2%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 there may not be much difference between what you would do in either situation.   The point here is to understand the weakness and strengths of each approach. Even the best designed studies have potential methodological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TE TO FACILITATOR:  </a:t>
            </a:r>
            <a:r>
              <a:rPr b="0" lang="en-US" sz="1200" spc="-1" strike="noStrike">
                <a:solidFill>
                  <a:srgbClr val="000000"/>
                </a:solidFill>
                <a:latin typeface="Arial"/>
              </a:rPr>
              <a:t>There is usually a nationally recognized HIV prevalence figure for the adult population and you may want to point that out to the audience.</a:t>
            </a:r>
            <a:endParaRPr b="0" lang="en-US" sz="1200" spc="-1" strike="noStrike">
              <a:solidFill>
                <a:srgbClr val="000000"/>
              </a:solidFill>
              <a:latin typeface="Arial"/>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38FD-E009-449C-B7CC-0F01268296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other possible contributors to discrepancies in data.  A primary one is error in the data.  There are two types of error associated with most forms of research: random and syst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error can occur as either a random sampling error or a random measurement error.  A random sampling error refers to a statistical calculation that tells you how precise or accurate an estimate is.  It tells you how likely you would see the same results from a survey, if you conducted that survey with everyone in the entir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study may say that we are 95% certain that the prevalence of HIV in the population is 3%, give or take, plus or minus 2%.  The range between 1 and 5% is due to sampling error. This range is also referred to as a confidence interval. This sampling error, or confidence interval, can be reduced with larger sample sizes.  A small confidence interval indicates a very precise es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measurement errors are temporary, chance factors in the survey such as ambiguous items, fatigue, or recording errors.  These errors tend to cancel each other out with repeated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errors, or </a:t>
            </a:r>
            <a:r>
              <a:rPr b="0" i="1" lang="en-US" sz="1200" spc="-1" strike="noStrike">
                <a:solidFill>
                  <a:srgbClr val="000000"/>
                </a:solidFill>
                <a:latin typeface="Arial"/>
              </a:rPr>
              <a:t>biases</a:t>
            </a:r>
            <a:r>
              <a:rPr b="0" lang="en-US" sz="1200" spc="-1" strike="noStrike">
                <a:solidFill>
                  <a:srgbClr val="000000"/>
                </a:solidFill>
                <a:latin typeface="Arial"/>
              </a:rPr>
              <a:t>, are reproducible inaccuracies that create consistently false patterns of differences between observed and true values. These errors differ from the true value by a constant amount.  Most biases resulting from systematic errors </a:t>
            </a:r>
            <a:r>
              <a:rPr b="1" lang="en-US" sz="1200" spc="-1" strike="noStrike">
                <a:solidFill>
                  <a:srgbClr val="000000"/>
                </a:solidFill>
                <a:latin typeface="Arial"/>
              </a:rPr>
              <a:t>cannot</a:t>
            </a:r>
            <a:r>
              <a:rPr b="0" lang="en-US" sz="1200" spc="-1" strike="noStrike">
                <a:solidFill>
                  <a:srgbClr val="000000"/>
                </a:solidFill>
                <a:latin typeface="Arial"/>
              </a:rPr>
              <a:t> be reduced through statistics. This is because biases can arise from innumerable sources, including complex human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categories of systematic measurement error that can affect the validity of research include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ive measurement effect: when a response is affected by the process of being observed (also known as the Hawthorn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desirability effect: people are less willing to admit socially undesirable positions when they are aware of being “tested”. This is the tendency of respondents to answer questions in a manner that will be viewed favorably by others. It can take the form of over-reporting good behavior or under-reporting ba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escence response set: Respondents are more likely to agree than disagree with statements, whatever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ource of systematic error is when not all of the appropriate variables, or factors, are used to define a concept, or indicator.  For example, you may have seen 2 estimates of a specific indicator, yet they are 2 completely different numbers.  The difference in the 2 estimates may not be because the data is inaccurate.  It may be that you are not really looking at comparable indicators – EVEN if they are called the same thing.  The point here is that sometimes an indicator or variable may have the same name but actually measure different things.  Let’s look at an example.  </a:t>
            </a:r>
            <a:endParaRPr b="0" lang="en-US" sz="1200" spc="-1" strike="noStrike">
              <a:solidFill>
                <a:srgbClr val="000000"/>
              </a:solidFill>
              <a:latin typeface="Arial"/>
            </a:endParaRPr>
          </a:p>
        </p:txBody>
      </p:sp>
      <p:sp>
        <p:nvSpPr>
          <p:cNvPr id="1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2443-6D02-4267-93AB-6B60EFFBE1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was implemented to determine the feasibility of integrating Family Planning and HIV services. The research team collected data from facilities on the numbers of women who “completed Prevention of Mother To Child Treatment or PMTC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of the study indicated extreme differences in the numbers of women completing services. These data were not consistent with other data in the country on PMTCT completion.  During the data interpretation phase of the study, the team discovered that the facility staff were not recording PMTCT data as recommended by the national Health Management Information Systems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cilities reported ‘completed PMTCT services’ as women who were counseled, tested and received their test result. Others defined the indicator as women who were counseled, tested, received their test result and the positive women and babies receive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precision and consistency in how ‘completed PMTCT service’ was defined is what accounted for the extreme variation in the findings and lack of agreement with other similar data sources. It is important to understand if the two indicators that you find to be discrepant, are actually measuring the same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erminology as a potential reason for data discrepancies.  I will also explain this point through an example:</a:t>
            </a:r>
            <a:endParaRPr b="0" lang="en-US" sz="1200" spc="-1" strike="noStrike">
              <a:solidFill>
                <a:srgbClr val="000000"/>
              </a:solidFill>
              <a:latin typeface="Arial"/>
            </a:endParaRPr>
          </a:p>
        </p:txBody>
      </p:sp>
      <p:sp>
        <p:nvSpPr>
          <p:cNvPr id="1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72B9-B519-43AC-9919-35DB3971E4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 2010 two studies were conducted on HIV among female commercial sex workers or FCSW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first was the 2010 Behavioral Surveillance Survey which consisted of a nationally representative sample of 1,338  Female Commercial Sex Workers or FCSWs.  One of the objectives of the study was to determine the prevalence of HIV among female sex workers. The study found the overall prevalence to be 51%.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next study was a study titled “High Burden of Prevalent and Recently Acquired HIV among Female Sex Workers and Female HIV Voluntary Testing Center Clients in Kigali, Rwanda” by Braunstein et al. This study was also conducted in 2010 and was a cross-sectional survey of 800 FCSWs.  One of the objectives of this study was to also estimate HIV prevalence.  It found an HIV prevalence of 24%.</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difference between 51% and 24% is significant.</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ENGAGE PARTICIPANTS: </a:t>
            </a:r>
            <a:r>
              <a:rPr b="0" lang="en-US" sz="1200" spc="-1" strike="noStrike">
                <a:solidFill>
                  <a:srgbClr val="000000"/>
                </a:solidFill>
                <a:latin typeface="Arial"/>
              </a:rPr>
              <a:t>Without considering anything else about either study can anyone tell me what may be causing thi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nswer – From the title we see that this study is looking at a.) prevalence, b.) incidence or those “recently acquiring HIV’, c.) non-gender specific sex workers, and d.) HIV positive females at Voluntary Counseling and Testing clinics.  That is a lot of different information, and potential for errors.  So it important to read the methods section of the study.  It is also good to know what prevalence i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revalence measures all of the individuals who have the disease that exist at a given moment.  Another term, incidence, measures only newly occurring cases.</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Upon further investigation into the methods section I discovered that indeed they measured only new infections among sex workers.  They screened out all positive women who had been infected for some time.  The wrong terminology is used here. The researchers should have reported the results as incidence. So, this is not really a discrepancy in the data, but at first look it appeared as one.</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se details are confusing. It is important to probe to understand what you are looking at. </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s we can see, there are many things that can cause – real or perceived - discrepancies in data.  The question now is – what can help you to interpret these types of data?</a:t>
            </a: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to facilitator – participants may suggest that the difference is due to different sampling methodologies between BSS and the Braunstein study. This is true but the primary issue with this study is that they excluded positive CSWs in the Brauenstein study therefore reducing the prevalence)</a:t>
            </a:r>
            <a:endParaRPr b="0" lang="en-US" sz="1200" spc="-1" strike="noStrike">
              <a:solidFill>
                <a:srgbClr val="000000"/>
              </a:solidFill>
              <a:latin typeface="Arial"/>
            </a:endParaRPr>
          </a:p>
        </p:txBody>
      </p:sp>
      <p:sp>
        <p:nvSpPr>
          <p:cNvPr id="1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E2B1-4283-422A-BA2B-5F362A9A9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discuss data quality.</a:t>
            </a:r>
            <a:endParaRPr b="0" lang="en-US" sz="1200" spc="-1" strike="noStrike">
              <a:solidFill>
                <a:srgbClr val="000000"/>
              </a:solidFill>
              <a:latin typeface="Arial"/>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557A-FF1A-4509-8BA2-C2C1EA74F1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EEA1465-FD97-4F62-8AAD-4AA3E89111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FB8C653-3BAD-4BD5-B40B-45A1E7B39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67B643-EF4C-4183-854D-993D57704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A4E5A2-5639-4FAB-B2E2-8DD801A50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EA0B311-4EEA-44D2-BF92-9287C3954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813928-A50A-499F-8AAA-D8169AF1EE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362769-2C8A-4D86-930B-CD21E7C0C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F820D4-95FA-4675-B05D-9A23728AA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C4017B-CEFC-4D2E-B8F5-60EC10BFE5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A7AEC8-7E14-43B0-8D62-552DF230B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701C90-93DE-4089-AD05-44DA76E4C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B1DD9F-8E7A-48CD-97C0-546D9A36E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3F2C-7D94-4355-804B-80D56178421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 name="Picture 5" descr="Vertical_RGB_600"/>
          <p:cNvPicPr/>
          <p:nvPr/>
        </p:nvPicPr>
        <p:blipFill>
          <a:blip r:embed="rId2"/>
          <a:stretch/>
        </p:blipFill>
        <p:spPr>
          <a:xfrm>
            <a:off x="4044960" y="5140440"/>
            <a:ext cx="1673280" cy="1371600"/>
          </a:xfrm>
          <a:prstGeom prst="rect">
            <a:avLst/>
          </a:prstGeom>
          <a:ln w="0">
            <a:noFill/>
          </a:ln>
        </p:spPr>
      </p:pic>
      <p:pic>
        <p:nvPicPr>
          <p:cNvPr id="79" name="Picture 6" descr="logo_2004"/>
          <p:cNvPicPr/>
          <p:nvPr/>
        </p:nvPicPr>
        <p:blipFill>
          <a:blip r:embed="rId3"/>
          <a:stretch/>
        </p:blipFill>
        <p:spPr>
          <a:xfrm>
            <a:off x="6284880" y="5140440"/>
            <a:ext cx="1447920" cy="1371600"/>
          </a:xfrm>
          <a:prstGeom prst="rect">
            <a:avLst/>
          </a:prstGeom>
          <a:ln w="0">
            <a:noFill/>
          </a:ln>
        </p:spPr>
      </p:pic>
      <p:pic>
        <p:nvPicPr>
          <p:cNvPr id="80" name="Picture 9" descr=""/>
          <p:cNvPicPr/>
          <p:nvPr/>
        </p:nvPicPr>
        <p:blipFill>
          <a:blip r:embed="rId4"/>
          <a:stretch/>
        </p:blipFill>
        <p:spPr>
          <a:xfrm>
            <a:off x="1306440" y="5140440"/>
            <a:ext cx="2046240" cy="1271520"/>
          </a:xfrm>
          <a:prstGeom prst="rect">
            <a:avLst/>
          </a:prstGeom>
          <a:ln w="0">
            <a:noFill/>
          </a:ln>
        </p:spPr>
      </p:pic>
      <p:sp>
        <p:nvSpPr>
          <p:cNvPr id="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858600"/>
            <a:ext cx="8056440" cy="218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ssion 4: Linking Data with Action</a:t>
            </a:r>
            <a:br>
              <a:rPr sz="3300"/>
            </a:br>
            <a:br>
              <a:rPr sz="3300"/>
            </a:br>
            <a:r>
              <a:rPr b="0" lang="en-US" sz="2400" spc="-1" strike="noStrike">
                <a:solidFill>
                  <a:srgbClr val="ffffff"/>
                </a:solidFill>
                <a:latin typeface="Arial"/>
              </a:rPr>
              <a:t>Part 2: Understanding Data Discrepan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457200" y="1523880"/>
          <a:ext cx="8305920" cy="4638960"/>
        </p:xfrm>
        <a:graphic>
          <a:graphicData uri="http://schemas.openxmlformats.org/drawingml/2006/table">
            <a:tbl>
              <a:tblPr/>
              <a:tblGrid>
                <a:gridCol w="1776240"/>
                <a:gridCol w="6529680"/>
              </a:tblGrid>
              <a:tr h="80496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Validity</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ea typeface="Times New Roman"/>
                        </a:rPr>
                        <a:t>Accuracy</a:t>
                      </a:r>
                      <a:r>
                        <a:rPr b="0" lang="en-US" sz="1800" spc="-1" strike="noStrike">
                          <a:solidFill>
                            <a:srgbClr val="0066ff"/>
                          </a:solidFill>
                          <a:latin typeface="Arial"/>
                          <a:ea typeface="Times New Roman"/>
                        </a:rPr>
                        <a:t>: Does the data reflect what it is intended to measure?</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eaeaea"/>
                    </a:solidFill>
                  </a:tcPr>
                </a:tc>
              </a:tr>
              <a:tr h="76824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Reliability</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ea typeface="Times New Roman"/>
                        </a:rPr>
                        <a:t>Consistency:</a:t>
                      </a:r>
                      <a:r>
                        <a:rPr b="0" lang="en-US" sz="1800" spc="-1" strike="noStrike">
                          <a:solidFill>
                            <a:srgbClr val="0066ff"/>
                          </a:solidFill>
                          <a:latin typeface="Arial"/>
                          <a:ea typeface="Times New Roman"/>
                        </a:rPr>
                        <a:t> Does the data measure a concept or characteristic consistently?</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eaeaea"/>
                    </a:solidFill>
                  </a:tcPr>
                </a:tc>
              </a:tr>
              <a:tr h="82080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Completeness</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ea typeface="Times New Roman"/>
                        </a:rPr>
                        <a:t>Complete: </a:t>
                      </a:r>
                      <a:r>
                        <a:rPr b="0" lang="en-US" sz="1800" spc="-1" strike="noStrike">
                          <a:solidFill>
                            <a:srgbClr val="0066ff"/>
                          </a:solidFill>
                          <a:latin typeface="Arial"/>
                          <a:ea typeface="Times New Roman"/>
                        </a:rPr>
                        <a:t>Is all the data collected and considered?</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eaeaea"/>
                    </a:solidFill>
                  </a:tcPr>
                </a:tc>
              </a:tr>
              <a:tr h="70020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Precision</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ea typeface="Times New Roman"/>
                        </a:rPr>
                        <a:t>Precise</a:t>
                      </a:r>
                      <a:r>
                        <a:rPr b="0" lang="en-US" sz="1800" spc="-1" strike="noStrike">
                          <a:solidFill>
                            <a:srgbClr val="0066ff"/>
                          </a:solidFill>
                          <a:latin typeface="Arial"/>
                          <a:ea typeface="Times New Roman"/>
                        </a:rPr>
                        <a:t>: Is the data described in sufficient detail?</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eaeaea"/>
                    </a:solidFill>
                  </a:tcPr>
                </a:tc>
              </a:tr>
              <a:tr h="72720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Timeliness</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ea typeface="Times New Roman"/>
                        </a:rPr>
                        <a:t>Current</a:t>
                      </a:r>
                      <a:r>
                        <a:rPr b="0" lang="en-US" sz="1800" spc="-1" strike="noStrike">
                          <a:solidFill>
                            <a:srgbClr val="0066ff"/>
                          </a:solidFill>
                          <a:latin typeface="Arial"/>
                          <a:ea typeface="Times New Roman"/>
                        </a:rPr>
                        <a:t>: Is the data current?  Does it reflect actual program activities?</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eaeaea"/>
                    </a:solidFill>
                  </a:tcPr>
                </a:tc>
              </a:tr>
              <a:tr h="817560">
                <a:tc>
                  <a:txBody>
                    <a:bodyPr lIns="90000" rIns="90000" tIns="46800" bIns="4680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Times New Roman"/>
                        </a:rPr>
                        <a:t>Integrity</a:t>
                      </a:r>
                      <a:endParaRPr b="0" lang="en-US" sz="18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eaeaea"/>
                    </a:solidFill>
                  </a:tcPr>
                </a:tc>
                <a:tc>
                  <a:txBody>
                    <a:bodyPr lIns="90000" rIns="90000" tIns="46800" bIns="46800" anchor="t">
                      <a:noAutofit/>
                    </a:bodyPr>
                    <a:p>
                      <a:pP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Data are protected from deliberate bias or manipulation for political or personal reasons.</a:t>
                      </a:r>
                      <a:endParaRPr b="0" lang="en-US" sz="1800" spc="-1" strike="noStrike">
                        <a:solidFill>
                          <a:srgbClr val="ffffff"/>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solidFill>
                      <a:srgbClr val="eaeaea"/>
                    </a:solidFill>
                  </a:tcPr>
                </a:tc>
              </a:tr>
            </a:tbl>
          </a:graphicData>
        </a:graphic>
      </p:graphicFrame>
      <p:sp>
        <p:nvSpPr>
          <p:cNvPr id="147" name="PlaceHolder 1"/>
          <p:cNvSpPr>
            <a:spLocks noGrp="1"/>
          </p:cNvSpPr>
          <p:nvPr>
            <p:ph type="title"/>
          </p:nvPr>
        </p:nvSpPr>
        <p:spPr>
          <a:xfrm>
            <a:off x="457200" y="412920"/>
            <a:ext cx="8229600" cy="7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mensions of Data Quality</a:t>
            </a:r>
            <a:endParaRPr b="1" lang="en-US" sz="3600" spc="-1" strike="noStrike">
              <a:solidFill>
                <a:srgbClr val="ffffff"/>
              </a:solidFill>
              <a:latin typeface="Arial"/>
            </a:endParaRPr>
          </a:p>
        </p:txBody>
      </p:sp>
      <p:sp>
        <p:nvSpPr>
          <p:cNvPr id="148" name="Text Box 27"/>
          <p:cNvSpPr/>
          <p:nvPr/>
        </p:nvSpPr>
        <p:spPr>
          <a:xfrm>
            <a:off x="7620120" y="6400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5 of 1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Outcome Errors</a:t>
            </a:r>
            <a:endParaRPr b="1" lang="en-US" sz="3600" spc="-1" strike="noStrike">
              <a:solidFill>
                <a:srgbClr val="ffffff"/>
              </a:solidFill>
              <a:latin typeface="Arial"/>
            </a:endParaRPr>
          </a:p>
        </p:txBody>
      </p:sp>
      <p:sp>
        <p:nvSpPr>
          <p:cNvPr id="15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False Positive”: program had an effect when it did not (linked to significance level or p-valu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False Negative”: failing to detect a true program effect (linked to significance level or p-valu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Implementation Error”: No program effect due to lack of or inappropriate implement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an help you interpret data discrepancies?</a:t>
            </a:r>
            <a:endParaRPr b="1" lang="en-US" sz="3600" spc="-1" strike="noStrike">
              <a:solidFill>
                <a:srgbClr val="ffffff"/>
              </a:solidFill>
              <a:latin typeface="Arial"/>
            </a:endParaRPr>
          </a:p>
        </p:txBody>
      </p:sp>
      <p:sp>
        <p:nvSpPr>
          <p:cNvPr id="152" name=""/>
          <p:cNvSpPr txBox="1"/>
          <p:nvPr/>
        </p:nvSpPr>
        <p:spPr>
          <a:xfrm>
            <a:off x="923760" y="1599840"/>
            <a:ext cx="7763040" cy="3962520"/>
          </a:xfrm>
          <a:prstGeom prst="rect">
            <a:avLst/>
          </a:prstGeom>
          <a:noFill/>
          <a:ln w="0">
            <a:noFill/>
          </a:ln>
        </p:spPr>
        <p:txBody>
          <a:bodyPr anchor="t">
            <a:normAutofit fontScale="98000"/>
          </a:bodyPr>
          <a:p>
            <a:pPr marL="335880" indent="-3358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Probe, question, investigate</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Confidence Intervals</a:t>
            </a:r>
            <a:endParaRPr b="0" lang="en-US" sz="2600" spc="-1" strike="noStrike">
              <a:solidFill>
                <a:srgbClr val="ffffff"/>
              </a:solidFill>
              <a:latin typeface="Arial"/>
            </a:endParaRPr>
          </a:p>
          <a:p>
            <a:pPr lvl="1" marL="727920" indent="-280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uncertainty of an estimate, example –</a:t>
            </a:r>
            <a:endParaRPr b="0" lang="en-US" sz="2400" spc="-1" strike="noStrike">
              <a:solidFill>
                <a:srgbClr val="ffffff"/>
              </a:solidFill>
              <a:latin typeface="Arial"/>
            </a:endParaRPr>
          </a:p>
          <a:p>
            <a:pPr lvl="1" marL="727920" indent="-280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1%, 5%), 95%  confidence intervals</a:t>
            </a:r>
            <a:endParaRPr b="0" lang="en-US" sz="2400" spc="-1" strike="noStrike">
              <a:solidFill>
                <a:srgbClr val="ffffff"/>
              </a:solidFill>
              <a:latin typeface="Arial"/>
            </a:endParaRPr>
          </a:p>
          <a:p>
            <a:pPr lvl="1" marL="727920" indent="-280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3% (±2%), p ≥ .05</a:t>
            </a:r>
            <a:endParaRPr b="0" lang="en-US" sz="2400" spc="-1" strike="noStrike">
              <a:solidFill>
                <a:srgbClr val="ffffff"/>
              </a:solidFill>
              <a:latin typeface="Arial"/>
            </a:endParaRPr>
          </a:p>
          <a:p>
            <a:pPr marL="335880" indent="-3358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Compare to other data sources</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sk an expert</a:t>
            </a:r>
            <a:endParaRPr b="0" lang="en-US" sz="2600" spc="-1" strike="noStrike">
              <a:solidFill>
                <a:srgbClr val="ffffff"/>
              </a:solidFill>
              <a:latin typeface="Arial"/>
            </a:endParaRPr>
          </a:p>
        </p:txBody>
      </p:sp>
      <p:pic>
        <p:nvPicPr>
          <p:cNvPr id="153" name="Picture 2" descr="C:\Users\TNutley\AppData\Local\Microsoft\Windows\Temporary Internet Files\Content.IE5\8NO8I3KE\MC900053613[1].wmf"/>
          <p:cNvPicPr/>
          <p:nvPr/>
        </p:nvPicPr>
        <p:blipFill>
          <a:blip r:embed="rId1"/>
          <a:stretch/>
        </p:blipFill>
        <p:spPr>
          <a:xfrm>
            <a:off x="6570720" y="3527280"/>
            <a:ext cx="2006640" cy="22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ce intervals</a:t>
            </a:r>
            <a:endParaRPr b="1" lang="en-US" sz="3600" spc="-1" strike="noStrike">
              <a:solidFill>
                <a:srgbClr val="ffffff"/>
              </a:solidFill>
              <a:latin typeface="Arial"/>
            </a:endParaRPr>
          </a:p>
        </p:txBody>
      </p:sp>
      <p:graphicFrame>
        <p:nvGraphicFramePr>
          <p:cNvPr id="155" name=""/>
          <p:cNvGraphicFramePr/>
          <p:nvPr/>
        </p:nvGraphicFramePr>
        <p:xfrm>
          <a:off x="923760" y="1600200"/>
          <a:ext cx="7763040" cy="1112760"/>
        </p:xfrm>
        <a:graphic>
          <a:graphicData uri="http://schemas.openxmlformats.org/drawingml/2006/table">
            <a:tbl>
              <a:tblPr/>
              <a:tblGrid>
                <a:gridCol w="2587680"/>
                <a:gridCol w="2195640"/>
                <a:gridCol w="2979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 Confidence interv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tudy 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9-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tudy 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9-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ce intervals</a:t>
            </a:r>
            <a:endParaRPr b="1" lang="en-US" sz="3600" spc="-1" strike="noStrike">
              <a:solidFill>
                <a:srgbClr val="ffffff"/>
              </a:solidFill>
              <a:latin typeface="Arial"/>
            </a:endParaRPr>
          </a:p>
        </p:txBody>
      </p:sp>
      <p:graphicFrame>
        <p:nvGraphicFramePr>
          <p:cNvPr id="157" name=""/>
          <p:cNvGraphicFramePr/>
          <p:nvPr/>
        </p:nvGraphicFramePr>
        <p:xfrm>
          <a:off x="923760" y="1600200"/>
          <a:ext cx="7763040" cy="1112760"/>
        </p:xfrm>
        <a:graphic>
          <a:graphicData uri="http://schemas.openxmlformats.org/drawingml/2006/table">
            <a:tbl>
              <a:tblPr/>
              <a:tblGrid>
                <a:gridCol w="2587680"/>
                <a:gridCol w="2195640"/>
                <a:gridCol w="2979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 Confidence interv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tudy 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8-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tudy 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7-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an help you interpret data discrepancies?</a:t>
            </a:r>
            <a:endParaRPr b="1" lang="en-US" sz="3600" spc="-1" strike="noStrike">
              <a:solidFill>
                <a:srgbClr val="ffffff"/>
              </a:solidFill>
              <a:latin typeface="Arial"/>
            </a:endParaRPr>
          </a:p>
        </p:txBody>
      </p:sp>
      <p:sp>
        <p:nvSpPr>
          <p:cNvPr id="15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a6a6"/>
                </a:solidFill>
                <a:latin typeface="Arial"/>
              </a:rPr>
              <a:t>Probe, question, investigat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a6a6"/>
                </a:solidFill>
                <a:latin typeface="Arial"/>
              </a:rPr>
              <a:t>Confidence Interva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ison to other data 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k an exper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60" name="Picture 2" descr="C:\Users\TNutley\AppData\Local\Microsoft\Windows\Temporary Internet Files\Content.IE5\8NO8I3KE\MC900053613[1].wmf"/>
          <p:cNvPicPr/>
          <p:nvPr/>
        </p:nvPicPr>
        <p:blipFill>
          <a:blip r:embed="rId1"/>
          <a:stretch/>
        </p:blipFill>
        <p:spPr>
          <a:xfrm>
            <a:off x="6411960" y="3309840"/>
            <a:ext cx="2006640" cy="22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Exercise: Data Discrepancies</a:t>
            </a:r>
            <a:endParaRPr b="1" lang="en-US" sz="3600" spc="-1" strike="noStrike">
              <a:solidFill>
                <a:srgbClr val="ffffff"/>
              </a:solidFill>
              <a:latin typeface="Arial"/>
            </a:endParaRPr>
          </a:p>
        </p:txBody>
      </p:sp>
      <p:sp>
        <p:nvSpPr>
          <p:cNvPr id="16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05 Demographic Health Survey (DH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05 Priorities for Local AIDS Control Efforts (PLACE) assess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Exercise: Data Discrepancies</a:t>
            </a:r>
            <a:endParaRPr b="1" lang="en-US" sz="3600" spc="-1" strike="noStrike">
              <a:solidFill>
                <a:srgbClr val="ffffff"/>
              </a:solidFill>
              <a:latin typeface="Arial"/>
            </a:endParaRPr>
          </a:p>
        </p:txBody>
      </p:sp>
      <p:sp>
        <p:nvSpPr>
          <p:cNvPr id="164" name=""/>
          <p:cNvSpPr txBox="1"/>
          <p:nvPr/>
        </p:nvSpPr>
        <p:spPr>
          <a:xfrm>
            <a:off x="923760" y="1599840"/>
            <a:ext cx="7763040" cy="396252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in the study?</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y located?</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ere they selected?</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each study group compare to the greater population?</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the 2 studies different?</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use of each type of data for program planners?  For policy mak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Exercise: Data Discrepancies</a:t>
            </a:r>
            <a:endParaRPr b="1" lang="en-US" sz="3600" spc="-1" strike="noStrike">
              <a:solidFill>
                <a:srgbClr val="ffffff"/>
              </a:solidFill>
              <a:latin typeface="Arial"/>
            </a:endParaRPr>
          </a:p>
        </p:txBody>
      </p:sp>
      <p:sp>
        <p:nvSpPr>
          <p:cNvPr id="166" name=""/>
          <p:cNvSpPr txBox="1"/>
          <p:nvPr/>
        </p:nvSpPr>
        <p:spPr>
          <a:xfrm>
            <a:off x="923760" y="1599840"/>
            <a:ext cx="7763040" cy="3962520"/>
          </a:xfrm>
          <a:prstGeom prst="rect">
            <a:avLst/>
          </a:prstGeom>
          <a:noFill/>
          <a:ln w="0">
            <a:noFill/>
          </a:ln>
        </p:spPr>
        <p:txBody>
          <a:bodyPr anchor="t">
            <a:normAutofit fontScale="90000"/>
          </a:bodyPr>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is in the study?</a:t>
            </a:r>
            <a:endParaRPr b="0" lang="en-US" sz="2800" spc="-1" strike="noStrike">
              <a:solidFill>
                <a:srgbClr val="ffffff"/>
              </a:solidFill>
              <a:latin typeface="Arial"/>
            </a:endParaRPr>
          </a:p>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re they located?</a:t>
            </a:r>
            <a:endParaRPr b="0" lang="en-US" sz="2800" spc="-1" strike="noStrike">
              <a:solidFill>
                <a:srgbClr val="ffffff"/>
              </a:solidFill>
              <a:latin typeface="Arial"/>
            </a:endParaRPr>
          </a:p>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ere they selected?</a:t>
            </a:r>
            <a:endParaRPr b="0" lang="en-US" sz="2800" spc="-1" strike="noStrike">
              <a:solidFill>
                <a:srgbClr val="ffffff"/>
              </a:solidFill>
              <a:latin typeface="Arial"/>
            </a:endParaRPr>
          </a:p>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each study group compare to the greater population?</a:t>
            </a:r>
            <a:endParaRPr b="0" lang="en-US" sz="2800" spc="-1" strike="noStrike">
              <a:solidFill>
                <a:srgbClr val="ffffff"/>
              </a:solidFill>
              <a:latin typeface="Arial"/>
            </a:endParaRPr>
          </a:p>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the data in the 2 studies different?</a:t>
            </a:r>
            <a:endParaRPr b="0" lang="en-US" sz="2800" spc="-1" strike="noStrike">
              <a:solidFill>
                <a:srgbClr val="ffffff"/>
              </a:solidFill>
              <a:latin typeface="Arial"/>
            </a:endParaRPr>
          </a:p>
          <a:p>
            <a:pPr marL="308520" indent="-30852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use of each type of data for program planners?  For policy ma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582480" y="666720"/>
            <a:ext cx="787572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ata discrepancies?</a:t>
            </a:r>
            <a:endParaRPr b="1" lang="en-US" sz="3600" spc="-1" strike="noStrike">
              <a:solidFill>
                <a:srgbClr val="ffffff"/>
              </a:solidFill>
              <a:latin typeface="Arial"/>
            </a:endParaRPr>
          </a:p>
        </p:txBody>
      </p:sp>
      <p:sp>
        <p:nvSpPr>
          <p:cNvPr id="128" name=""/>
          <p:cNvSpPr txBox="1"/>
          <p:nvPr/>
        </p:nvSpPr>
        <p:spPr>
          <a:xfrm>
            <a:off x="923760" y="1599840"/>
            <a:ext cx="7763040" cy="3962520"/>
          </a:xfrm>
          <a:prstGeom prst="rect">
            <a:avLst/>
          </a:prstGeom>
          <a:noFill/>
          <a:ln w="0">
            <a:noFill/>
          </a:ln>
        </p:spPr>
        <p:txBody>
          <a:bodyPr anchor="t">
            <a:normAutofit fontScale="90000"/>
          </a:bodyPr>
          <a:p>
            <a:pPr marL="308520" indent="-3085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data sources with different estimates for the same indicators</a:t>
            </a:r>
            <a:endParaRPr b="0" lang="en-US" sz="2600" spc="-1" strike="noStrike">
              <a:solidFill>
                <a:srgbClr val="ffffff"/>
              </a:solidFill>
              <a:latin typeface="Arial"/>
            </a:endParaRPr>
          </a:p>
          <a:p>
            <a:pPr marL="308520" indent="-3085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HIV prevalence among men and women of reproductive age, 2007</a:t>
            </a:r>
            <a:endParaRPr b="0" lang="en-US" sz="2600" spc="-1" strike="noStrike">
              <a:solidFill>
                <a:srgbClr val="ffffff"/>
              </a:solidFill>
              <a:latin typeface="Arial"/>
            </a:endParaRPr>
          </a:p>
          <a:p>
            <a:pPr lvl="1" marL="668520" indent="-2570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HS, 4.1%</a:t>
            </a:r>
            <a:endParaRPr b="0" lang="en-US" sz="2400" spc="-1" strike="noStrike">
              <a:solidFill>
                <a:srgbClr val="ffffff"/>
              </a:solidFill>
              <a:latin typeface="Arial"/>
            </a:endParaRPr>
          </a:p>
          <a:p>
            <a:pPr lvl="1" marL="668520" indent="-2570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inel surveillance, 6.4%</a:t>
            </a:r>
            <a:endParaRPr b="0" lang="en-US" sz="2400" spc="-1" strike="noStrike">
              <a:solidFill>
                <a:srgbClr val="ffffff"/>
              </a:solidFill>
              <a:latin typeface="Arial"/>
            </a:endParaRPr>
          </a:p>
          <a:p>
            <a:pPr lvl="1" marL="668520" indent="-2570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8520" indent="-25704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i="1" lang="en-US" sz="2200" spc="-1" strike="noStrike">
                <a:solidFill>
                  <a:srgbClr val="ffff00"/>
                </a:solidFill>
                <a:latin typeface="Arial"/>
              </a:rPr>
              <a:t>Does the difference matter? </a:t>
            </a:r>
            <a:endParaRPr b="0" lang="en-US" sz="2200" spc="-1" strike="noStrike">
              <a:solidFill>
                <a:srgbClr val="ffffff"/>
              </a:solidFill>
              <a:latin typeface="Arial"/>
            </a:endParaRPr>
          </a:p>
          <a:p>
            <a:pPr lvl="1" marL="668520" indent="-25704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Arial"/>
              </a:rPr>
              <a:t>	</a:t>
            </a:r>
            <a:r>
              <a:rPr b="0" i="1" lang="en-US" sz="2200" spc="-1" strike="noStrike">
                <a:solidFill>
                  <a:srgbClr val="ffff00"/>
                </a:solidFill>
                <a:latin typeface="Arial"/>
              </a:rPr>
              <a:t>	</a:t>
            </a:r>
            <a:r>
              <a:rPr b="0" i="1" lang="en-US" sz="2200" spc="-1" strike="noStrike">
                <a:solidFill>
                  <a:srgbClr val="ffff00"/>
                </a:solidFill>
                <a:latin typeface="Arial"/>
              </a:rPr>
              <a:t>	</a:t>
            </a:r>
            <a:r>
              <a:rPr b="0" i="1" lang="en-US" sz="2200" spc="-1" strike="noStrike">
                <a:solidFill>
                  <a:srgbClr val="ffff00"/>
                </a:solidFill>
                <a:latin typeface="Arial"/>
              </a:rPr>
              <a:t>Which estimate should I use?</a:t>
            </a:r>
            <a:endParaRPr b="0" lang="en-US" sz="2200" spc="-1" strike="noStrike">
              <a:solidFill>
                <a:srgbClr val="ffffff"/>
              </a:solidFill>
              <a:latin typeface="Arial"/>
            </a:endParaRPr>
          </a:p>
          <a:p>
            <a:pPr lvl="1" marL="668520" indent="-2570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8520" indent="-2570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29" name="Picture 2" descr="C:\Users\TNutley\AppData\Local\Microsoft\Windows\Temporary Internet Files\Content.IE5\HF3AMHJE\MC900240351[1].wmf"/>
          <p:cNvPicPr/>
          <p:nvPr/>
        </p:nvPicPr>
        <p:blipFill>
          <a:blip r:embed="rId1"/>
          <a:stretch/>
        </p:blipFill>
        <p:spPr>
          <a:xfrm>
            <a:off x="1417680" y="4834080"/>
            <a:ext cx="2158920" cy="1707840"/>
          </a:xfrm>
          <a:prstGeom prst="rect">
            <a:avLst/>
          </a:prstGeom>
          <a:ln w="0">
            <a:noFill/>
          </a:ln>
        </p:spPr>
      </p:pic>
      <p:sp>
        <p:nvSpPr>
          <p:cNvPr id="130" name="TextBox 3"/>
          <p:cNvSpPr/>
          <p:nvPr/>
        </p:nvSpPr>
        <p:spPr>
          <a:xfrm>
            <a:off x="2184480" y="4384800"/>
            <a:ext cx="62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ontributes to data discrepancies?</a:t>
            </a:r>
            <a:endParaRPr b="1" lang="en-US" sz="3600" spc="-1" strike="noStrike">
              <a:solidFill>
                <a:srgbClr val="ffffff"/>
              </a:solidFill>
              <a:latin typeface="Arial"/>
            </a:endParaRPr>
          </a:p>
        </p:txBody>
      </p:sp>
      <p:sp>
        <p:nvSpPr>
          <p:cNvPr id="132"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Population</a:t>
            </a:r>
            <a:r>
              <a:rPr b="0" lang="en-US" sz="2600" spc="-1" strike="noStrike">
                <a:solidFill>
                  <a:srgbClr val="ffffff"/>
                </a:solidFill>
                <a:latin typeface="Arial"/>
              </a:rPr>
              <a:t> – understand study population</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is in the study?</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re are they located?</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ere they selected?</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 they compare with the greater population?</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are study samples selected?</a:t>
            </a:r>
            <a:endParaRPr b="1" lang="en-US" sz="3600" spc="-1" strike="noStrike">
              <a:solidFill>
                <a:srgbClr val="ffffff"/>
              </a:solidFill>
              <a:latin typeface="Arial"/>
            </a:endParaRPr>
          </a:p>
        </p:txBody>
      </p:sp>
      <p:sp>
        <p:nvSpPr>
          <p:cNvPr id="134"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Probability Sampling - each individual has an equal chance of being chosen because they are </a:t>
            </a:r>
            <a:r>
              <a:rPr b="0" i="1" lang="en-US" sz="2600" spc="-1" strike="noStrike">
                <a:solidFill>
                  <a:srgbClr val="ffffff"/>
                </a:solidFill>
                <a:latin typeface="Arial"/>
              </a:rPr>
              <a:t>randomly selected.</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Non-probability Sampling – chance of selecting any individual is not known because they are NOT </a:t>
            </a:r>
            <a:r>
              <a:rPr b="0" i="1" lang="en-US" sz="2600" spc="-1" strike="noStrike">
                <a:solidFill>
                  <a:srgbClr val="ffffff"/>
                </a:solidFill>
                <a:latin typeface="Arial"/>
              </a:rPr>
              <a:t>randomly select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y Populations – </a:t>
            </a:r>
            <a:br>
              <a:rPr sz="2800"/>
            </a:br>
            <a:r>
              <a:rPr b="1" lang="en-US" sz="2800" spc="-1" strike="noStrike">
                <a:solidFill>
                  <a:srgbClr val="ffffff"/>
                </a:solidFill>
                <a:latin typeface="Arial"/>
              </a:rPr>
              <a:t>RDHS: 4.1% HIV prevalence</a:t>
            </a:r>
            <a:br>
              <a:rPr sz="2800"/>
            </a:br>
            <a:r>
              <a:rPr b="1" lang="en-US" sz="2800" spc="-1" strike="noStrike">
                <a:solidFill>
                  <a:srgbClr val="ffffff"/>
                </a:solidFill>
                <a:latin typeface="Arial"/>
              </a:rPr>
              <a:t>ANC Surveillance: 6.4% HIV prevalence</a:t>
            </a:r>
            <a:endParaRPr b="1" lang="en-US" sz="2800" spc="-1" strike="noStrike">
              <a:solidFill>
                <a:srgbClr val="ffffff"/>
              </a:solidFill>
              <a:latin typeface="Arial"/>
            </a:endParaRPr>
          </a:p>
        </p:txBody>
      </p:sp>
      <p:graphicFrame>
        <p:nvGraphicFramePr>
          <p:cNvPr id="136" name=""/>
          <p:cNvGraphicFramePr/>
          <p:nvPr/>
        </p:nvGraphicFramePr>
        <p:xfrm>
          <a:off x="785880" y="1878120"/>
          <a:ext cx="7762680" cy="4022640"/>
        </p:xfrm>
        <a:graphic>
          <a:graphicData uri="http://schemas.openxmlformats.org/drawingml/2006/table">
            <a:tbl>
              <a:tblPr/>
              <a:tblGrid>
                <a:gridCol w="2587680"/>
                <a:gridCol w="2587680"/>
                <a:gridCol w="258732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s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HS 200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enatal Surveillance 200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o is in the stu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641 Men &amp; women of repro 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321 Pregnant women attending AN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How do they comp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t all are sexually active, variable contraceptive 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ll are sexually active, none using contrace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How were they sel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Random samp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ll women attending AN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ere are they loca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ationally representative household samp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0/359 health centers – 2 capital, 12 other urban, 16 rur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ontributes to data discrepancies?</a:t>
            </a:r>
            <a:endParaRPr b="1" lang="en-US" sz="3600" spc="-1" strike="noStrike">
              <a:solidFill>
                <a:srgbClr val="ffffff"/>
              </a:solidFill>
              <a:latin typeface="Arial"/>
            </a:endParaRPr>
          </a:p>
        </p:txBody>
      </p:sp>
      <p:sp>
        <p:nvSpPr>
          <p:cNvPr id="1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Error</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efinition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ology</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09360" y="60768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Studies – Same indicator:</a:t>
            </a:r>
            <a:br>
              <a:rPr sz="3200"/>
            </a:br>
            <a:r>
              <a:rPr b="1" lang="en-US" sz="3200" spc="-1" strike="noStrike">
                <a:solidFill>
                  <a:srgbClr val="ffffff"/>
                </a:solidFill>
                <a:latin typeface="Arial"/>
              </a:rPr>
              <a:t>No. of women who complete PMTCT services</a:t>
            </a:r>
            <a:endParaRPr b="1" lang="en-US" sz="3200" spc="-1" strike="noStrike">
              <a:solidFill>
                <a:srgbClr val="ffffff"/>
              </a:solidFill>
              <a:latin typeface="Arial"/>
            </a:endParaRPr>
          </a:p>
        </p:txBody>
      </p:sp>
      <p:sp>
        <p:nvSpPr>
          <p:cNvPr id="140" name=""/>
          <p:cNvSpPr txBox="1"/>
          <p:nvPr/>
        </p:nvSpPr>
        <p:spPr>
          <a:xfrm>
            <a:off x="923400" y="2122560"/>
            <a:ext cx="3805560" cy="3962160"/>
          </a:xfrm>
          <a:prstGeom prst="rect">
            <a:avLst/>
          </a:prstGeom>
          <a:noFill/>
          <a:ln w="0">
            <a:noFill/>
          </a:ln>
        </p:spPr>
        <p:txBody>
          <a:bodyPr anchor="t">
            <a:norm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A: 95% </a:t>
            </a:r>
            <a:endParaRPr b="0" lang="en-US" sz="2800" spc="-1" strike="noStrike">
              <a:solidFill>
                <a:srgbClr val="ffffff"/>
              </a:solidFill>
              <a:latin typeface="Arial"/>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a:</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ed</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ed</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d test result</a:t>
            </a:r>
            <a:endParaRPr b="0" lang="en-US" sz="2800" spc="-1" strike="noStrike">
              <a:solidFill>
                <a:srgbClr val="ffffff"/>
              </a:solidFill>
              <a:latin typeface="Arial"/>
            </a:endParaRPr>
          </a:p>
        </p:txBody>
      </p:sp>
      <p:sp>
        <p:nvSpPr>
          <p:cNvPr id="141" name=""/>
          <p:cNvSpPr txBox="1"/>
          <p:nvPr/>
        </p:nvSpPr>
        <p:spPr>
          <a:xfrm>
            <a:off x="4867200" y="2122560"/>
            <a:ext cx="3805200" cy="3962160"/>
          </a:xfrm>
          <a:prstGeom prst="rect">
            <a:avLst/>
          </a:prstGeom>
          <a:noFill/>
          <a:ln w="0">
            <a:noFill/>
          </a:ln>
        </p:spPr>
        <p:txBody>
          <a:bodyPr anchor="t">
            <a:norm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B: 75%</a:t>
            </a:r>
            <a:endParaRPr b="0" lang="en-US" sz="2800" spc="-1" strike="noStrike">
              <a:solidFill>
                <a:srgbClr val="ffffff"/>
              </a:solidFill>
              <a:latin typeface="Arial"/>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a:</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ed</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ed</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d test result</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women &amp; babies tre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66520" y="2743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ontributes to data discrepancies?</a:t>
            </a:r>
            <a:endParaRPr b="1" lang="en-US" sz="3600" spc="-1" strike="noStrike">
              <a:solidFill>
                <a:srgbClr val="ffffff"/>
              </a:solidFill>
              <a:latin typeface="Arial"/>
            </a:endParaRPr>
          </a:p>
        </p:txBody>
      </p:sp>
      <p:sp>
        <p:nvSpPr>
          <p:cNvPr id="143" name=""/>
          <p:cNvSpPr txBox="1"/>
          <p:nvPr/>
        </p:nvSpPr>
        <p:spPr>
          <a:xfrm>
            <a:off x="923760" y="1599840"/>
            <a:ext cx="7763040" cy="3962520"/>
          </a:xfrm>
          <a:prstGeom prst="rect">
            <a:avLst/>
          </a:prstGeom>
          <a:noFill/>
          <a:ln w="0">
            <a:noFill/>
          </a:ln>
        </p:spPr>
        <p:txBody>
          <a:bodyPr anchor="t">
            <a:normAutofit fontScale="91000"/>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erminology</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10 Behavioral Surveillance Survey: 51% HIV prevalence</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 = 1,338 FCSW)</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High Burden of Prevalent &amp; Recently Acquired HIV among Sex Workers &amp; Female HIV VCT clients in Kigali, Rwanda’ by Braunstein, et al.: 24% HIV prevalence</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 = 800 FCSW)</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15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158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ontributes to data discrepancies?</a:t>
            </a:r>
            <a:endParaRPr b="1" lang="en-US" sz="3600" spc="-1" strike="noStrike">
              <a:solidFill>
                <a:srgbClr val="ffffff"/>
              </a:solidFill>
              <a:latin typeface="Arial"/>
            </a:endParaRPr>
          </a:p>
        </p:txBody>
      </p:sp>
      <p:sp>
        <p:nvSpPr>
          <p:cNvPr id="14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a3a3"/>
                </a:solidFill>
                <a:latin typeface="Arial"/>
              </a:rPr>
              <a:t>Bia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a3"/>
                </a:solidFill>
                <a:latin typeface="Arial"/>
              </a:rPr>
              <a:t>Random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a3"/>
                </a:solidFill>
                <a:latin typeface="Arial"/>
              </a:rPr>
              <a:t>Systemati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a3a3"/>
                </a:solidFill>
                <a:latin typeface="Arial"/>
              </a:rPr>
              <a:t>Definition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a3"/>
                </a:solidFill>
                <a:latin typeface="Arial"/>
              </a:rPr>
              <a:t>Indicato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a3"/>
                </a:solidFill>
                <a:latin typeface="Arial"/>
              </a:rPr>
              <a:t>Terminology</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Samhita</cp:lastModifiedBy>
  <cp:lastPrinted>2011-12-21T18:46:09Z</cp:lastPrinted>
  <dcterms:modified xsi:type="dcterms:W3CDTF">2013-05-09T19:02:30Z</dcterms:modified>
  <cp:revision>470</cp:revision>
  <dc:subject/>
  <dc:title>Slide 1</dc:title>
</cp:coreProperties>
</file>