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80"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81" name="PlaceHolder 2"/>
          <p:cNvSpPr>
            <a:spLocks noGrp="1"/>
          </p:cNvSpPr>
          <p:nvPr>
            <p:ph type="dt" idx="49"/>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82"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383"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4" name="PlaceHolder 5"/>
          <p:cNvSpPr>
            <a:spLocks noGrp="1"/>
          </p:cNvSpPr>
          <p:nvPr>
            <p:ph type="ftr" idx="50"/>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5" name="PlaceHolder 6"/>
          <p:cNvSpPr>
            <a:spLocks noGrp="1"/>
          </p:cNvSpPr>
          <p:nvPr>
            <p:ph type="sldNum" idx="51"/>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2AB1-E7EB-42A8-A9B7-9F1E6068D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4C62-C870-454F-8F36-29E7772596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3" name="PlaceHolder 1"/>
          <p:cNvSpPr>
            <a:spLocks noGrp="1"/>
          </p:cNvSpPr>
          <p:nvPr>
            <p:ph type="sldImg"/>
          </p:nvPr>
        </p:nvSpPr>
        <p:spPr>
          <a:xfrm>
            <a:off x="1181160" y="698400"/>
            <a:ext cx="4648320" cy="3486240"/>
          </a:xfrm>
          <a:prstGeom prst="rect">
            <a:avLst/>
          </a:prstGeom>
          <a:ln w="0">
            <a:noFill/>
          </a:ln>
        </p:spPr>
      </p:sp>
      <p:sp>
        <p:nvSpPr>
          <p:cNvPr id="141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are going to discuss the importance of using data to inform decision making and why leadership is important to facilitate this improvement.  We will also review key leadership and data demand and use definitions to create a common understanding of course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81160" y="698400"/>
            <a:ext cx="4648320" cy="3486240"/>
          </a:xfrm>
          <a:prstGeom prst="rect">
            <a:avLst/>
          </a:prstGeom>
          <a:ln w="0">
            <a:noFill/>
          </a:ln>
        </p:spPr>
      </p:sp>
      <p:sp>
        <p:nvSpPr>
          <p:cNvPr id="144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is a set of </a:t>
            </a:r>
            <a:r>
              <a:rPr b="0" lang="en-US" sz="1200" spc="-1" strike="noStrike" u="sng">
                <a:solidFill>
                  <a:srgbClr val="000000"/>
                </a:solidFill>
                <a:uFillTx/>
                <a:latin typeface="Arial"/>
              </a:rPr>
              <a:t>learned behaviors </a:t>
            </a:r>
            <a:r>
              <a:rPr b="0" lang="en-US" sz="1200" spc="-1" strike="noStrike">
                <a:solidFill>
                  <a:srgbClr val="000000"/>
                </a:solidFill>
                <a:latin typeface="Arial"/>
              </a:rPr>
              <a:t>that allows a person </a:t>
            </a:r>
            <a:r>
              <a:rPr b="0" lang="en-US" sz="1200" spc="-1" strike="noStrike" u="sng">
                <a:solidFill>
                  <a:srgbClr val="000000"/>
                </a:solidFill>
                <a:uFillTx/>
                <a:latin typeface="Arial"/>
              </a:rPr>
              <a:t>at any level </a:t>
            </a:r>
            <a:r>
              <a:rPr b="0" lang="en-US" sz="1200" spc="-1" strike="noStrike">
                <a:solidFill>
                  <a:srgbClr val="000000"/>
                </a:solidFill>
                <a:latin typeface="Arial"/>
              </a:rPr>
              <a:t>in an organization to contribute to </a:t>
            </a:r>
            <a:r>
              <a:rPr b="0" lang="en-US" sz="1200" spc="-1" strike="noStrike" u="sng">
                <a:solidFill>
                  <a:srgbClr val="000000"/>
                </a:solidFill>
                <a:uFillTx/>
                <a:latin typeface="Arial"/>
              </a:rPr>
              <a:t>organizational results </a:t>
            </a:r>
            <a:r>
              <a:rPr b="0" lang="en-US" sz="1200" spc="-1" strike="noStrike">
                <a:solidFill>
                  <a:srgbClr val="000000"/>
                </a:solidFill>
                <a:latin typeface="Arial"/>
              </a:rPr>
              <a:t>and </a:t>
            </a:r>
            <a:r>
              <a:rPr b="0" lang="en-US" sz="1200" spc="-1" strike="noStrike" u="sng">
                <a:solidFill>
                  <a:srgbClr val="000000"/>
                </a:solidFill>
                <a:uFillTx/>
                <a:latin typeface="Arial"/>
              </a:rPr>
              <a:t>facilitate</a:t>
            </a:r>
            <a:r>
              <a:rPr b="0" lang="en-US" sz="1200" spc="-1" strike="noStrike">
                <a:solidFill>
                  <a:srgbClr val="000000"/>
                </a:solidFill>
                <a:latin typeface="Arial"/>
              </a:rPr>
              <a:t> the success and positive results of those around him or her (the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he word “leadership” has been applied to people who have a senior level position or are technically expert.  To be a leader, then, you needed to be either a “big boss” and/or an expert in your field, in this case a DDU/M&amp;E exp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the word “leadership” has been understood to be essential to the interaction between people and the dynamic between and among them.  In other words, “leadership” is now seen to be composed of behaviors and values </a:t>
            </a:r>
            <a:r>
              <a:rPr b="1" lang="en-US" sz="1200" spc="-1" strike="noStrike">
                <a:solidFill>
                  <a:srgbClr val="000000"/>
                </a:solidFill>
                <a:latin typeface="Arial"/>
              </a:rPr>
              <a:t>combined</a:t>
            </a:r>
            <a:r>
              <a:rPr b="0" lang="en-US" sz="1200" spc="-1" strike="noStrike">
                <a:solidFill>
                  <a:srgbClr val="000000"/>
                </a:solidFill>
                <a:latin typeface="Arial"/>
              </a:rPr>
              <a:t> </a:t>
            </a:r>
            <a:r>
              <a:rPr b="1" lang="en-US" sz="1200" spc="-1" strike="noStrike">
                <a:solidFill>
                  <a:srgbClr val="000000"/>
                </a:solidFill>
                <a:latin typeface="Arial"/>
              </a:rPr>
              <a:t>with</a:t>
            </a:r>
            <a:r>
              <a:rPr b="0" lang="en-US" sz="1200" spc="-1" strike="noStrike">
                <a:solidFill>
                  <a:srgbClr val="000000"/>
                </a:solidFill>
                <a:latin typeface="Arial"/>
              </a:rPr>
              <a:t> technical competency.</a:t>
            </a:r>
            <a:endParaRPr b="0" lang="en-US" sz="1200" spc="-1" strike="noStrike">
              <a:solidFill>
                <a:srgbClr val="000000"/>
              </a:solidFill>
              <a:latin typeface="Arial"/>
            </a:endParaRPr>
          </a:p>
        </p:txBody>
      </p:sp>
      <p:sp>
        <p:nvSpPr>
          <p:cNvPr id="144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868B-DD96-4189-9A9E-516B5ECC21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81160" y="698400"/>
            <a:ext cx="4648320" cy="3486240"/>
          </a:xfrm>
          <a:prstGeom prst="rect">
            <a:avLst/>
          </a:prstGeom>
          <a:ln w="0">
            <a:noFill/>
          </a:ln>
        </p:spPr>
      </p:sp>
      <p:sp>
        <p:nvSpPr>
          <p:cNvPr id="144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will see in this program, we stress both aspects –leadership in a dynamic, interpersonal sense and DDU technical competency for four key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adership happens in teams and DDU is a team effort that requires an interdependent relationship between people working toward a common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Good leaders are required in the DDU process to visualize and strategize and to bring the various actors together (Data Producers and Data Users) to achiev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around the world have increasingly recognized that a single technician working alone, even if he or she is put in charge of a group or team of people, will not achieve optimal results.  It takes leaders at all levels who acknowledge and use the strengths of other team members to the greatest 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eadership is the key to implementing an effective DDU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mplement an effective DDU strategy, leaders are required to work directly with their teams to help them </a:t>
            </a:r>
            <a:r>
              <a:rPr b="0" lang="en-US" sz="1200" spc="-1" strike="noStrike" u="sng">
                <a:solidFill>
                  <a:srgbClr val="000000"/>
                </a:solidFill>
                <a:uFillTx/>
                <a:latin typeface="Arial"/>
              </a:rPr>
              <a:t>scan their environment</a:t>
            </a:r>
            <a:r>
              <a:rPr b="0" lang="en-US" sz="1200" spc="-1" strike="noStrike">
                <a:solidFill>
                  <a:srgbClr val="000000"/>
                </a:solidFill>
                <a:latin typeface="Arial"/>
              </a:rPr>
              <a:t> to be able to identify important trends and set priorities, </a:t>
            </a:r>
            <a:r>
              <a:rPr b="0" lang="en-US" sz="1200" spc="-1" strike="noStrike" u="sng">
                <a:solidFill>
                  <a:srgbClr val="000000"/>
                </a:solidFill>
                <a:uFillTx/>
                <a:latin typeface="Arial"/>
              </a:rPr>
              <a:t>focus</a:t>
            </a:r>
            <a:r>
              <a:rPr b="0" lang="en-US" sz="1200" spc="-1" strike="noStrike">
                <a:solidFill>
                  <a:srgbClr val="000000"/>
                </a:solidFill>
                <a:latin typeface="Arial"/>
              </a:rPr>
              <a:t> on data needs and overcoming obstacles, create an </a:t>
            </a:r>
            <a:r>
              <a:rPr b="0" lang="en-US" sz="1200" spc="-1" strike="noStrike" u="sng">
                <a:solidFill>
                  <a:srgbClr val="000000"/>
                </a:solidFill>
                <a:uFillTx/>
                <a:latin typeface="Arial"/>
              </a:rPr>
              <a:t>action plan</a:t>
            </a:r>
            <a:r>
              <a:rPr b="0" lang="en-US" sz="1200" spc="-1" strike="noStrike">
                <a:solidFill>
                  <a:srgbClr val="000000"/>
                </a:solidFill>
                <a:latin typeface="Arial"/>
              </a:rPr>
              <a:t> to link data to action, and </a:t>
            </a:r>
            <a:r>
              <a:rPr b="0" lang="en-US" sz="1200" spc="-1" strike="noStrike" u="sng">
                <a:solidFill>
                  <a:srgbClr val="000000"/>
                </a:solidFill>
                <a:uFillTx/>
                <a:latin typeface="Arial"/>
              </a:rPr>
              <a:t>align and mobilize</a:t>
            </a:r>
            <a:r>
              <a:rPr b="0" lang="en-US" sz="1200" spc="-1" strike="noStrike">
                <a:solidFill>
                  <a:srgbClr val="000000"/>
                </a:solidFill>
                <a:latin typeface="Arial"/>
              </a:rPr>
              <a:t> stakeholders and resources, and </a:t>
            </a:r>
            <a:r>
              <a:rPr b="0" lang="en-US" sz="1200" spc="-1" strike="noStrike" u="sng">
                <a:solidFill>
                  <a:srgbClr val="000000"/>
                </a:solidFill>
                <a:uFillTx/>
                <a:latin typeface="Arial"/>
              </a:rPr>
              <a:t>inspire</a:t>
            </a:r>
            <a:r>
              <a:rPr b="0" lang="en-US" sz="1200" spc="-1" strike="noStrike">
                <a:solidFill>
                  <a:srgbClr val="000000"/>
                </a:solidFill>
                <a:latin typeface="Arial"/>
              </a:rPr>
              <a:t> their teams to ensure the success of their action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bining good leadership with effective DDU practices creates an effective team-based process that multiplies both the impact and sustainability data-informed decision making.</a:t>
            </a:r>
            <a:endParaRPr b="0" lang="en-US" sz="1200" spc="-1" strike="noStrike">
              <a:solidFill>
                <a:srgbClr val="000000"/>
              </a:solidFill>
              <a:latin typeface="Arial"/>
            </a:endParaRPr>
          </a:p>
        </p:txBody>
      </p:sp>
      <p:sp>
        <p:nvSpPr>
          <p:cNvPr id="144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09F3-538F-43DD-AC19-68083D6512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81160" y="698400"/>
            <a:ext cx="4648320" cy="3486240"/>
          </a:xfrm>
          <a:prstGeom prst="rect">
            <a:avLst/>
          </a:prstGeom>
          <a:ln w="0">
            <a:noFill/>
          </a:ln>
        </p:spPr>
      </p:sp>
      <p:sp>
        <p:nvSpPr>
          <p:cNvPr id="144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gram we will be examining and implementing the DDU process, developing questions, identifying obstacles and their root causes, and creating and implementing action plans to overcome the challenges to achieve the DDU result you seek.  This means that you will be making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you will be learning processes for making changes to the culture of information use in your organ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that as you begin to implement new DDU techniques and processes and as you apply new ways of leading it will take a while for the organization to ad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ift in culture will not come easily or automatically.  It will take persistent use of the tools and practices you learn here as well as a clear plan for avoiding the pitfalls encountered in every chang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lead this culture change?  You will!  And as your team members have the opportunity to be trained they will join you in this dynamic process.</a:t>
            </a:r>
            <a:endParaRPr b="0" lang="en-US" sz="1200" spc="-1" strike="noStrike">
              <a:solidFill>
                <a:srgbClr val="000000"/>
              </a:solidFill>
              <a:latin typeface="Arial"/>
            </a:endParaRPr>
          </a:p>
        </p:txBody>
      </p:sp>
      <p:sp>
        <p:nvSpPr>
          <p:cNvPr id="144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43AB-3646-4D22-9C36-3DB2AF9B2F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1B27-2EAB-4477-BCE9-3A4B2C1779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0" name="PlaceHolder 1"/>
          <p:cNvSpPr>
            <a:spLocks noGrp="1"/>
          </p:cNvSpPr>
          <p:nvPr>
            <p:ph type="sldImg"/>
          </p:nvPr>
        </p:nvSpPr>
        <p:spPr>
          <a:xfrm>
            <a:off x="1181160" y="698400"/>
            <a:ext cx="4648320" cy="3486240"/>
          </a:xfrm>
          <a:prstGeom prst="rect">
            <a:avLst/>
          </a:prstGeom>
          <a:ln w="0">
            <a:noFill/>
          </a:ln>
        </p:spPr>
      </p:sp>
      <p:sp>
        <p:nvSpPr>
          <p:cNvPr id="145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presented here illustrates the entire cycle of data-informed decision making. This approach illustrates the ideal. You will note that in addition to data collection and therefore availability, there are also the considera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uring the technical and human capacity to manage and analyze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to ensure that the information is available and in a format that is easily understood by all relevant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fostering the interpretation of the information and its ultimate use to improve policies and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e supports the assumption that the more positive experiences a decision maker has in using information to support a decision, the stronger the commitment will be to improving data collection systems and continuing to use the information they gen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Ask the participants, “This raises the question—is this what we are experiencing in our own work environments?”  Allow time for a brief open discussion and summarize the points made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informed decision making process relies on multiple inputs, activities and systems to function effectively.  Even in the best designed M&amp;E systems you often find that data is not being used as often as it should be.  So there must be other more fundamental elements within the decision making context that may affect this process.</a:t>
            </a:r>
            <a:endParaRPr b="0" lang="en-US" sz="1200" spc="-1" strike="noStrike">
              <a:solidFill>
                <a:srgbClr val="000000"/>
              </a:solidFill>
              <a:latin typeface="Arial"/>
            </a:endParaRPr>
          </a:p>
        </p:txBody>
      </p:sp>
      <p:sp>
        <p:nvSpPr>
          <p:cNvPr id="145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C9E6-2A0D-4F3A-8310-F85937B565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BBFD-DBE7-40F7-AD65-05F096C009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4" name="PlaceHolder 1"/>
          <p:cNvSpPr>
            <a:spLocks noGrp="1"/>
          </p:cNvSpPr>
          <p:nvPr>
            <p:ph type="sldImg"/>
          </p:nvPr>
        </p:nvSpPr>
        <p:spPr>
          <a:xfrm>
            <a:off x="1181160" y="698400"/>
            <a:ext cx="4648320" cy="3486240"/>
          </a:xfrm>
          <a:prstGeom prst="rect">
            <a:avLst/>
          </a:prstGeom>
          <a:ln w="0">
            <a:noFill/>
          </a:ln>
        </p:spPr>
      </p:sp>
      <p:sp>
        <p:nvSpPr>
          <p:cNvPr id="145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81160" y="698400"/>
            <a:ext cx="4648320" cy="3486240"/>
          </a:xfrm>
          <a:prstGeom prst="rect">
            <a:avLst/>
          </a:prstGeom>
          <a:ln w="0">
            <a:noFill/>
          </a:ln>
        </p:spPr>
      </p:sp>
      <p:sp>
        <p:nvSpPr>
          <p:cNvPr id="14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know the definition of and rational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emand and use and why we’re focus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and why it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re linking these the two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re talking about it at this specific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ulture change, why is it relevant and what does it take</a:t>
            </a:r>
            <a:endParaRPr b="0" lang="en-US" sz="1200" spc="-1" strike="noStrike">
              <a:solidFill>
                <a:srgbClr val="000000"/>
              </a:solidFill>
              <a:latin typeface="Arial"/>
            </a:endParaRPr>
          </a:p>
        </p:txBody>
      </p:sp>
      <p:sp>
        <p:nvSpPr>
          <p:cNvPr id="141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37BD-F1C1-4F72-B3E3-5BF7FCBBFE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81160" y="698400"/>
            <a:ext cx="4648320" cy="3486240"/>
          </a:xfrm>
          <a:prstGeom prst="rect">
            <a:avLst/>
          </a:prstGeom>
          <a:ln w="0">
            <a:noFill/>
          </a:ln>
        </p:spPr>
      </p:sp>
      <p:sp>
        <p:nvSpPr>
          <p:cNvPr id="141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essing need to develop health policies, strategies, and interventions (below slide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for quality health care services is intimately known by all of us.  Some of the biggest issues facing u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HIV epidemic. There were an estimated 33 million people living with HIV at the close of 2008, the majority of whom either need or will soon need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one-third of the world‘s population is infected with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malaria causes nearly 1 million deaths, mostly among children under 5 years of age the health system is burdened by millions of clinical ca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uch of sub-Saharan Africa, the transition from high to low fertility has stalled. Also, young people—those below the age of 20—account for the largest proportion of the population. In the next few years, we will see larger numbers of people needing health services as this cohort 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this demand we are experiencing inadequate numbers and poor distribution of qualified health workers and an inadequate human resources system to suppor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ithin this context of a high disease burden, a growing population, and insufficient health services, that it becomes extremely important for governments to make the best use of their limited resources. The need to develop strategies, policies, and interventions that are </a:t>
            </a:r>
            <a:r>
              <a:rPr b="1" lang="en-US" sz="1200" spc="-1" strike="noStrike">
                <a:solidFill>
                  <a:srgbClr val="000000"/>
                </a:solidFill>
                <a:latin typeface="Arial"/>
              </a:rPr>
              <a:t>based on quality data and information is urg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42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6118-CD2C-4291-B288-D534BAF279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81160" y="698400"/>
            <a:ext cx="4648320" cy="3486240"/>
          </a:xfrm>
          <a:prstGeom prst="rect">
            <a:avLst/>
          </a:prstGeom>
          <a:ln w="0">
            <a:noFill/>
          </a:ln>
        </p:spPr>
      </p:sp>
      <p:sp>
        <p:nvSpPr>
          <p:cNvPr id="142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data-informed decision making is expressed on this slide by a national-level policymaker in Nigeria who participated in a data use assessment conducted by MEASURE Evaluation. The assessment involved interviews with a range of professionals at the national, regional, and facility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Ask a participant to read the policymaker’s statement.  Briefly discuss with the participants whether they agree or disagree with the statement and why.  The goal of this brief discussion is to get the participants thinking about the importance of dat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NT SAYS: </a:t>
            </a:r>
            <a:r>
              <a:rPr b="0" i="1" lang="en-US" sz="1200" spc="-1" strike="noStrike">
                <a:solidFill>
                  <a:srgbClr val="000000"/>
                </a:solidFill>
                <a:latin typeface="Arial"/>
              </a:rPr>
              <a:t>“… 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nicely summarizes why we are here today to discuss the importance of improving data-informed decision making.</a:t>
            </a:r>
            <a:endParaRPr b="0" lang="en-US" sz="1200" spc="-1" strike="noStrike">
              <a:solidFill>
                <a:srgbClr val="000000"/>
              </a:solidFill>
              <a:latin typeface="Arial"/>
            </a:endParaRPr>
          </a:p>
        </p:txBody>
      </p:sp>
      <p:sp>
        <p:nvSpPr>
          <p:cNvPr id="142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9A34-9925-4A49-B5E6-2A55ADF48A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1839-471E-4CDD-B038-1FD8E177D3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5" name="PlaceHolder 1"/>
          <p:cNvSpPr>
            <a:spLocks noGrp="1"/>
          </p:cNvSpPr>
          <p:nvPr>
            <p:ph type="sldImg"/>
          </p:nvPr>
        </p:nvSpPr>
        <p:spPr>
          <a:xfrm>
            <a:off x="1181160" y="698400"/>
            <a:ext cx="4648320" cy="3486240"/>
          </a:xfrm>
          <a:prstGeom prst="rect">
            <a:avLst/>
          </a:prstGeom>
          <a:ln w="0">
            <a:noFill/>
          </a:ln>
        </p:spPr>
      </p:sp>
      <p:sp>
        <p:nvSpPr>
          <p:cNvPr id="142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ood news is that as we face a great need to deliver health services, we also have seen increased financial commitments by the international community and local governments to provide the necessary programs and services to meet the critical health needs of target populations—although this is largely for HIV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d influx of funds and resulting expansion in programs has led to increased accountability requirements by donors, governments, and civil society. As we know, many donors are not only requiring regular reporting on services delivered, but funding for continuation of activities is frequently based on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ccountability requirements have led to strengthened programmatic M&amp;E systems, a commitment for integrated Health Management Information Systems (HMIS), and a demand for other types of qualit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se commitments and improvement do not always lead to data-informed decision making.</a:t>
            </a:r>
            <a:endParaRPr b="0" lang="en-US" sz="1200" spc="-1" strike="noStrike">
              <a:solidFill>
                <a:srgbClr val="000000"/>
              </a:solidFill>
              <a:latin typeface="Arial"/>
            </a:endParaRPr>
          </a:p>
        </p:txBody>
      </p:sp>
      <p:sp>
        <p:nvSpPr>
          <p:cNvPr id="1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5D32-5A4D-449C-BE73-75A30A9FA2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81160" y="698400"/>
            <a:ext cx="4648320" cy="3486240"/>
          </a:xfrm>
          <a:prstGeom prst="rect">
            <a:avLst/>
          </a:prstGeom>
          <a:ln w="0">
            <a:noFill/>
          </a:ln>
        </p:spPr>
      </p:sp>
      <p:sp>
        <p:nvSpPr>
          <p:cNvPr id="142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environment many health professionals have become overwhelmed with collecting and using data related to services they deliver or that are delivered in their countries. In some contexts, data requirements from government and donors have grown exponentially, to the point where some providers and implementing partners have pages and pages of forms to fill in d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is data </a:t>
            </a:r>
            <a:r>
              <a:rPr b="1" lang="en-US" sz="1200" spc="-1" strike="noStrike">
                <a:solidFill>
                  <a:srgbClr val="000000"/>
                </a:solidFill>
                <a:latin typeface="Arial"/>
              </a:rPr>
              <a:t>sufficiently</a:t>
            </a:r>
            <a:r>
              <a:rPr b="0" lang="en-US" sz="1200" spc="-1" strike="noStrike">
                <a:solidFill>
                  <a:srgbClr val="000000"/>
                </a:solidFill>
                <a:latin typeface="Arial"/>
              </a:rPr>
              <a:t> used to monitor programs and make decisions beyond individual patient care.  This is a huge lost opportunity because data are critical to the program improvement and decision making process.</a:t>
            </a:r>
            <a:endParaRPr b="0" lang="en-US" sz="1200" spc="-1" strike="noStrike">
              <a:solidFill>
                <a:srgbClr val="000000"/>
              </a:solidFill>
              <a:latin typeface="Arial"/>
            </a:endParaRPr>
          </a:p>
        </p:txBody>
      </p:sp>
      <p:sp>
        <p:nvSpPr>
          <p:cNvPr id="14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15FB-26A4-465B-9E64-71F49DA04C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81160" y="698400"/>
            <a:ext cx="4648320" cy="3486240"/>
          </a:xfrm>
          <a:prstGeom prst="rect">
            <a:avLst/>
          </a:prstGeom>
          <a:ln w="0">
            <a:noFill/>
          </a:ln>
        </p:spPr>
      </p:sp>
      <p:sp>
        <p:nvSpPr>
          <p:cNvPr id="143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ke a minute to discuss exactly what we mean by using data to inform program and policy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Ask participants what they think are some general ways in which data can be used.  After a brief discussion, click on the slide to reveal these examples of ways that data can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Those are some great ideas about how data can be used.  Some used for data that we came up with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r revise a program or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or revise a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te for a policy o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data use approach among each of these tasks is that each review of data is linked to a specific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ata to populate a report to send to the national level or to a donor is not data use. That is data reporting.  The presentation of data at a technical conference also is not data-use as we define it. That is data disse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data reporting and data dissemination are important precursors to data use – but they are not linked specifically to decision making processes.</a:t>
            </a:r>
            <a:endParaRPr b="0" lang="en-US" sz="1200" spc="-1" strike="noStrike">
              <a:solidFill>
                <a:srgbClr val="000000"/>
              </a:solidFill>
              <a:latin typeface="Arial"/>
            </a:endParaRPr>
          </a:p>
        </p:txBody>
      </p:sp>
      <p:sp>
        <p:nvSpPr>
          <p:cNvPr id="143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69F1-114D-4FCE-BB61-20E20C6045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81160" y="698400"/>
            <a:ext cx="4648320" cy="3486240"/>
          </a:xfrm>
          <a:prstGeom prst="rect">
            <a:avLst/>
          </a:prstGeom>
          <a:ln w="0">
            <a:noFill/>
          </a:ln>
        </p:spPr>
      </p:sp>
      <p:sp>
        <p:nvSpPr>
          <p:cNvPr id="143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emand starts with a question or problem that a stakeholder has about a type of health service or a particular health problem.  To address this question or make a decision, stakeholders need to educate themselves about the available data or a summary of data sources in order to develop an informed solution.  Therefore data demand comes from decision makers who specify what kinds of information they need to inform the decision making process and how to seek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nformation they need to inform a decision doesn’t exist or is not available they take steps to get it.</a:t>
            </a:r>
            <a:endParaRPr b="0" lang="en-US" sz="1200" spc="-1" strike="noStrike">
              <a:solidFill>
                <a:srgbClr val="000000"/>
              </a:solidFill>
              <a:latin typeface="Arial"/>
            </a:endParaRPr>
          </a:p>
        </p:txBody>
      </p:sp>
      <p:sp>
        <p:nvSpPr>
          <p:cNvPr id="143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967B-3264-400E-A449-0C525CD40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81160" y="698400"/>
            <a:ext cx="4648320" cy="3486240"/>
          </a:xfrm>
          <a:prstGeom prst="rect">
            <a:avLst/>
          </a:prstGeom>
          <a:ln w="0">
            <a:noFill/>
          </a:ln>
        </p:spPr>
      </p:sp>
      <p:sp>
        <p:nvSpPr>
          <p:cNvPr id="14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ing data and using it in the decision making process involves many different people.  In this workshop we will be referring to data users and data producers. When we refer to data users – these are the individuals that use data to inform the design, implementation, monitoring, and improvement of health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users ca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ir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fer to data producers as the individuals that acquire and analyze health data, and prepare it for distribution to audiences of users. Data producers ca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specia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se definitions are not mutually exclusive.  Sometimes one person can be both a data user </a:t>
            </a:r>
            <a:r>
              <a:rPr b="1" lang="en-US" sz="1200" spc="-1" strike="noStrike">
                <a:solidFill>
                  <a:srgbClr val="000000"/>
                </a:solidFill>
                <a:latin typeface="Arial"/>
              </a:rPr>
              <a:t>AND</a:t>
            </a:r>
            <a:r>
              <a:rPr b="0" lang="en-US" sz="1200" spc="-1" strike="noStrike">
                <a:solidFill>
                  <a:srgbClr val="000000"/>
                </a:solidFill>
                <a:latin typeface="Arial"/>
              </a:rPr>
              <a:t> a data producer, it depends on specific contexts and the task at hand. For example, program managers may be involved in the analysis and interpretation of data however, generally speaking an individual usually relates to one definition more than the other.</a:t>
            </a:r>
            <a:endParaRPr b="0" lang="en-US" sz="1200" spc="-1" strike="noStrike">
              <a:solidFill>
                <a:srgbClr val="000000"/>
              </a:solidFill>
              <a:latin typeface="Arial"/>
            </a:endParaRPr>
          </a:p>
        </p:txBody>
      </p:sp>
      <p:sp>
        <p:nvSpPr>
          <p:cNvPr id="143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3E30-59CB-48D2-A689-CB093C5DEA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7E94AB-E341-4D71-8EB6-5BA3F00F3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6CB73E-2FF8-4C54-9B7A-9EDD6685A87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8E2E067F-9CD3-4BE2-975A-0F3CCE96AA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06A37DF-5C1B-4541-8F2F-D6E2ADF9B8F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29F2A5F-95E9-4101-B93B-18C12BA654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25ADBB87-7B2B-4416-B2EB-0FD264C478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1C0813EB-F660-4CA0-86D6-7A02E55EE4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38DFFCB-3E8E-4472-B8EB-7946C9B10E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AC2BC119-6AB0-4588-849D-F3E04B3635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418B435-3D2D-451C-BB4D-CF7B813250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92F919F-8481-45F4-A7E1-6984153CF48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9770556-F806-48DC-A35D-B837CDD333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3BA99B50-A823-4E84-BE04-099E00B2A1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AE90D2F2-890F-48AC-9B75-9A964236D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3B12D80-2C97-45C8-B953-3E46CF0F752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35FE4F10-BA01-4129-B301-F24BDA4CAC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6191DA-BE16-407D-8F05-FCDF869D0F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BC3D67-95BC-432B-8EDD-1D549D5F0C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3298CF-D22C-4382-AE37-FAD79B03988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002929-6AF3-4DFB-BB59-1823F938BA0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8FE4C8-633E-4CC6-B185-57953B6D82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BF75FB-4BF4-4242-B53A-DCC6828F51C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5FC79E-4D2D-4513-8A06-806DFE515BA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6A3C9E-266B-4D07-B12B-32C37E373A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692CA0-0FD2-4F90-89D2-D1B838EAFD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112B9E-5023-450A-99E7-0343DE6836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8CCF67B-EB4A-4F0D-A9E8-E1CFDC3048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08033B-3026-43FC-8523-6BD3EA2488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B9D6CD58-1C5B-4103-B563-C939E76C36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DC95CCE3-0EF5-49AD-9228-FEBD826CAB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D430D821-EB7C-4EA2-B977-1B348C1EC30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58AD4D7-1414-4612-B9DF-A7C06DA902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443ED56-A1E0-4E4B-A8B6-6175BA0F33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CA99D89-EB82-40C8-91A4-68B4079DA69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CA9E5B1-F9BE-4976-A285-3C0AE30630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2285093-85E2-4226-BEED-FEB8D30F67B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EDEF741-CA25-49C6-A475-C9B0CFC146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E75CAD4-0834-4072-AB15-9D9822981C5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EE28DA97-78E1-4DE4-8CBB-37E7C1A11B2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82A7E4B-053B-445C-8CAE-5B5B812B06E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EB1EEA81-F7F5-4888-9B4F-AAB555808EB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162698C6-B85B-4B2B-8121-51CB8A8EE1A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3A10358-0B62-4689-9473-BC3546AEDE8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F5571010-202F-4B5F-A379-83372CA2BE2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67151AFF-64F2-4910-8FEB-432C9961BD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8EAE68A-F094-48F3-925C-B0E90697E58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7C66657-A401-4897-9537-C48FC629BFE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AE587EA-151A-4A36-931C-5F906323942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60AED68-9C78-43A8-AD87-564363CF958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44A6223-034B-4E2B-818D-6403E68BA79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1725C309-14AD-4D70-9551-4B7D9B8A1D1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B130806B-6BF8-47E1-A54A-ECC8542B3CB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974BE93-1637-4674-8DF0-39D75B84CBC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C84F1BC-7D3E-428C-8352-5D222F18340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235545-FD4A-4579-9885-8ACC545C12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D76894-4634-4E15-BFA2-F004D7E4DFA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8CB9ED-35E5-4D75-88AE-D6377BB553E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D6EE0E-9523-4E8B-AE75-AE43CCC3477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FC3623-B059-4B54-8DF9-A8BDDBB1E74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573E23-1273-4A1A-8277-7625B71143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DDC664-608F-4729-8958-9C179DAAF56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1AC82F-3E03-48A3-AD2E-A04B79654C3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7A2967D-0947-48B2-9CCA-841D412C235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BE62ECD-07D1-4239-B957-0D7772429B0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4895E5BE-F579-4B6C-BC79-42C8FDF624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DE5580C-254C-45A4-8A6A-F6AAFBDB01A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3402907-B525-44BB-9EF1-51F9606F8F5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E9C4274-A4FD-4227-9D4E-DB60D205A24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E8FF1C3-9910-4106-A0A2-6F57DC502D8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E14F591-D82D-4E97-84F8-45C6D44E9FF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87EACAD-6D58-4932-B249-314835F5C94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6EB97C9-A90D-4E4C-94F3-D705EED4B79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C38E6EF-9587-44D0-B946-266B53BAB63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5138D4F1-E51B-4A81-8411-6BF852B4DB4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DB769133-1F0B-452B-9DE2-0BFD7383C2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FF1BB22-25FD-4910-900F-2C7AED22D10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87743380-CF02-4F68-A221-5D38C117724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2E9EDAC4-F6D4-42BE-AB93-69FF8D9279A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2BD9A025-0046-43CA-AC8C-E6DFF572C98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BFCDF0BD-89FE-45CB-8B1D-9702A33412D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06AACD7E-D1BB-418E-84F7-DD0B81F294E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919A04FD-55F7-4F9B-B239-DB5922702AA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A7A3A0F4-D175-47D2-8053-D8D72D32E82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3801FF3-7AB7-4AEA-BE59-9A04F8228A7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62E54D83-A0C2-4A43-A138-6E19F2D0B2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E01EF711-63F4-41BF-AC52-A42B22212DA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49680DC1-926D-4040-9D6B-F4BA8062E0B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AB44AD76-70B8-41BF-B449-BACB45E1CD5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0CD03AF-5EA7-43C8-8C20-E09EE099053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0AE5CFD-DD5D-4273-AE62-EFAC2AEA4BD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0F184AF-A144-459E-8929-A7006911508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6768804-D728-4687-B96C-93872D6AC03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35C0C78-2735-4C4E-BAC7-A95F84E6436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0E4A630-E70B-47AE-B81A-5B12B5BF642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7C0B445-2685-41A7-97B7-EC1EE9B39F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8B93A6-52C0-4016-8596-89A4C7CCDC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ABE5F1E-55EF-4BB8-9213-C567E442069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819F225-4E3B-4E21-BF9A-1ADB221C009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D50D3E2-6A58-4F80-9906-6398C025306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20A7277-1E99-4EC7-81C6-D18CEBA9388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1DA9DA1-FFED-44B6-8EB4-3507178C756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75D67F61-2E1B-4141-8CA0-DD2D897006A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9C4CBF9B-8EE2-47C3-9A8D-A5EF63DC58A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DA589193-A09C-48A4-A1C7-7469AD13CF2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C79F0895-8965-462E-AC05-CE120780781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4C5C9C89-3B13-4F5C-BD7F-D329BD74F8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E7503D0A-6AA8-4761-8318-BAE018EA0B3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AF6E40A-2C17-4989-954C-C1D2723F420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0003EF1C-4D16-4477-A90B-C510AC0E1AD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DC8D1CA5-B204-4393-B9DC-0613ACB34F0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31432210-26A4-4C63-86A9-C5FB4A71FE1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02025481-32EC-4E63-AB35-C9ADBC87777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5ADC0650-90FB-44C7-9704-47B113171E6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C83C9178-6A89-4336-BF4A-FF89A8E5D87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DE22239-465B-4381-98A0-D467D1B3CBC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95D1D35-5B12-463D-A3ED-BA42B653F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859D8FF7-CCEA-442F-8C8E-6A5F59A1827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B663F52-4754-497B-84BD-51D25CE34A2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35282A2-9417-48CF-A7C2-4F1C6368084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DB45DC3-7714-47FF-B1AB-A656938FA89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7FE5C81-55EC-439B-AFA7-BA8F3B74F14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714871CB-8485-4F09-B265-17C56E4F5F7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16199EC2-8581-4038-AF17-4D27CE79420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4FD01971-6BBA-4773-B30A-311796C2623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BD67DAA0-7AF7-4B91-AB7C-03FEE3C38E9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C135D68-5AF7-47C6-BA23-CE1B3429E1C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EA91196-BBAB-4687-B507-246BB17CF27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428E5F2-800F-4522-8BEE-8A4FF2E1962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7878863-DE3F-452B-87F1-EB4A0E6B2FD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2FD6CE9-9086-4703-B774-457E9DD7466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4FB1B06-FE3B-4DA7-A189-9B3C5EB7BB2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6BE1F09-3209-4C8B-A786-ACD3DCA14CA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6C77249-3E23-4BCE-9612-3D84CFBA93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DBADAD5-7198-4900-9803-E251E0F6A27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130F482-3749-43BF-9ED0-5587EE63EDE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A615B0D-6CB7-4ABE-866C-F824C1A0877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153228D-4323-4AD8-93B9-8B31869B1CD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58F112B-8824-4BDD-866D-6E24859AA4F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FB5797D-B7C7-40CD-A779-B85DF95BA2E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567F7C1-4772-4E09-8F34-6613A959745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5EEBA9D8-993D-4DE6-83DC-8D51A9C3C37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BB6432A-59B8-406F-9661-1619E260BAD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96C67E48-7BD4-44CD-AB1F-F97B8F6DDDA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66CFD76B-7A1B-4239-B149-9DBCDEFAEA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B25FF83-CBE8-45F3-A9A4-8DED70E90A5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A300ADF9-1E58-4991-A501-CB527B22304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DAD90A1D-0F27-47C9-819C-939EC06768C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184F1FC-00CC-47BC-89BF-08B852AA5C9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B8646D7-FD45-430B-ACE6-7EA406E50F7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4CDCFFC-300C-4316-B7D0-E7BA69F26C8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01EAB4C3-90C9-40A8-B5B8-02D2B1BFD8B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A0536C46-A1A3-463F-BAA4-439DC8D487F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D76C96A7-EB70-4EA9-80C8-8B6200228C47}"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9EDDA0D9-CB16-40EC-AC47-CD4C169A00C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2EC271CC-0943-4E2F-8468-5FCF71561C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84090A0-C996-436B-9208-B54235A5AA0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7EACABC1-DFBC-4903-A2E0-31BA7F91517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9E083F3E-631F-435E-8B35-18FE92190E3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62530D76-EF3B-4507-B373-7D88E1A8EF4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EE475CA4-2A60-40A2-A9F2-6D576BBD105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922F44FF-699B-4669-BE4C-1A3DA72AE8E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E8884E2F-0779-4D5F-8972-80534EF78C0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1B48B024-8AAE-4241-8CAA-23BA3CD97DC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37736E6B-AA8B-4792-B73B-F1A44051CCF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C8EADFB6-AA8B-451C-BCC4-94A62B35C42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3949BD7A-6E53-42EA-A571-C247D3479A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A86C3E1-76A5-41A7-B70D-F8E8453E1DF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573D926-4837-4D8A-A2A7-0675E206FED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FE93462-D652-4CFD-9E16-A7D37B5E09BF}"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2B838EE-C949-4215-A03D-E0D5C2EC995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6431D88-8FAD-4DA7-A502-11287AEF8E0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E98BC81-3DA4-4053-864F-4C07AA7BB1F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0A16C34-5621-4E9A-9FF6-E49687D8D10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3426038-AD80-49B7-849B-73B4F36C9A7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4E9116C-4ED7-44D2-A28C-AE37DADB4A2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498C81A-9642-4CEA-915A-81ECC36F03D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EB490FD3-9344-4389-AAAB-79B825C532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99140C-C4DA-49D1-9B10-4DE488FB99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1DE9309-632C-4C13-925B-617AC204A81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A7B2221B-0DCB-4960-B23B-D55BAB36530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72E9B4AE-CF53-4DBA-8CD2-9F9E829B1EA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4D64D5D4-3213-487A-8A39-F7DD499B9CD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B1FA4351-9D95-497D-9A13-ECBDDA4390E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BB39F8C-E061-4137-AEB7-54B02438987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23BE1D2F-C2BF-46FC-87E6-C24FEAEA50D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EDDE2712-3480-48DE-8116-49C7DC738E81}"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E2A13BD5-82F5-4C9E-AE9B-829393D5F6D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8718DDE8-835E-4BB6-A728-6CA19CADEF1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5A22510F-B356-4219-A6BC-D985D69064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F046901-499F-4A1C-845B-7CB88056B74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3B4E598B-F1CE-43DA-9F7E-D800B6AFCA6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67FB18C8-7A99-40EF-AA66-849AB53D325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3E838709-B35D-405C-865F-0DD0A0AED0D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CF2A0F2B-7137-4748-908D-128077E7E7F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A9F5EC32-362D-4BB1-AF7C-05F28AC49F5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5BF91968-0DCE-4B98-ADF7-D38977EABF1B}"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177EE614-5796-41AC-B41F-F866408ECCA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71A84195-AA48-4745-A148-B2D9C59BCBF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F05EB1D-F460-45B6-80A1-9E045C542E2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5DF86F7F-C67E-4456-881B-C74DD2BB50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E972F4B-7AA1-4125-84C1-EA4623EBB2F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D22C4F09-6F7D-4244-86C9-BD4185F9AE9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BA95C39C-5B3E-44CE-8407-505D99ACDB4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27309CE-A9D5-4DE6-9790-CB09BB035E43}"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187C1D58-E907-4188-ACF2-0C75BFCB33A2}"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97FD2C00-CC48-4702-A6AE-0037A788238E}"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6C1E0CD8-19DC-46CD-BBFD-CAA8DEF6355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BCFF71F-1A07-4604-B5C2-2384CE392D6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324736B6-096A-4D03-A7A6-0325D5AA916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16995A2-8AAF-4A46-AB07-6B4CC134421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362946D-0E27-4046-A4A2-444A9EBE24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ABDED92-9A96-4D51-84B9-04541E1F156F}"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CFBD920-1556-43AB-B403-D612631ECAE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D33CC27-8376-45F9-AC01-E15EBF519F9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2B92A95-95A4-4222-9D74-53ACD634044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E669BEA-40ED-45A4-9264-A21C33CBA28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663D8D3-F33C-4EAA-B4B5-75D6FC350D5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E3772871-70B3-4B7F-9BBA-EE9208C0731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D62422FB-740C-468B-AD98-C76A48DD1002}"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78F68294-54DD-4EA4-A6E1-105D0489911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9F14EDEF-A28F-4F0F-8915-776E4DBB774F}"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20494217-3F98-4CAB-B0B3-FDBE497B0C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F664AD7-E1A4-4DCC-9FB1-5A937DD37D8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A382A31B-E124-4B1C-9099-51D20CFD3D5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F476A353-2E5C-413F-9EE4-818B22F3C15E}"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96131516-7A2D-4FF1-9247-50267F0A600A}"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E38B2C0C-3B95-49F4-877A-1690CDD46BF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8CC6C642-9413-482D-9D8B-1D2FF5546694}"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4FD30E5C-60DB-4FDF-9CD3-B8D1AC6ADDA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36CBE252-5D37-4E02-A02E-2F98B6D4A3C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A4545EB0-08EE-4344-AA7E-A70EA52F39C9}"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6C30F03A-9456-4351-9531-EBB596307041}"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E628BE97-26AE-42F2-A6C4-814E8FBC7C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A49785D-4743-45D1-8FE9-55B9202601E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A1FDEBB8-2E19-4278-A871-3A52482EE5D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261C3C4D-1CF5-483C-A0EE-E2449703645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DDB007B4-B7F6-4529-AAC8-43F8A4C538B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6B8E6436-12E3-4B37-A1A1-686BFBBF81C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47CE59F9-62ED-40CA-ACD2-875250535BC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936B8E42-515E-4CF0-84CC-68DB7237DDA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C0C7C774-AD3F-46C3-8E17-16DFEAABC7A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5404164-45D7-4767-952E-7F63C43E02A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B495849C-CE10-4D79-B251-DB4C5F67115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CCC0D28D-C5BB-402A-981E-1C69696396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98B901E-EF95-499B-B815-0D94B55E3001}"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252D1C1E-48BD-4F70-8E15-C15C4373C5E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64A21BAC-4409-48E1-8A77-69BEDFC89CF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EAD385F-9474-455D-8BB5-FBEA5E962D5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69EE768-853C-4A52-816A-E3B7FD846A1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FB2905A-9D35-4AC7-A4CB-C40155432E1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089EAA46-8DDA-4094-9E75-DB63CD02B5B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91BA2920-C5CB-4C7C-A768-790C0ACB67C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5C5F6B7D-DC57-4D87-806C-6A7358D99A8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BCACF0A-74AD-4BE0-B267-C42AD5D45FF2}"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09FBCB6-0F15-4673-BF36-D2C17D6753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6421EF9-695D-436C-92FC-8F936B31826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08896635-BF84-4D48-B504-69136AE7942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1DC88A66-2EE7-4398-A8A0-3E447D3D79C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F91656-004E-4FF4-A0AB-BBA07CBCF2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797703-D6C4-44A9-87A4-C66AFA510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00A487-043F-41A3-A01E-3E703E6AEC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0E444B-2827-48AF-A952-D30F52D627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438ACC-3365-4A7A-9578-80C6DE22946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382874-652E-4CE5-947B-3C8830B6AA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15229F-AAA2-44E1-9EA7-56CC3E7A25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13048E-3811-4C1B-8C9E-F69D3EE8FE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21D728-881C-4D0D-923B-A9BEC912A2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C41250-E428-4193-8C9A-C774E05140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0556F9-F1A3-4C53-ABE7-C2271708DA2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025B7E-1B3A-48F5-BB81-3126148600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DE864A-2EBE-4EAD-A284-8F7F70CA9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1996FE-0837-41FD-88A8-3E0E9EE9CD0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27AFDD-D84F-4C53-9C4B-2B321A1C728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FC69006-D799-4165-AA50-17FCF2374E3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49F37D-021C-4FD6-994C-2862794EC4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90956D-F395-4C6A-B030-D5471CDDCE4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2306853-07D9-4DC8-83A9-48ED8DA5A6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F8E88C1-C8F3-4848-9868-E832A2F263C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1B19239-EFEA-49AA-9046-73C81129048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312958-113B-4572-B13A-2DF50AFF1A2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82D30B-52C8-4D05-BA28-38AE83C3335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0C0C3A-1959-4487-AD68-5D7D908358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FA336D-3151-4B34-912A-CAC946D44D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BD1E3D-823F-44AD-B192-C5D2C9E9C4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BBAE094-6B28-4EDF-95B4-CA2C37505AA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BDBC2D5-FF98-4756-9659-356DDA3A40D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4DE559-8526-4F30-B6E9-A78C340AD2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8960C2-4550-4FFB-964A-B250AC30F6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E2DD-41FE-408F-B785-1FEB68D2D79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4" name="Picture 8" descr="Vertical_RGB_600"/>
          <p:cNvPicPr/>
          <p:nvPr/>
        </p:nvPicPr>
        <p:blipFill>
          <a:blip r:embed="rId2"/>
          <a:stretch/>
        </p:blipFill>
        <p:spPr>
          <a:xfrm>
            <a:off x="6580080" y="5829480"/>
            <a:ext cx="1116000" cy="914400"/>
          </a:xfrm>
          <a:prstGeom prst="rect">
            <a:avLst/>
          </a:prstGeom>
          <a:ln w="0">
            <a:noFill/>
          </a:ln>
        </p:spPr>
      </p:pic>
      <p:pic>
        <p:nvPicPr>
          <p:cNvPr id="375" name="Picture 9" descr="logo_2004"/>
          <p:cNvPicPr/>
          <p:nvPr/>
        </p:nvPicPr>
        <p:blipFill>
          <a:blip r:embed="rId3"/>
          <a:stretch/>
        </p:blipFill>
        <p:spPr>
          <a:xfrm>
            <a:off x="7950240" y="5829480"/>
            <a:ext cx="965160" cy="914400"/>
          </a:xfrm>
          <a:prstGeom prst="rect">
            <a:avLst/>
          </a:prstGeom>
          <a:ln w="0">
            <a:noFill/>
          </a:ln>
        </p:spPr>
      </p:pic>
      <p:pic>
        <p:nvPicPr>
          <p:cNvPr id="376" name="Picture 9" descr=""/>
          <p:cNvPicPr/>
          <p:nvPr/>
        </p:nvPicPr>
        <p:blipFill>
          <a:blip r:embed="rId4"/>
          <a:stretch/>
        </p:blipFill>
        <p:spPr>
          <a:xfrm>
            <a:off x="4811760" y="5810400"/>
            <a:ext cx="1474920" cy="917280"/>
          </a:xfrm>
          <a:prstGeom prst="rect">
            <a:avLst/>
          </a:prstGeom>
          <a:ln w="0">
            <a:noFill/>
          </a:ln>
        </p:spPr>
      </p:pic>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79"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9227-71BB-4DE4-BEFD-F60409AFE77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80"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9" name="Picture 8" descr="Vertical_RGB_600"/>
          <p:cNvPicPr/>
          <p:nvPr/>
        </p:nvPicPr>
        <p:blipFill>
          <a:blip r:embed="rId2"/>
          <a:stretch/>
        </p:blipFill>
        <p:spPr>
          <a:xfrm>
            <a:off x="6580080" y="5829480"/>
            <a:ext cx="1116000" cy="914400"/>
          </a:xfrm>
          <a:prstGeom prst="rect">
            <a:avLst/>
          </a:prstGeom>
          <a:ln w="0">
            <a:noFill/>
          </a:ln>
        </p:spPr>
      </p:pic>
      <p:pic>
        <p:nvPicPr>
          <p:cNvPr id="420" name="Picture 9" descr="logo_2004"/>
          <p:cNvPicPr/>
          <p:nvPr/>
        </p:nvPicPr>
        <p:blipFill>
          <a:blip r:embed="rId3"/>
          <a:stretch/>
        </p:blipFill>
        <p:spPr>
          <a:xfrm>
            <a:off x="7950240" y="5829480"/>
            <a:ext cx="965160" cy="914400"/>
          </a:xfrm>
          <a:prstGeom prst="rect">
            <a:avLst/>
          </a:prstGeom>
          <a:ln w="0">
            <a:noFill/>
          </a:ln>
        </p:spPr>
      </p:pic>
      <p:sp>
        <p:nvSpPr>
          <p:cNvPr id="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2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23"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3061-A3E2-4D84-872B-6C9FE8D4A5E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24"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6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63" name="Picture 8" descr="Vertical_RGB_600"/>
          <p:cNvPicPr/>
          <p:nvPr/>
        </p:nvPicPr>
        <p:blipFill>
          <a:blip r:embed="rId2"/>
          <a:stretch/>
        </p:blipFill>
        <p:spPr>
          <a:xfrm>
            <a:off x="6580080" y="5829480"/>
            <a:ext cx="1116000" cy="914400"/>
          </a:xfrm>
          <a:prstGeom prst="rect">
            <a:avLst/>
          </a:prstGeom>
          <a:ln w="0">
            <a:noFill/>
          </a:ln>
        </p:spPr>
      </p:pic>
      <p:pic>
        <p:nvPicPr>
          <p:cNvPr id="464" name="Picture 9" descr="logo_2004"/>
          <p:cNvPicPr/>
          <p:nvPr/>
        </p:nvPicPr>
        <p:blipFill>
          <a:blip r:embed="rId3"/>
          <a:stretch/>
        </p:blipFill>
        <p:spPr>
          <a:xfrm>
            <a:off x="7950240" y="5829480"/>
            <a:ext cx="965160" cy="914400"/>
          </a:xfrm>
          <a:prstGeom prst="rect">
            <a:avLst/>
          </a:prstGeom>
          <a:ln w="0">
            <a:noFill/>
          </a:ln>
        </p:spPr>
      </p:pic>
      <p:sp>
        <p:nvSpPr>
          <p:cNvPr id="4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7"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C85A-074C-44CA-A183-073FC23AF74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68"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7" name="Picture 8" descr="Vertical_RGB_600"/>
          <p:cNvPicPr/>
          <p:nvPr/>
        </p:nvPicPr>
        <p:blipFill>
          <a:blip r:embed="rId2"/>
          <a:stretch/>
        </p:blipFill>
        <p:spPr>
          <a:xfrm>
            <a:off x="6580080" y="5829480"/>
            <a:ext cx="1116000" cy="914400"/>
          </a:xfrm>
          <a:prstGeom prst="rect">
            <a:avLst/>
          </a:prstGeom>
          <a:ln w="0">
            <a:noFill/>
          </a:ln>
        </p:spPr>
      </p:pic>
      <p:pic>
        <p:nvPicPr>
          <p:cNvPr id="508" name="Picture 9" descr="logo_2004"/>
          <p:cNvPicPr/>
          <p:nvPr/>
        </p:nvPicPr>
        <p:blipFill>
          <a:blip r:embed="rId3"/>
          <a:stretch/>
        </p:blipFill>
        <p:spPr>
          <a:xfrm>
            <a:off x="7950240" y="5829480"/>
            <a:ext cx="965160" cy="914400"/>
          </a:xfrm>
          <a:prstGeom prst="rect">
            <a:avLst/>
          </a:prstGeom>
          <a:ln w="0">
            <a:noFill/>
          </a:ln>
        </p:spPr>
      </p:pic>
      <p:sp>
        <p:nvSpPr>
          <p:cNvPr id="5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1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11"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9CA1-BB8A-4DB3-A530-9B4C088BF21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12"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1" name="Picture 8" descr="Vertical_RGB_600"/>
          <p:cNvPicPr/>
          <p:nvPr/>
        </p:nvPicPr>
        <p:blipFill>
          <a:blip r:embed="rId2"/>
          <a:stretch/>
        </p:blipFill>
        <p:spPr>
          <a:xfrm>
            <a:off x="6580080" y="5829480"/>
            <a:ext cx="1116000" cy="914400"/>
          </a:xfrm>
          <a:prstGeom prst="rect">
            <a:avLst/>
          </a:prstGeom>
          <a:ln w="0">
            <a:noFill/>
          </a:ln>
        </p:spPr>
      </p:pic>
      <p:pic>
        <p:nvPicPr>
          <p:cNvPr id="552" name="Picture 9" descr="logo_2004"/>
          <p:cNvPicPr/>
          <p:nvPr/>
        </p:nvPicPr>
        <p:blipFill>
          <a:blip r:embed="rId3"/>
          <a:stretch/>
        </p:blipFill>
        <p:spPr>
          <a:xfrm>
            <a:off x="7950240" y="5829480"/>
            <a:ext cx="965160" cy="914400"/>
          </a:xfrm>
          <a:prstGeom prst="rect">
            <a:avLst/>
          </a:prstGeom>
          <a:ln w="0">
            <a:noFill/>
          </a:ln>
        </p:spPr>
      </p:pic>
      <p:sp>
        <p:nvSpPr>
          <p:cNvPr id="5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55"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D1F4-64D4-44D5-928A-F751C7C109E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6"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9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5" name="Picture 8" descr="Vertical_RGB_600"/>
          <p:cNvPicPr/>
          <p:nvPr/>
        </p:nvPicPr>
        <p:blipFill>
          <a:blip r:embed="rId2"/>
          <a:stretch/>
        </p:blipFill>
        <p:spPr>
          <a:xfrm>
            <a:off x="6580080" y="5829480"/>
            <a:ext cx="1116000" cy="914400"/>
          </a:xfrm>
          <a:prstGeom prst="rect">
            <a:avLst/>
          </a:prstGeom>
          <a:ln w="0">
            <a:noFill/>
          </a:ln>
        </p:spPr>
      </p:pic>
      <p:pic>
        <p:nvPicPr>
          <p:cNvPr id="596" name="Picture 9" descr="logo_2004"/>
          <p:cNvPicPr/>
          <p:nvPr/>
        </p:nvPicPr>
        <p:blipFill>
          <a:blip r:embed="rId3"/>
          <a:stretch/>
        </p:blipFill>
        <p:spPr>
          <a:xfrm>
            <a:off x="7950240" y="5829480"/>
            <a:ext cx="965160" cy="914400"/>
          </a:xfrm>
          <a:prstGeom prst="rect">
            <a:avLst/>
          </a:prstGeom>
          <a:ln w="0">
            <a:noFill/>
          </a:ln>
        </p:spPr>
      </p:pic>
      <p:pic>
        <p:nvPicPr>
          <p:cNvPr id="597" name="Picture 9" descr=""/>
          <p:cNvPicPr/>
          <p:nvPr/>
        </p:nvPicPr>
        <p:blipFill>
          <a:blip r:embed="rId4"/>
          <a:stretch/>
        </p:blipFill>
        <p:spPr>
          <a:xfrm>
            <a:off x="4773600" y="5780160"/>
            <a:ext cx="1494000" cy="928440"/>
          </a:xfrm>
          <a:prstGeom prst="rect">
            <a:avLst/>
          </a:prstGeom>
          <a:ln w="0">
            <a:noFill/>
          </a:ln>
        </p:spPr>
      </p:pic>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00"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411E-B4C4-42F1-A692-B563CFC2952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01"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40" name="Picture 8" descr="Vertical_RGB_600"/>
          <p:cNvPicPr/>
          <p:nvPr/>
        </p:nvPicPr>
        <p:blipFill>
          <a:blip r:embed="rId2"/>
          <a:stretch/>
        </p:blipFill>
        <p:spPr>
          <a:xfrm>
            <a:off x="6580080" y="5829480"/>
            <a:ext cx="1116000" cy="914400"/>
          </a:xfrm>
          <a:prstGeom prst="rect">
            <a:avLst/>
          </a:prstGeom>
          <a:ln w="0">
            <a:noFill/>
          </a:ln>
        </p:spPr>
      </p:pic>
      <p:pic>
        <p:nvPicPr>
          <p:cNvPr id="641" name="Picture 9" descr="logo_2004"/>
          <p:cNvPicPr/>
          <p:nvPr/>
        </p:nvPicPr>
        <p:blipFill>
          <a:blip r:embed="rId3"/>
          <a:stretch/>
        </p:blipFill>
        <p:spPr>
          <a:xfrm>
            <a:off x="7950240" y="5829480"/>
            <a:ext cx="965160" cy="914400"/>
          </a:xfrm>
          <a:prstGeom prst="rect">
            <a:avLst/>
          </a:prstGeom>
          <a:ln w="0">
            <a:noFill/>
          </a:ln>
        </p:spPr>
      </p:pic>
      <p:sp>
        <p:nvSpPr>
          <p:cNvPr id="6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44"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E27C-FE05-417A-A446-797223B15BD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45"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8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84" name="Picture 8" descr="Vertical_RGB_600"/>
          <p:cNvPicPr/>
          <p:nvPr/>
        </p:nvPicPr>
        <p:blipFill>
          <a:blip r:embed="rId2"/>
          <a:stretch/>
        </p:blipFill>
        <p:spPr>
          <a:xfrm>
            <a:off x="6580080" y="5829480"/>
            <a:ext cx="1116000" cy="914400"/>
          </a:xfrm>
          <a:prstGeom prst="rect">
            <a:avLst/>
          </a:prstGeom>
          <a:ln w="0">
            <a:noFill/>
          </a:ln>
        </p:spPr>
      </p:pic>
      <p:pic>
        <p:nvPicPr>
          <p:cNvPr id="685" name="Picture 9" descr="logo_2004"/>
          <p:cNvPicPr/>
          <p:nvPr/>
        </p:nvPicPr>
        <p:blipFill>
          <a:blip r:embed="rId3"/>
          <a:stretch/>
        </p:blipFill>
        <p:spPr>
          <a:xfrm>
            <a:off x="7950240" y="5829480"/>
            <a:ext cx="965160" cy="914400"/>
          </a:xfrm>
          <a:prstGeom prst="rect">
            <a:avLst/>
          </a:prstGeom>
          <a:ln w="0">
            <a:noFill/>
          </a:ln>
        </p:spPr>
      </p:pic>
      <p:sp>
        <p:nvSpPr>
          <p:cNvPr id="6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8"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BB38-4624-4D33-A36F-0509AFB5B53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9"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2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8" name="Picture 8" descr="Vertical_RGB_600"/>
          <p:cNvPicPr/>
          <p:nvPr/>
        </p:nvPicPr>
        <p:blipFill>
          <a:blip r:embed="rId2"/>
          <a:stretch/>
        </p:blipFill>
        <p:spPr>
          <a:xfrm>
            <a:off x="6580080" y="5829480"/>
            <a:ext cx="1116000" cy="914400"/>
          </a:xfrm>
          <a:prstGeom prst="rect">
            <a:avLst/>
          </a:prstGeom>
          <a:ln w="0">
            <a:noFill/>
          </a:ln>
        </p:spPr>
      </p:pic>
      <p:pic>
        <p:nvPicPr>
          <p:cNvPr id="729" name="Picture 9" descr="logo_2004"/>
          <p:cNvPicPr/>
          <p:nvPr/>
        </p:nvPicPr>
        <p:blipFill>
          <a:blip r:embed="rId3"/>
          <a:stretch/>
        </p:blipFill>
        <p:spPr>
          <a:xfrm>
            <a:off x="7950240" y="5829480"/>
            <a:ext cx="965160" cy="914400"/>
          </a:xfrm>
          <a:prstGeom prst="rect">
            <a:avLst/>
          </a:prstGeom>
          <a:ln w="0">
            <a:noFill/>
          </a:ln>
        </p:spPr>
      </p:pic>
      <p:sp>
        <p:nvSpPr>
          <p:cNvPr id="7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3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32"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D220-6DC9-428A-950A-27AD1D381A3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33"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2" name="Picture 8" descr="Vertical_RGB_600"/>
          <p:cNvPicPr/>
          <p:nvPr/>
        </p:nvPicPr>
        <p:blipFill>
          <a:blip r:embed="rId2"/>
          <a:stretch/>
        </p:blipFill>
        <p:spPr>
          <a:xfrm>
            <a:off x="6580080" y="5829480"/>
            <a:ext cx="1116000" cy="914400"/>
          </a:xfrm>
          <a:prstGeom prst="rect">
            <a:avLst/>
          </a:prstGeom>
          <a:ln w="0">
            <a:noFill/>
          </a:ln>
        </p:spPr>
      </p:pic>
      <p:pic>
        <p:nvPicPr>
          <p:cNvPr id="773" name="Picture 9" descr="logo_2004"/>
          <p:cNvPicPr/>
          <p:nvPr/>
        </p:nvPicPr>
        <p:blipFill>
          <a:blip r:embed="rId3"/>
          <a:stretch/>
        </p:blipFill>
        <p:spPr>
          <a:xfrm>
            <a:off x="7950240" y="5829480"/>
            <a:ext cx="965160" cy="914400"/>
          </a:xfrm>
          <a:prstGeom prst="rect">
            <a:avLst/>
          </a:prstGeom>
          <a:ln w="0">
            <a:noFill/>
          </a:ln>
        </p:spPr>
      </p:pic>
      <p:sp>
        <p:nvSpPr>
          <p:cNvPr id="7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76"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A196-3660-43A5-9113-1E31B1D8D50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7"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1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6" name="Picture 8" descr="Vertical_RGB_600"/>
          <p:cNvPicPr/>
          <p:nvPr/>
        </p:nvPicPr>
        <p:blipFill>
          <a:blip r:embed="rId2"/>
          <a:stretch/>
        </p:blipFill>
        <p:spPr>
          <a:xfrm>
            <a:off x="6580080" y="5829480"/>
            <a:ext cx="1116000" cy="914400"/>
          </a:xfrm>
          <a:prstGeom prst="rect">
            <a:avLst/>
          </a:prstGeom>
          <a:ln w="0">
            <a:noFill/>
          </a:ln>
        </p:spPr>
      </p:pic>
      <p:pic>
        <p:nvPicPr>
          <p:cNvPr id="817" name="Picture 9" descr="logo_2004"/>
          <p:cNvPicPr/>
          <p:nvPr/>
        </p:nvPicPr>
        <p:blipFill>
          <a:blip r:embed="rId3"/>
          <a:stretch/>
        </p:blipFill>
        <p:spPr>
          <a:xfrm>
            <a:off x="7950240" y="5829480"/>
            <a:ext cx="965160" cy="914400"/>
          </a:xfrm>
          <a:prstGeom prst="rect">
            <a:avLst/>
          </a:prstGeom>
          <a:ln w="0">
            <a:noFill/>
          </a:ln>
        </p:spPr>
      </p:pic>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7" name="Picture 5" descr="Vertical_RGB_600"/>
          <p:cNvPicPr/>
          <p:nvPr/>
        </p:nvPicPr>
        <p:blipFill>
          <a:blip r:embed="rId2"/>
          <a:stretch/>
        </p:blipFill>
        <p:spPr>
          <a:xfrm>
            <a:off x="2600280" y="5010120"/>
            <a:ext cx="1673280" cy="1371600"/>
          </a:xfrm>
          <a:prstGeom prst="rect">
            <a:avLst/>
          </a:prstGeom>
          <a:ln w="0">
            <a:noFill/>
          </a:ln>
        </p:spPr>
      </p:pic>
      <p:pic>
        <p:nvPicPr>
          <p:cNvPr id="858" name="Picture 6" descr="logo_2004"/>
          <p:cNvPicPr/>
          <p:nvPr/>
        </p:nvPicPr>
        <p:blipFill>
          <a:blip r:embed="rId3"/>
          <a:stretch/>
        </p:blipFill>
        <p:spPr>
          <a:xfrm>
            <a:off x="4809960" y="5010120"/>
            <a:ext cx="1447920" cy="1371600"/>
          </a:xfrm>
          <a:prstGeom prst="rect">
            <a:avLst/>
          </a:prstGeom>
          <a:ln w="0">
            <a:noFill/>
          </a:ln>
        </p:spPr>
      </p:pic>
      <p:sp>
        <p:nvSpPr>
          <p:cNvPr id="8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9" name="Picture 8" descr="Vertical_RGB_600"/>
          <p:cNvPicPr/>
          <p:nvPr/>
        </p:nvPicPr>
        <p:blipFill>
          <a:blip r:embed="rId2"/>
          <a:stretch/>
        </p:blipFill>
        <p:spPr>
          <a:xfrm>
            <a:off x="6580080" y="5829480"/>
            <a:ext cx="1116000" cy="914400"/>
          </a:xfrm>
          <a:prstGeom prst="rect">
            <a:avLst/>
          </a:prstGeom>
          <a:ln w="0">
            <a:noFill/>
          </a:ln>
        </p:spPr>
      </p:pic>
      <p:pic>
        <p:nvPicPr>
          <p:cNvPr id="900" name="Picture 9" descr="logo_2004"/>
          <p:cNvPicPr/>
          <p:nvPr/>
        </p:nvPicPr>
        <p:blipFill>
          <a:blip r:embed="rId3"/>
          <a:stretch/>
        </p:blipFill>
        <p:spPr>
          <a:xfrm>
            <a:off x="7950240" y="5829480"/>
            <a:ext cx="965160" cy="914400"/>
          </a:xfrm>
          <a:prstGeom prst="rect">
            <a:avLst/>
          </a:prstGeom>
          <a:ln w="0">
            <a:noFill/>
          </a:ln>
        </p:spPr>
      </p:pic>
      <p:sp>
        <p:nvSpPr>
          <p:cNvPr id="9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0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03"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F92-CF0C-42FD-99B3-A3D84B6C759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04"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4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43" name="Picture 8" descr="Vertical_RGB_600"/>
          <p:cNvPicPr/>
          <p:nvPr/>
        </p:nvPicPr>
        <p:blipFill>
          <a:blip r:embed="rId2"/>
          <a:stretch/>
        </p:blipFill>
        <p:spPr>
          <a:xfrm>
            <a:off x="6580080" y="5829480"/>
            <a:ext cx="1116000" cy="914400"/>
          </a:xfrm>
          <a:prstGeom prst="rect">
            <a:avLst/>
          </a:prstGeom>
          <a:ln w="0">
            <a:noFill/>
          </a:ln>
        </p:spPr>
      </p:pic>
      <p:pic>
        <p:nvPicPr>
          <p:cNvPr id="944" name="Picture 9" descr="logo_2004"/>
          <p:cNvPicPr/>
          <p:nvPr/>
        </p:nvPicPr>
        <p:blipFill>
          <a:blip r:embed="rId3"/>
          <a:stretch/>
        </p:blipFill>
        <p:spPr>
          <a:xfrm>
            <a:off x="7950240" y="5829480"/>
            <a:ext cx="965160" cy="914400"/>
          </a:xfrm>
          <a:prstGeom prst="rect">
            <a:avLst/>
          </a:prstGeom>
          <a:ln w="0">
            <a:noFill/>
          </a:ln>
        </p:spPr>
      </p:pic>
      <p:sp>
        <p:nvSpPr>
          <p:cNvPr id="9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4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47"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F1FC-3C8B-4B4B-80C1-CE3EBD5D65F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48"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7" name="Picture 8" descr="Vertical_RGB_600"/>
          <p:cNvPicPr/>
          <p:nvPr/>
        </p:nvPicPr>
        <p:blipFill>
          <a:blip r:embed="rId2"/>
          <a:stretch/>
        </p:blipFill>
        <p:spPr>
          <a:xfrm>
            <a:off x="6580080" y="5829480"/>
            <a:ext cx="1116000" cy="914400"/>
          </a:xfrm>
          <a:prstGeom prst="rect">
            <a:avLst/>
          </a:prstGeom>
          <a:ln w="0">
            <a:noFill/>
          </a:ln>
        </p:spPr>
      </p:pic>
      <p:pic>
        <p:nvPicPr>
          <p:cNvPr id="988" name="Picture 9" descr="logo_2004"/>
          <p:cNvPicPr/>
          <p:nvPr/>
        </p:nvPicPr>
        <p:blipFill>
          <a:blip r:embed="rId3"/>
          <a:stretch/>
        </p:blipFill>
        <p:spPr>
          <a:xfrm>
            <a:off x="7950240" y="5829480"/>
            <a:ext cx="965160" cy="914400"/>
          </a:xfrm>
          <a:prstGeom prst="rect">
            <a:avLst/>
          </a:prstGeom>
          <a:ln w="0">
            <a:noFill/>
          </a:ln>
        </p:spPr>
      </p:pic>
      <p:sp>
        <p:nvSpPr>
          <p:cNvPr id="9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9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91"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3726-4B5D-468D-9EB6-CB54F3FD199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92"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1" name="Picture 8" descr="Vertical_RGB_600"/>
          <p:cNvPicPr/>
          <p:nvPr/>
        </p:nvPicPr>
        <p:blipFill>
          <a:blip r:embed="rId2"/>
          <a:stretch/>
        </p:blipFill>
        <p:spPr>
          <a:xfrm>
            <a:off x="6580080" y="5829480"/>
            <a:ext cx="1116000" cy="914400"/>
          </a:xfrm>
          <a:prstGeom prst="rect">
            <a:avLst/>
          </a:prstGeom>
          <a:ln w="0">
            <a:noFill/>
          </a:ln>
        </p:spPr>
      </p:pic>
      <p:pic>
        <p:nvPicPr>
          <p:cNvPr id="1032" name="Picture 9" descr="logo_2004"/>
          <p:cNvPicPr/>
          <p:nvPr/>
        </p:nvPicPr>
        <p:blipFill>
          <a:blip r:embed="rId3"/>
          <a:stretch/>
        </p:blipFill>
        <p:spPr>
          <a:xfrm>
            <a:off x="7950240" y="5829480"/>
            <a:ext cx="965160" cy="914400"/>
          </a:xfrm>
          <a:prstGeom prst="rect">
            <a:avLst/>
          </a:prstGeom>
          <a:ln w="0">
            <a:noFill/>
          </a:ln>
        </p:spPr>
      </p:pic>
      <p:sp>
        <p:nvSpPr>
          <p:cNvPr id="10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35"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2A5E-AEC2-4EA4-99F7-A370C355096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36"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7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5" name="Picture 8" descr="Vertical_RGB_600"/>
          <p:cNvPicPr/>
          <p:nvPr/>
        </p:nvPicPr>
        <p:blipFill>
          <a:blip r:embed="rId2"/>
          <a:stretch/>
        </p:blipFill>
        <p:spPr>
          <a:xfrm>
            <a:off x="6580080" y="5829480"/>
            <a:ext cx="1116000" cy="914400"/>
          </a:xfrm>
          <a:prstGeom prst="rect">
            <a:avLst/>
          </a:prstGeom>
          <a:ln w="0">
            <a:noFill/>
          </a:ln>
        </p:spPr>
      </p:pic>
      <p:pic>
        <p:nvPicPr>
          <p:cNvPr id="1076" name="Picture 9" descr="logo_2004"/>
          <p:cNvPicPr/>
          <p:nvPr/>
        </p:nvPicPr>
        <p:blipFill>
          <a:blip r:embed="rId3"/>
          <a:stretch/>
        </p:blipFill>
        <p:spPr>
          <a:xfrm>
            <a:off x="7950240" y="5829480"/>
            <a:ext cx="965160" cy="914400"/>
          </a:xfrm>
          <a:prstGeom prst="rect">
            <a:avLst/>
          </a:prstGeom>
          <a:ln w="0">
            <a:noFill/>
          </a:ln>
        </p:spPr>
      </p:pic>
      <p:sp>
        <p:nvSpPr>
          <p:cNvPr id="10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79"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E77C-79B1-4D70-B30C-5953DABB771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80"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9" name="Picture 8" descr="Vertical_RGB_600"/>
          <p:cNvPicPr/>
          <p:nvPr/>
        </p:nvPicPr>
        <p:blipFill>
          <a:blip r:embed="rId2"/>
          <a:stretch/>
        </p:blipFill>
        <p:spPr>
          <a:xfrm>
            <a:off x="6580080" y="5829480"/>
            <a:ext cx="1116000" cy="914400"/>
          </a:xfrm>
          <a:prstGeom prst="rect">
            <a:avLst/>
          </a:prstGeom>
          <a:ln w="0">
            <a:noFill/>
          </a:ln>
        </p:spPr>
      </p:pic>
      <p:pic>
        <p:nvPicPr>
          <p:cNvPr id="1120" name="Picture 9" descr="logo_2004"/>
          <p:cNvPicPr/>
          <p:nvPr/>
        </p:nvPicPr>
        <p:blipFill>
          <a:blip r:embed="rId3"/>
          <a:stretch/>
        </p:blipFill>
        <p:spPr>
          <a:xfrm>
            <a:off x="7950240" y="5829480"/>
            <a:ext cx="965160" cy="914400"/>
          </a:xfrm>
          <a:prstGeom prst="rect">
            <a:avLst/>
          </a:prstGeom>
          <a:ln w="0">
            <a:noFill/>
          </a:ln>
        </p:spPr>
      </p:pic>
      <p:sp>
        <p:nvSpPr>
          <p:cNvPr id="1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2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23"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6824-9BB9-4F34-8D39-BBD9E502DE6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24"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6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3" name="Picture 8" descr="Vertical_RGB_600"/>
          <p:cNvPicPr/>
          <p:nvPr/>
        </p:nvPicPr>
        <p:blipFill>
          <a:blip r:embed="rId2"/>
          <a:stretch/>
        </p:blipFill>
        <p:spPr>
          <a:xfrm>
            <a:off x="6580080" y="5829480"/>
            <a:ext cx="1116000" cy="914400"/>
          </a:xfrm>
          <a:prstGeom prst="rect">
            <a:avLst/>
          </a:prstGeom>
          <a:ln w="0">
            <a:noFill/>
          </a:ln>
        </p:spPr>
      </p:pic>
      <p:pic>
        <p:nvPicPr>
          <p:cNvPr id="1164" name="Picture 9" descr="logo_2004"/>
          <p:cNvPicPr/>
          <p:nvPr/>
        </p:nvPicPr>
        <p:blipFill>
          <a:blip r:embed="rId3"/>
          <a:stretch/>
        </p:blipFill>
        <p:spPr>
          <a:xfrm>
            <a:off x="7950240" y="5829480"/>
            <a:ext cx="965160" cy="914400"/>
          </a:xfrm>
          <a:prstGeom prst="rect">
            <a:avLst/>
          </a:prstGeom>
          <a:ln w="0">
            <a:noFill/>
          </a:ln>
        </p:spPr>
      </p:pic>
      <p:sp>
        <p:nvSpPr>
          <p:cNvPr id="1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67"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8F27-E5AB-4A20-AB81-C75F045CC3C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68"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7" name="Picture 8" descr="Vertical_RGB_600"/>
          <p:cNvPicPr/>
          <p:nvPr/>
        </p:nvPicPr>
        <p:blipFill>
          <a:blip r:embed="rId2"/>
          <a:stretch/>
        </p:blipFill>
        <p:spPr>
          <a:xfrm>
            <a:off x="6580080" y="5829480"/>
            <a:ext cx="1116000" cy="914400"/>
          </a:xfrm>
          <a:prstGeom prst="rect">
            <a:avLst/>
          </a:prstGeom>
          <a:ln w="0">
            <a:noFill/>
          </a:ln>
        </p:spPr>
      </p:pic>
      <p:pic>
        <p:nvPicPr>
          <p:cNvPr id="1208" name="Picture 9" descr="logo_2004"/>
          <p:cNvPicPr/>
          <p:nvPr/>
        </p:nvPicPr>
        <p:blipFill>
          <a:blip r:embed="rId3"/>
          <a:stretch/>
        </p:blipFill>
        <p:spPr>
          <a:xfrm>
            <a:off x="7950240" y="5829480"/>
            <a:ext cx="965160" cy="914400"/>
          </a:xfrm>
          <a:prstGeom prst="rect">
            <a:avLst/>
          </a:prstGeom>
          <a:ln w="0">
            <a:noFill/>
          </a:ln>
        </p:spPr>
      </p:pic>
      <p:sp>
        <p:nvSpPr>
          <p:cNvPr id="12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1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11"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725E-A1D1-42AD-B5E7-0EA04964ADF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12"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14E8-D01D-4478-8678-9E109946940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pic>
        <p:nvPicPr>
          <p:cNvPr id="85" name="Picture 2" descr=""/>
          <p:cNvPicPr/>
          <p:nvPr/>
        </p:nvPicPr>
        <p:blipFill>
          <a:blip r:embed="rId4"/>
          <a:stretch/>
        </p:blipFill>
        <p:spPr>
          <a:xfrm>
            <a:off x="4772160" y="5778360"/>
            <a:ext cx="1511280" cy="93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1" name="Picture 8" descr="Vertical_RGB_600"/>
          <p:cNvPicPr/>
          <p:nvPr/>
        </p:nvPicPr>
        <p:blipFill>
          <a:blip r:embed="rId2"/>
          <a:stretch/>
        </p:blipFill>
        <p:spPr>
          <a:xfrm>
            <a:off x="6580080" y="5829480"/>
            <a:ext cx="1116000" cy="914400"/>
          </a:xfrm>
          <a:prstGeom prst="rect">
            <a:avLst/>
          </a:prstGeom>
          <a:ln w="0">
            <a:noFill/>
          </a:ln>
        </p:spPr>
      </p:pic>
      <p:pic>
        <p:nvPicPr>
          <p:cNvPr id="1252" name="Picture 9" descr="logo_2004"/>
          <p:cNvPicPr/>
          <p:nvPr/>
        </p:nvPicPr>
        <p:blipFill>
          <a:blip r:embed="rId3"/>
          <a:stretch/>
        </p:blipFill>
        <p:spPr>
          <a:xfrm>
            <a:off x="7950240" y="5829480"/>
            <a:ext cx="965160" cy="914400"/>
          </a:xfrm>
          <a:prstGeom prst="rect">
            <a:avLst/>
          </a:prstGeom>
          <a:ln w="0">
            <a:noFill/>
          </a:ln>
        </p:spPr>
      </p:pic>
      <p:sp>
        <p:nvSpPr>
          <p:cNvPr id="1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5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55"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860F-0204-40F3-8F5F-420D41CF97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56"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9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5" name="Picture 8" descr="Vertical_RGB_600"/>
          <p:cNvPicPr/>
          <p:nvPr/>
        </p:nvPicPr>
        <p:blipFill>
          <a:blip r:embed="rId2"/>
          <a:stretch/>
        </p:blipFill>
        <p:spPr>
          <a:xfrm>
            <a:off x="6580080" y="5829480"/>
            <a:ext cx="1116000" cy="914400"/>
          </a:xfrm>
          <a:prstGeom prst="rect">
            <a:avLst/>
          </a:prstGeom>
          <a:ln w="0">
            <a:noFill/>
          </a:ln>
        </p:spPr>
      </p:pic>
      <p:pic>
        <p:nvPicPr>
          <p:cNvPr id="1296" name="Picture 9" descr="logo_2004"/>
          <p:cNvPicPr/>
          <p:nvPr/>
        </p:nvPicPr>
        <p:blipFill>
          <a:blip r:embed="rId3"/>
          <a:stretch/>
        </p:blipFill>
        <p:spPr>
          <a:xfrm>
            <a:off x="7950240" y="5829480"/>
            <a:ext cx="965160" cy="914400"/>
          </a:xfrm>
          <a:prstGeom prst="rect">
            <a:avLst/>
          </a:prstGeom>
          <a:ln w="0">
            <a:noFill/>
          </a:ln>
        </p:spPr>
      </p:pic>
      <p:sp>
        <p:nvSpPr>
          <p:cNvPr id="1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9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9"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0C5F-5E1C-46FF-BE38-4E677C0BE48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00"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9" name="Picture 8" descr="Vertical_RGB_600"/>
          <p:cNvPicPr/>
          <p:nvPr/>
        </p:nvPicPr>
        <p:blipFill>
          <a:blip r:embed="rId2"/>
          <a:stretch/>
        </p:blipFill>
        <p:spPr>
          <a:xfrm>
            <a:off x="6580080" y="5829480"/>
            <a:ext cx="1116000" cy="914400"/>
          </a:xfrm>
          <a:prstGeom prst="rect">
            <a:avLst/>
          </a:prstGeom>
          <a:ln w="0">
            <a:noFill/>
          </a:ln>
        </p:spPr>
      </p:pic>
      <p:pic>
        <p:nvPicPr>
          <p:cNvPr id="1340" name="Picture 9" descr="logo_2004"/>
          <p:cNvPicPr/>
          <p:nvPr/>
        </p:nvPicPr>
        <p:blipFill>
          <a:blip r:embed="rId3"/>
          <a:stretch/>
        </p:blipFill>
        <p:spPr>
          <a:xfrm>
            <a:off x="7950240" y="5829480"/>
            <a:ext cx="965160" cy="914400"/>
          </a:xfrm>
          <a:prstGeom prst="rect">
            <a:avLst/>
          </a:prstGeom>
          <a:ln w="0">
            <a:noFill/>
          </a:ln>
        </p:spPr>
      </p:pic>
      <p:sp>
        <p:nvSpPr>
          <p:cNvPr id="1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4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1"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181D-7CB0-42C4-BF4E-ED5E340E3EA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6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4" name="Picture 8" descr="Vertical_RGB_600"/>
          <p:cNvPicPr/>
          <p:nvPr/>
        </p:nvPicPr>
        <p:blipFill>
          <a:blip r:embed="rId2"/>
          <a:stretch/>
        </p:blipFill>
        <p:spPr>
          <a:xfrm>
            <a:off x="6580080" y="5829480"/>
            <a:ext cx="1116000" cy="914400"/>
          </a:xfrm>
          <a:prstGeom prst="rect">
            <a:avLst/>
          </a:prstGeom>
          <a:ln w="0">
            <a:noFill/>
          </a:ln>
        </p:spPr>
      </p:pic>
      <p:pic>
        <p:nvPicPr>
          <p:cNvPr id="16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5"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C8B6-60A8-4F0C-9B7B-D64EB51276D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Picture 8" descr="Vertical_RGB_600"/>
          <p:cNvPicPr/>
          <p:nvPr/>
        </p:nvPicPr>
        <p:blipFill>
          <a:blip r:embed="rId2"/>
          <a:stretch/>
        </p:blipFill>
        <p:spPr>
          <a:xfrm>
            <a:off x="6580080" y="5829480"/>
            <a:ext cx="1116000" cy="914400"/>
          </a:xfrm>
          <a:prstGeom prst="rect">
            <a:avLst/>
          </a:prstGeom>
          <a:ln w="0">
            <a:noFill/>
          </a:ln>
        </p:spPr>
      </p:pic>
      <p:pic>
        <p:nvPicPr>
          <p:cNvPr id="209"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7" name="Picture 5" descr="Vertical_RGB_600"/>
          <p:cNvPicPr/>
          <p:nvPr/>
        </p:nvPicPr>
        <p:blipFill>
          <a:blip r:embed="rId2"/>
          <a:stretch/>
        </p:blipFill>
        <p:spPr>
          <a:xfrm>
            <a:off x="4465800" y="5005440"/>
            <a:ext cx="1672920" cy="1371600"/>
          </a:xfrm>
          <a:prstGeom prst="rect">
            <a:avLst/>
          </a:prstGeom>
          <a:ln w="0">
            <a:noFill/>
          </a:ln>
        </p:spPr>
      </p:pic>
      <p:pic>
        <p:nvPicPr>
          <p:cNvPr id="248" name="Picture 6" descr="logo_2004"/>
          <p:cNvPicPr/>
          <p:nvPr/>
        </p:nvPicPr>
        <p:blipFill>
          <a:blip r:embed="rId3"/>
          <a:stretch/>
        </p:blipFill>
        <p:spPr>
          <a:xfrm>
            <a:off x="7504200" y="5021280"/>
            <a:ext cx="1447560" cy="1371600"/>
          </a:xfrm>
          <a:prstGeom prst="rect">
            <a:avLst/>
          </a:prstGeom>
          <a:ln w="0">
            <a:noFill/>
          </a:ln>
        </p:spPr>
      </p:pic>
      <p:pic>
        <p:nvPicPr>
          <p:cNvPr id="249" name="Picture 13" descr=""/>
          <p:cNvPicPr/>
          <p:nvPr/>
        </p:nvPicPr>
        <p:blipFill>
          <a:blip r:embed="rId4"/>
          <a:stretch/>
        </p:blipFill>
        <p:spPr>
          <a:xfrm>
            <a:off x="1871640" y="5295960"/>
            <a:ext cx="758880" cy="911160"/>
          </a:xfrm>
          <a:prstGeom prst="rect">
            <a:avLst/>
          </a:prstGeom>
          <a:ln w="0">
            <a:noFill/>
          </a:ln>
        </p:spPr>
      </p:pic>
      <p:sp>
        <p:nvSpPr>
          <p:cNvPr id="250"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5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9"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0" name="Picture 5" descr="Vertical_RGB_600"/>
          <p:cNvPicPr/>
          <p:nvPr/>
        </p:nvPicPr>
        <p:blipFill>
          <a:blip r:embed="rId2"/>
          <a:stretch/>
        </p:blipFill>
        <p:spPr>
          <a:xfrm>
            <a:off x="4097160" y="5200560"/>
            <a:ext cx="1673280" cy="1371600"/>
          </a:xfrm>
          <a:prstGeom prst="rect">
            <a:avLst/>
          </a:prstGeom>
          <a:ln w="0">
            <a:noFill/>
          </a:ln>
        </p:spPr>
      </p:pic>
      <p:pic>
        <p:nvPicPr>
          <p:cNvPr id="291" name="Picture 6" descr="logo_2004"/>
          <p:cNvPicPr/>
          <p:nvPr/>
        </p:nvPicPr>
        <p:blipFill>
          <a:blip r:embed="rId3"/>
          <a:stretch/>
        </p:blipFill>
        <p:spPr>
          <a:xfrm>
            <a:off x="6559560" y="5200560"/>
            <a:ext cx="1447920" cy="1371600"/>
          </a:xfrm>
          <a:prstGeom prst="rect">
            <a:avLst/>
          </a:prstGeom>
          <a:ln w="0">
            <a:noFill/>
          </a:ln>
        </p:spPr>
      </p:pic>
      <p:pic>
        <p:nvPicPr>
          <p:cNvPr id="292" name="Picture 13" descr=""/>
          <p:cNvPicPr/>
          <p:nvPr/>
        </p:nvPicPr>
        <p:blipFill>
          <a:blip r:embed="rId4"/>
          <a:stretch/>
        </p:blipFill>
        <p:spPr>
          <a:xfrm>
            <a:off x="879480" y="4965840"/>
            <a:ext cx="2793960" cy="1644480"/>
          </a:xfrm>
          <a:prstGeom prst="rect">
            <a:avLst/>
          </a:prstGeom>
          <a:ln w="0">
            <a:noFill/>
          </a:ln>
        </p:spPr>
      </p:pic>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3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2" name="Picture 5" descr="Vertical_RGB_600"/>
          <p:cNvPicPr/>
          <p:nvPr/>
        </p:nvPicPr>
        <p:blipFill>
          <a:blip r:embed="rId2"/>
          <a:stretch/>
        </p:blipFill>
        <p:spPr>
          <a:xfrm>
            <a:off x="2600280" y="5010120"/>
            <a:ext cx="1673280" cy="1371600"/>
          </a:xfrm>
          <a:prstGeom prst="rect">
            <a:avLst/>
          </a:prstGeom>
          <a:ln w="0">
            <a:noFill/>
          </a:ln>
        </p:spPr>
      </p:pic>
      <p:pic>
        <p:nvPicPr>
          <p:cNvPr id="333" name="Picture 6" descr="logo_2004"/>
          <p:cNvPicPr/>
          <p:nvPr/>
        </p:nvPicPr>
        <p:blipFill>
          <a:blip r:embed="rId3"/>
          <a:stretch/>
        </p:blipFill>
        <p:spPr>
          <a:xfrm>
            <a:off x="4809960" y="5010120"/>
            <a:ext cx="1447920" cy="1371600"/>
          </a:xfrm>
          <a:prstGeom prst="rect">
            <a:avLst/>
          </a:prstGeom>
          <a:ln w="0">
            <a:noFill/>
          </a:ln>
        </p:spPr>
      </p:pic>
      <p:sp>
        <p:nvSpPr>
          <p:cNvPr id="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690480" y="108252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Session 1: The Case For Leadership and DDU</a:t>
            </a:r>
            <a:br>
              <a:rPr sz="4800"/>
            </a:br>
            <a:br>
              <a:rPr sz="4800"/>
            </a:br>
            <a:r>
              <a:rPr b="0" lang="en-US" sz="2400" spc="-1" strike="noStrike">
                <a:solidFill>
                  <a:srgbClr val="ffffff"/>
                </a:solidFill>
                <a:latin typeface="Arial"/>
                <a:ea typeface="Arial"/>
              </a:rPr>
              <a:t>Building Leadership for Data Demand and U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 - Leadership</a:t>
            </a:r>
            <a:endParaRPr b="1" lang="en-US" sz="3600" spc="-1" strike="noStrike">
              <a:solidFill>
                <a:srgbClr val="ffffff"/>
              </a:solidFill>
              <a:latin typeface="Arial"/>
            </a:endParaRPr>
          </a:p>
        </p:txBody>
      </p:sp>
      <p:sp>
        <p:nvSpPr>
          <p:cNvPr id="140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t of </a:t>
            </a:r>
            <a:r>
              <a:rPr b="0" lang="en-US" sz="2600" spc="-1" strike="noStrike" u="sng">
                <a:solidFill>
                  <a:srgbClr val="ffffff"/>
                </a:solidFill>
                <a:uFillTx/>
                <a:latin typeface="Arial"/>
              </a:rPr>
              <a:t>learned behaviors </a:t>
            </a:r>
            <a:r>
              <a:rPr b="0" lang="en-US" sz="2600" spc="-1" strike="noStrike">
                <a:solidFill>
                  <a:srgbClr val="ffffff"/>
                </a:solidFill>
                <a:latin typeface="Arial"/>
              </a:rPr>
              <a:t>that allows a person </a:t>
            </a:r>
            <a:r>
              <a:rPr b="0" lang="en-US" sz="2600" spc="-1" strike="noStrike" u="sng">
                <a:solidFill>
                  <a:srgbClr val="ffffff"/>
                </a:solidFill>
                <a:uFillTx/>
                <a:latin typeface="Arial"/>
              </a:rPr>
              <a:t>at any level</a:t>
            </a:r>
            <a:r>
              <a:rPr b="0" lang="en-US" sz="2600" spc="-1" strike="noStrike">
                <a:solidFill>
                  <a:srgbClr val="ffffff"/>
                </a:solidFill>
                <a:latin typeface="Arial"/>
              </a:rPr>
              <a:t> in an organization to contribute to organizational </a:t>
            </a:r>
            <a:r>
              <a:rPr b="0" lang="en-US" sz="2600" spc="-1" strike="noStrike" u="sng">
                <a:solidFill>
                  <a:srgbClr val="ffffff"/>
                </a:solidFill>
                <a:uFillTx/>
                <a:latin typeface="Arial"/>
              </a:rPr>
              <a:t>results</a:t>
            </a:r>
            <a:r>
              <a:rPr b="0" lang="en-US" sz="2600" spc="-1" strike="noStrike">
                <a:solidFill>
                  <a:srgbClr val="ffffff"/>
                </a:solidFill>
                <a:latin typeface="Arial"/>
              </a:rPr>
              <a:t> and facilitate the success of those around him or her (in the tea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ership &amp; DDU Linkage</a:t>
            </a:r>
            <a:endParaRPr b="1" lang="en-US" sz="3600" spc="-1" strike="noStrike">
              <a:solidFill>
                <a:srgbClr val="ffffff"/>
              </a:solidFill>
              <a:latin typeface="Arial"/>
            </a:endParaRPr>
          </a:p>
        </p:txBody>
      </p:sp>
      <p:sp>
        <p:nvSpPr>
          <p:cNvPr id="140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dership &amp; DDU require team effor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dership is key to implementing a DDU strateg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dership skills &amp; DDU practices create sustainable data-informed decision mak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lture Change &amp; What It Takes</a:t>
            </a:r>
            <a:endParaRPr b="1" lang="en-US" sz="3600" spc="-1" strike="noStrike">
              <a:solidFill>
                <a:srgbClr val="ffffff"/>
              </a:solidFill>
              <a:latin typeface="Arial"/>
            </a:endParaRPr>
          </a:p>
        </p:txBody>
      </p:sp>
      <p:sp>
        <p:nvSpPr>
          <p:cNvPr id="140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 the process for making information use a part of your organizational cultur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lture change takes tim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lture change requires leadershi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641160" y="2948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Informed Decision Making Process</a:t>
            </a:r>
            <a:endParaRPr b="1" lang="en-US" sz="3600" spc="-1" strike="noStrike">
              <a:solidFill>
                <a:srgbClr val="ffffff"/>
              </a:solidFill>
              <a:latin typeface="Arial"/>
            </a:endParaRPr>
          </a:p>
        </p:txBody>
      </p:sp>
      <p:pic>
        <p:nvPicPr>
          <p:cNvPr id="1410" name="Picture 3" descr="measure flowchart"/>
          <p:cNvPicPr/>
          <p:nvPr/>
        </p:nvPicPr>
        <p:blipFill>
          <a:blip r:embed="rId1"/>
          <a:stretch/>
        </p:blipFill>
        <p:spPr>
          <a:xfrm>
            <a:off x="1509840" y="1627200"/>
            <a:ext cx="6124320" cy="387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p:nvPr>
        </p:nvSpPr>
        <p:spPr>
          <a:xfrm>
            <a:off x="657000" y="742680"/>
            <a:ext cx="7762680" cy="4647960"/>
          </a:xfrm>
          <a:prstGeom prst="rect">
            <a:avLst/>
          </a:prstGeom>
          <a:noFill/>
          <a:ln w="0">
            <a:noFill/>
          </a:ln>
        </p:spPr>
        <p:txBody>
          <a:bodyPr anchor="t">
            <a:normAutofit/>
          </a:bodyPr>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200" spc="-1" strike="noStrike">
              <a:solidFill>
                <a:srgbClr val="ffffff"/>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1: Learning Objectives</a:t>
            </a:r>
            <a:endParaRPr b="1" lang="en-US" sz="3600" spc="-1" strike="noStrike">
              <a:solidFill>
                <a:srgbClr val="ffffff"/>
              </a:solidFill>
              <a:latin typeface="Arial"/>
            </a:endParaRPr>
          </a:p>
        </p:txBody>
      </p:sp>
      <p:sp>
        <p:nvSpPr>
          <p:cNvPr id="1388"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demand and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between the two</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 of these topic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 chan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812880" y="274320"/>
            <a:ext cx="7873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 Demand &amp; Use?</a:t>
            </a:r>
            <a:endParaRPr b="1" lang="en-US" sz="3600" spc="-1" strike="noStrike">
              <a:solidFill>
                <a:srgbClr val="ffffff"/>
              </a:solidFill>
              <a:latin typeface="Arial"/>
            </a:endParaRPr>
          </a:p>
        </p:txBody>
      </p:sp>
      <p:pic>
        <p:nvPicPr>
          <p:cNvPr id="1390" name="Picture 4" descr=""/>
          <p:cNvPicPr/>
          <p:nvPr/>
        </p:nvPicPr>
        <p:blipFill>
          <a:blip r:embed="rId1"/>
          <a:stretch/>
        </p:blipFill>
        <p:spPr>
          <a:xfrm>
            <a:off x="2173320" y="1600200"/>
            <a:ext cx="5264280" cy="3962520"/>
          </a:xfrm>
          <a:prstGeom prst="rect">
            <a:avLst/>
          </a:prstGeom>
          <a:ln w="0">
            <a:noFill/>
          </a:ln>
        </p:spPr>
      </p:pic>
      <p:sp>
        <p:nvSpPr>
          <p:cNvPr id="1391" name="TextBox 5"/>
          <p:cNvSpPr/>
          <p:nvPr/>
        </p:nvSpPr>
        <p:spPr>
          <a:xfrm>
            <a:off x="1828800" y="1550880"/>
            <a:ext cx="5805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sing need to develop health policies, strategies, and interven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3"/>
          <p:cNvSpPr/>
          <p:nvPr/>
        </p:nvSpPr>
        <p:spPr>
          <a:xfrm>
            <a:off x="1266840" y="1395360"/>
            <a:ext cx="647064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ional-level Policymaker, Nige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756720" y="288720"/>
            <a:ext cx="789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 Demand &amp; Use? </a:t>
            </a:r>
            <a:endParaRPr b="1" lang="en-US" sz="3600" spc="-1" strike="noStrike">
              <a:solidFill>
                <a:srgbClr val="ffffff"/>
              </a:solidFill>
              <a:latin typeface="Arial"/>
            </a:endParaRPr>
          </a:p>
        </p:txBody>
      </p:sp>
      <p:sp>
        <p:nvSpPr>
          <p:cNvPr id="1394" name=""/>
          <p:cNvSpPr txBox="1"/>
          <p:nvPr/>
        </p:nvSpPr>
        <p:spPr>
          <a:xfrm>
            <a:off x="742680" y="1628280"/>
            <a:ext cx="77626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inancial investments for service delivery</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accountability requirement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national HMI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demand for evaluation and other researc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5" name="Picture 2" descr=""/>
          <p:cNvPicPr/>
          <p:nvPr/>
        </p:nvPicPr>
        <p:blipFill>
          <a:blip r:embed="rId1"/>
          <a:stretch/>
        </p:blipFill>
        <p:spPr>
          <a:xfrm>
            <a:off x="1012680" y="1157400"/>
            <a:ext cx="7137720" cy="4214880"/>
          </a:xfrm>
          <a:prstGeom prst="rect">
            <a:avLst/>
          </a:prstGeom>
          <a:ln w="0">
            <a:noFill/>
          </a:ln>
        </p:spPr>
      </p:pic>
      <p:sp>
        <p:nvSpPr>
          <p:cNvPr id="1396" name="PlaceHolder 1"/>
          <p:cNvSpPr>
            <a:spLocks noGrp="1"/>
          </p:cNvSpPr>
          <p:nvPr>
            <p:ph type="title"/>
          </p:nvPr>
        </p:nvSpPr>
        <p:spPr>
          <a:xfrm>
            <a:off x="618840" y="2361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 Demand &amp; Use?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 – Data Use</a:t>
            </a:r>
            <a:endParaRPr b="1" lang="en-US" sz="3600" spc="-1" strike="noStrike">
              <a:solidFill>
                <a:srgbClr val="ffffff"/>
              </a:solidFill>
              <a:latin typeface="Arial"/>
            </a:endParaRPr>
          </a:p>
        </p:txBody>
      </p:sp>
      <p:sp>
        <p:nvSpPr>
          <p:cNvPr id="1398" name=""/>
          <p:cNvSpPr txBox="1"/>
          <p:nvPr/>
        </p:nvSpPr>
        <p:spPr>
          <a:xfrm>
            <a:off x="923760" y="1599840"/>
            <a:ext cx="7763040" cy="3962520"/>
          </a:xfrm>
          <a:prstGeom prst="rect">
            <a:avLst/>
          </a:prstGeom>
          <a:noFill/>
          <a:ln w="0">
            <a:noFill/>
          </a:ln>
        </p:spPr>
        <p:txBody>
          <a:bodyPr anchor="t">
            <a:normAutofit fontScale="99000"/>
          </a:bodyPr>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data in the decision making process</a:t>
            </a:r>
            <a:endParaRPr b="0" lang="en-US" sz="28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or revise a program or strategic plan</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or revise a policy</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ocate for a policy or program</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e resources </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 program</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must be linked to a specific decision making process</a:t>
            </a:r>
            <a:endParaRPr b="0" lang="en-US" sz="24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98">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9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98">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98">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98">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 – Data Demand</a:t>
            </a:r>
            <a:endParaRPr b="1" lang="en-US" sz="3600" spc="-1" strike="noStrike">
              <a:solidFill>
                <a:srgbClr val="ffffff"/>
              </a:solidFill>
              <a:latin typeface="Arial"/>
            </a:endParaRPr>
          </a:p>
        </p:txBody>
      </p:sp>
      <p:sp>
        <p:nvSpPr>
          <p:cNvPr id="1400"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makers specify what kind of information they need to inform the decision making process &amp; seek it out</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630360" y="274320"/>
            <a:ext cx="834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 – Data Users &amp; Producers</a:t>
            </a:r>
            <a:endParaRPr b="1" lang="en-US" sz="3600" spc="-1" strike="noStrike">
              <a:solidFill>
                <a:srgbClr val="ffffff"/>
              </a:solidFill>
              <a:latin typeface="Arial"/>
            </a:endParaRPr>
          </a:p>
        </p:txBody>
      </p:sp>
      <p:sp>
        <p:nvSpPr>
          <p:cNvPr id="1402" name=""/>
          <p:cNvSpPr txBox="1"/>
          <p:nvPr/>
        </p:nvSpPr>
        <p:spPr>
          <a:xfrm>
            <a:off x="923760" y="1599840"/>
            <a:ext cx="7763040" cy="3962520"/>
          </a:xfrm>
          <a:prstGeom prst="rect">
            <a:avLst/>
          </a:prstGeom>
          <a:noFill/>
          <a:ln w="0">
            <a:noFill/>
          </a:ln>
        </p:spPr>
        <p:txBody>
          <a:bodyPr anchor="t">
            <a:norm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users</a:t>
            </a:r>
            <a:endParaRPr b="0" lang="en-US" sz="2800" spc="-1" strike="noStrike">
              <a:solidFill>
                <a:srgbClr val="ffffff"/>
              </a:solidFill>
              <a:latin typeface="Arial"/>
            </a:endParaRPr>
          </a:p>
          <a:p>
            <a:pPr>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that use data to inform the design, implementation, monitoring, and improvement of health programs</a:t>
            </a:r>
            <a:endParaRPr b="0" lang="en-US" sz="24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producers</a:t>
            </a:r>
            <a:endParaRPr b="0" lang="en-US" sz="2600" spc="-1" strike="noStrike">
              <a:solidFill>
                <a:srgbClr val="ffffff"/>
              </a:solidFill>
              <a:latin typeface="Arial"/>
            </a:endParaRPr>
          </a:p>
          <a:p>
            <a:pPr>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that acquire and analyze health data, and prepare it for distribution to audiences of users </a:t>
            </a:r>
            <a:endParaRPr b="0" lang="en-US" sz="24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Not mutually exclus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Samhita</cp:lastModifiedBy>
  <cp:lastPrinted>2010-09-27T20:39:52Z</cp:lastPrinted>
  <dcterms:modified xsi:type="dcterms:W3CDTF">2013-04-25T18:30:02Z</dcterms:modified>
  <cp:revision>261</cp:revision>
  <dc:subject/>
  <dc:title>Slide 1</dc:title>
</cp:coreProperties>
</file>