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97"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98" name="PlaceHolder 2"/>
          <p:cNvSpPr>
            <a:spLocks noGrp="1"/>
          </p:cNvSpPr>
          <p:nvPr>
            <p:ph type="dt" idx="55"/>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99"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400"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1" name="PlaceHolder 5"/>
          <p:cNvSpPr>
            <a:spLocks noGrp="1"/>
          </p:cNvSpPr>
          <p:nvPr>
            <p:ph type="ftr" idx="56"/>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02" name="PlaceHolder 6"/>
          <p:cNvSpPr>
            <a:spLocks noGrp="1"/>
          </p:cNvSpPr>
          <p:nvPr>
            <p:ph type="sldNum" idx="57"/>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4B04-12D2-485A-9B96-97139EC9B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0B29-FE1B-41DE-B35D-3EE65C512B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3" name="PlaceHolder 1"/>
          <p:cNvSpPr>
            <a:spLocks noGrp="1"/>
          </p:cNvSpPr>
          <p:nvPr>
            <p:ph type="sldImg"/>
          </p:nvPr>
        </p:nvSpPr>
        <p:spPr>
          <a:xfrm>
            <a:off x="1181160" y="698400"/>
            <a:ext cx="4648320" cy="3486240"/>
          </a:xfrm>
          <a:prstGeom prst="rect">
            <a:avLst/>
          </a:prstGeom>
          <a:ln w="0">
            <a:noFill/>
          </a:ln>
        </p:spPr>
      </p:sp>
      <p:sp>
        <p:nvSpPr>
          <p:cNvPr id="147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are going to discuss the context of decision making.  Specifically we will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involved i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ffects decision makin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trengthen decision making to ensure that it is data inform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81160" y="698400"/>
            <a:ext cx="4648320" cy="3486240"/>
          </a:xfrm>
          <a:prstGeom prst="rect">
            <a:avLst/>
          </a:prstGeom>
          <a:ln w="0">
            <a:noFill/>
          </a:ln>
        </p:spPr>
      </p:sp>
      <p:sp>
        <p:nvSpPr>
          <p:cNvPr id="150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scuss the role of data in the context of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 the context of decision making refers to (CLICK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motion of available data sources that meet the information needs of potential users and outlining the types of information contained in each sour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ing access to data resources so they can be easily 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ing regular sharing and feedback to improve the flow of information in a country.</a:t>
            </a:r>
            <a:endParaRPr b="0" lang="en-US" sz="1200" spc="-1" strike="noStrike">
              <a:solidFill>
                <a:srgbClr val="000000"/>
              </a:solidFill>
              <a:latin typeface="Arial"/>
            </a:endParaRPr>
          </a:p>
        </p:txBody>
      </p:sp>
      <p:sp>
        <p:nvSpPr>
          <p:cNvPr id="150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C528-E7FE-4EA8-B073-E6C132134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34EE-8A58-437B-804A-4835E0057C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3" name="PlaceHolder 1"/>
          <p:cNvSpPr>
            <a:spLocks noGrp="1"/>
          </p:cNvSpPr>
          <p:nvPr>
            <p:ph type="sldImg"/>
          </p:nvPr>
        </p:nvSpPr>
        <p:spPr>
          <a:xfrm>
            <a:off x="1181160" y="698400"/>
            <a:ext cx="4648320" cy="3486240"/>
          </a:xfrm>
          <a:prstGeom prst="rect">
            <a:avLst/>
          </a:prstGeom>
          <a:ln w="0">
            <a:noFill/>
          </a:ln>
        </p:spPr>
      </p:sp>
      <p:sp>
        <p:nvSpPr>
          <p:cNvPr id="150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there are many sources of data and information that we can use in decision making, from the national level to the facility level, and even from ourselves as consumers or beneficiaries of health services. We have listed some of the more common sources on this slide.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illanc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surv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ies-level service statistics (R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and managem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estimates, and proj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B3F4-BC9E-4081-B52B-174EE919E0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6" name="PlaceHolder 1"/>
          <p:cNvSpPr>
            <a:spLocks noGrp="1"/>
          </p:cNvSpPr>
          <p:nvPr>
            <p:ph type="sldImg"/>
          </p:nvPr>
        </p:nvSpPr>
        <p:spPr>
          <a:xfrm>
            <a:off x="1181160" y="698400"/>
            <a:ext cx="4648320" cy="3486240"/>
          </a:xfrm>
          <a:prstGeom prst="rect">
            <a:avLst/>
          </a:prstGeom>
          <a:ln w="0">
            <a:noFill/>
          </a:ln>
        </p:spPr>
      </p:sp>
      <p:sp>
        <p:nvSpPr>
          <p:cNvPr id="150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Flow is an important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re often not used because of issues related to flow, or the way in which data is collected, compiled, stored, analyzed, and reported throughout the hierarchy of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ata are not used locally – Instead they are tallied and reported up to the regional and national levels, but rarely analyzed and used to support mid-course corrections at the level at which they were gene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situations, data could be used to investigate trends over time, compare different areas, set priorities and goals for future years, compare progress against defined goals, and advocate for funding or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ther reasons to consider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r-level information does not return back to the loc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 District and Regional officers might know from local clinic data available that contraception rates are declining, but they may not know why.  This may initiate further action of bringing all of the information sources and stakeholders together to determine possibl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data are not assessed in broad context – or show the big picture of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a province has been struggling to reach their service delivery targets.  They are only reaching 40% of the population in need when the target is 80%.  Meanwhile 2 of the 6 districts in that province are reaching their target.  If data were shared between districts, the low-performing districts would see that their neighbors were reaching their service delivery goals. This information could spark a discussion and sharing of 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is little incentive to produce high-qualit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volved in local-level data collection efforts often do not see the purpose in collecting the data. They have a difficult time appreciating their role in the larger context of the health information chain and, as a result, spend less energy in collecting the data and paying attention to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assess information flow and improve it so that data are available to all decision mak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81160" y="698400"/>
            <a:ext cx="4648320" cy="3486240"/>
          </a:xfrm>
          <a:prstGeom prst="rect">
            <a:avLst/>
          </a:prstGeom>
          <a:ln w="0">
            <a:noFill/>
          </a:ln>
        </p:spPr>
      </p:sp>
      <p:sp>
        <p:nvSpPr>
          <p:cNvPr id="150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Use Mapping tool was primarily created in response to these problems commonly encountered in health services.  Data is often collected and reported, but it never seems to be used, especially at the local level where services are deli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idea behind the tool was to help those at the service delivery level, who may collect and report data, to visually see how this data can be translated into information that can be used to improve their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all stakeholder groups that collect data on health service delivery understand how that data is eventually interpreted and used to make changes to the healthcar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facilities that collect data can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ways they can use the information to improve their service delivery effort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missed opportunities for feedback from other stakeholder groups who conduct data analysis and interpretation. </a:t>
            </a:r>
            <a:endParaRPr b="0" lang="en-US" sz="1200" spc="-1" strike="noStrike">
              <a:solidFill>
                <a:srgbClr val="000000"/>
              </a:solidFill>
              <a:latin typeface="Arial"/>
            </a:endParaRPr>
          </a:p>
        </p:txBody>
      </p:sp>
      <p:sp>
        <p:nvSpPr>
          <p:cNvPr id="151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00A8-6748-44CD-B2AA-4074FBD10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81160" y="698400"/>
            <a:ext cx="4648320" cy="3486240"/>
          </a:xfrm>
          <a:prstGeom prst="rect">
            <a:avLst/>
          </a:prstGeom>
          <a:ln w="0">
            <a:noFill/>
          </a:ln>
        </p:spPr>
      </p:sp>
      <p:sp>
        <p:nvSpPr>
          <p:cNvPr id="151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Use Map documents the process of when data is collected, to when it is reported and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is exercise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38280" indent="-173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pportunities to increase the number of stakeholder groups who translate data into useful information.</a:t>
            </a:r>
            <a:endParaRPr b="0" lang="en-US" sz="1200" spc="-1" strike="noStrike">
              <a:solidFill>
                <a:srgbClr val="000000"/>
              </a:solidFill>
              <a:latin typeface="Arial"/>
            </a:endParaRPr>
          </a:p>
          <a:p>
            <a:pPr lvl="1" marL="638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38280" indent="-173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in those with experience delivering health services, use their insight to interpret data, and increase their use of this interpretation to make decisions about their health programs.</a:t>
            </a:r>
            <a:endParaRPr b="0" lang="en-US" sz="1200" spc="-1" strike="noStrike">
              <a:solidFill>
                <a:srgbClr val="000000"/>
              </a:solidFill>
              <a:latin typeface="Arial"/>
            </a:endParaRPr>
          </a:p>
          <a:p>
            <a:pPr lvl="1" marL="638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38280" indent="-173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ways that different actors can use information to provide constructive feedback to others in the health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hievement of these 3 goals will contribute greatly to improving both quality and production of data throughout the health servic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a copy of the tool in Quick Guide Version 2 as well as the Flash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1A34-4B14-482C-BD1C-40900173DE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81160" y="698400"/>
            <a:ext cx="4648320" cy="3486240"/>
          </a:xfrm>
          <a:prstGeom prst="rect">
            <a:avLst/>
          </a:prstGeom>
          <a:ln w="0">
            <a:noFill/>
          </a:ln>
        </p:spPr>
      </p:sp>
      <p:sp>
        <p:nvSpPr>
          <p:cNvPr id="151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questions asked by data users in the decision making process is also important.  To make a decision about a program or policy, decision makers must first understand what is happening in their programs. They must ask questions about what is happening in the facilities, if disease rates are going down, if the needs of their target populations are being met.  It is the answers to these questions that will help them to decide what they should do (CLICK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ntext of our work, a decision cannot be made before a key programmatic or policy question is answered. It is the answer to this question that may provide the evidence that some kind of action needs to be taken to either improve or realign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AD4D-C60F-4163-A99E-D92893A98C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81160" y="698400"/>
            <a:ext cx="4648320" cy="3486240"/>
          </a:xfrm>
          <a:prstGeom prst="rect">
            <a:avLst/>
          </a:prstGeom>
          <a:ln w="0">
            <a:noFill/>
          </a:ln>
        </p:spPr>
      </p:sp>
      <p:sp>
        <p:nvSpPr>
          <p:cNvPr id="15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arify what we mean by ‘dec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r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s that lead to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informed by </a:t>
            </a:r>
            <a:r>
              <a:rPr b="1" lang="en-US" sz="1200" spc="-1" strike="noStrike">
                <a:solidFill>
                  <a:srgbClr val="000000"/>
                </a:solidFill>
                <a:latin typeface="Arial"/>
              </a:rPr>
              <a:t>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questions should be based 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every day you need to make a decision about what to wear out of the house. To make this decision you may ask yourself some questions that will inform this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temperatur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it 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events do I have planned for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may consult the thermometer or the weather report or your daily calendar.  You consult a data source to inform you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ntext of our work, a decision cannot be made before a key programmatic or policy question is answered. It is the answer to this question that may provide the evidence that some kind of action needs to be taken to either improve or realign services.</a:t>
            </a:r>
            <a:endParaRPr b="0" lang="en-US" sz="1200" spc="-1" strike="noStrike">
              <a:solidFill>
                <a:srgbClr val="000000"/>
              </a:solidFill>
              <a:latin typeface="Arial"/>
            </a:endParaRPr>
          </a:p>
        </p:txBody>
      </p:sp>
      <p:sp>
        <p:nvSpPr>
          <p:cNvPr id="151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0B0D-5043-4F7F-B84F-9913DEDBF8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2B0A-79E6-428A-B644-0DE498C32B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1" name="PlaceHolder 1"/>
          <p:cNvSpPr>
            <a:spLocks noGrp="1"/>
          </p:cNvSpPr>
          <p:nvPr>
            <p:ph type="sldImg"/>
          </p:nvPr>
        </p:nvSpPr>
        <p:spPr>
          <a:xfrm>
            <a:off x="1181160" y="696960"/>
            <a:ext cx="4649760" cy="3487680"/>
          </a:xfrm>
          <a:prstGeom prst="rect">
            <a:avLst/>
          </a:prstGeom>
          <a:ln w="0">
            <a:noFill/>
          </a:ln>
        </p:spPr>
      </p:sp>
      <p:sp>
        <p:nvSpPr>
          <p:cNvPr id="15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what areas can health service providers make better decisions based 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main types of decision areas in the health sector. They pertai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design that meets the needs of a targe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ment and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evaluation and strategic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and policy develop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114E-44C9-4420-86D8-EE53385E25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4" name="PlaceHolder 1"/>
          <p:cNvSpPr>
            <a:spLocks noGrp="1"/>
          </p:cNvSpPr>
          <p:nvPr>
            <p:ph type="sldImg"/>
          </p:nvPr>
        </p:nvSpPr>
        <p:spPr>
          <a:xfrm>
            <a:off x="1181160" y="698400"/>
            <a:ext cx="4648320" cy="3486240"/>
          </a:xfrm>
          <a:prstGeom prst="rect">
            <a:avLst/>
          </a:prstGeom>
          <a:ln w="0">
            <a:noFill/>
          </a:ln>
        </p:spPr>
      </p:sp>
      <p:sp>
        <p:nvSpPr>
          <p:cNvPr id="152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related to program design </a:t>
            </a:r>
            <a:r>
              <a:rPr b="1" lang="en-US" sz="1200" spc="-1" strike="noStrike">
                <a:solidFill>
                  <a:srgbClr val="000000"/>
                </a:solidFill>
                <a:latin typeface="Arial"/>
              </a:rPr>
              <a:t>could</a:t>
            </a:r>
            <a:r>
              <a:rPr b="0" lang="en-US" sz="1200" spc="-1" strike="noStrike">
                <a:solidFill>
                  <a:srgbClr val="000000"/>
                </a:solidFill>
                <a:latin typeface="Arial"/>
              </a:rPr>
              <a:t> inv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key messages for a prevention campaign that are relevant to a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als are realistic?  What targets do we s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81160" y="698400"/>
            <a:ext cx="4648320" cy="3486240"/>
          </a:xfrm>
          <a:prstGeom prst="rect">
            <a:avLst/>
          </a:prstGeom>
          <a:ln w="0">
            <a:noFill/>
          </a:ln>
        </p:spPr>
      </p:sp>
      <p:sp>
        <p:nvSpPr>
          <p:cNvPr id="152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decision that is relevant to program management </a:t>
            </a:r>
            <a:r>
              <a:rPr b="1" lang="en-US" sz="1200" spc="-1" strike="noStrike">
                <a:solidFill>
                  <a:srgbClr val="000000"/>
                </a:solidFill>
                <a:latin typeface="Arial"/>
              </a:rPr>
              <a:t>could</a:t>
            </a:r>
            <a:r>
              <a:rPr b="0" lang="en-US" sz="1200" spc="-1" strike="noStrike">
                <a:solidFill>
                  <a:srgbClr val="000000"/>
                </a:solidFill>
                <a:latin typeface="Arial"/>
              </a:rPr>
              <a: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if a program is meeting its process objectives – for example, training the stated number of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decision that is relevant to program management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how best to allocate resources within a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9994-FB87-4C26-8D3F-FA4623D39C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81160" y="698400"/>
            <a:ext cx="4648320" cy="3486240"/>
          </a:xfrm>
          <a:prstGeom prst="rect">
            <a:avLst/>
          </a:prstGeom>
          <a:ln w="0">
            <a:noFill/>
          </a:ln>
        </p:spPr>
      </p:sp>
      <p:sp>
        <p:nvSpPr>
          <p:cNvPr id="147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context of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the concept of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importance of involving varied stakeholders throughout the decision-making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purpose of the Stakeholder Analysis and Engagement tools.</a:t>
            </a:r>
            <a:endParaRPr b="0" lang="en-US" sz="1200" spc="-1" strike="noStrike">
              <a:solidFill>
                <a:srgbClr val="000000"/>
              </a:solidFill>
              <a:latin typeface="Arial"/>
            </a:endParaRPr>
          </a:p>
        </p:txBody>
      </p:sp>
      <p:sp>
        <p:nvSpPr>
          <p:cNvPr id="147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B12A-2F24-4911-98EF-F4EDB27A3B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81160" y="698400"/>
            <a:ext cx="4648320" cy="3486240"/>
          </a:xfrm>
          <a:prstGeom prst="rect">
            <a:avLst/>
          </a:prstGeom>
          <a:ln w="0">
            <a:noFill/>
          </a:ln>
        </p:spPr>
      </p:sp>
      <p:sp>
        <p:nvSpPr>
          <p:cNvPr id="153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related to evaluation </a:t>
            </a:r>
            <a:r>
              <a:rPr b="1" lang="en-US" sz="1200" spc="-1" strike="noStrike">
                <a:solidFill>
                  <a:srgbClr val="000000"/>
                </a:solidFill>
                <a:latin typeface="Arial"/>
              </a:rPr>
              <a:t>could</a:t>
            </a:r>
            <a:r>
              <a:rPr b="0" lang="en-US" sz="1200" spc="-1" strike="noStrike">
                <a:solidFill>
                  <a:srgbClr val="000000"/>
                </a:solidFill>
                <a:latin typeface="Arial"/>
              </a:rPr>
              <a: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f new program approaches are needed to ensure that health impact objectives are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ecision making in strategic planning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geographic areas of highest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new or reinforcing existing collaborations with other organizations offering similar or complementary services and defining a working relationship</a:t>
            </a:r>
            <a:endParaRPr b="0" lang="en-US" sz="1200" spc="-1" strike="noStrike">
              <a:solidFill>
                <a:srgbClr val="000000"/>
              </a:solidFill>
              <a:latin typeface="Arial"/>
            </a:endParaRPr>
          </a:p>
        </p:txBody>
      </p:sp>
      <p:sp>
        <p:nvSpPr>
          <p:cNvPr id="153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FE3B-8438-4520-B0F3-12FDB2CDCE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2603-34B1-48E7-B30F-18B4D448B0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3" name="PlaceHolder 1"/>
          <p:cNvSpPr>
            <a:spLocks noGrp="1"/>
          </p:cNvSpPr>
          <p:nvPr>
            <p:ph type="sldImg"/>
          </p:nvPr>
        </p:nvSpPr>
        <p:spPr>
          <a:xfrm>
            <a:off x="1181160" y="698400"/>
            <a:ext cx="4648320" cy="3486240"/>
          </a:xfrm>
          <a:prstGeom prst="rect">
            <a:avLst/>
          </a:prstGeom>
          <a:ln w="0">
            <a:noFill/>
          </a:ln>
        </p:spPr>
      </p:sp>
      <p:sp>
        <p:nvSpPr>
          <p:cNvPr id="153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ecisions around advocacy and policy formulation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and quantifying underserved populations in order to demonstrate a priority of an issue over man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ng a public health burden and the need for new polici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81160" y="698400"/>
            <a:ext cx="4648320" cy="3486240"/>
          </a:xfrm>
          <a:prstGeom prst="rect">
            <a:avLst/>
          </a:prstGeom>
          <a:ln w="0">
            <a:noFill/>
          </a:ln>
        </p:spPr>
      </p:sp>
      <p:sp>
        <p:nvSpPr>
          <p:cNvPr id="153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need to focus on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discussed earlier in the day – decision makers tend to be overwhelmed with data. They often don’t know how to interpret data in the program or policy context. Or, they are unsure of which data source is most important to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ntext, decision makers may move ahead without consulting data at all, or they may spend precious resources on data analysis and interpretation that are not linked to action or programmatic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pplying the leadership practice of focusing on the priority decisions for a specific programmatic area, decision-makers can identify their information needs.  This will allow them to narrow down the number of data sources they need to review and consider.  It allows them to prioritize their data use activities so that they can improve programs.</a:t>
            </a:r>
            <a:endParaRPr b="0" lang="en-US" sz="1200" spc="-1" strike="noStrike">
              <a:solidFill>
                <a:srgbClr val="000000"/>
              </a:solidFill>
              <a:latin typeface="Arial"/>
            </a:endParaRPr>
          </a:p>
        </p:txBody>
      </p:sp>
      <p:sp>
        <p:nvSpPr>
          <p:cNvPr id="153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B255-E41C-4D01-BA46-025EFEFD77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81160" y="698400"/>
            <a:ext cx="4648320" cy="3486240"/>
          </a:xfrm>
          <a:prstGeom prst="rect">
            <a:avLst/>
          </a:prstGeom>
          <a:ln w="0">
            <a:noFill/>
          </a:ln>
        </p:spPr>
      </p:sp>
      <p:sp>
        <p:nvSpPr>
          <p:cNvPr id="153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back at the entire context of decision making and the three necessary elements that we just discussed – stakeholders, data, and questions that lead to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specifics of each element it becomes clear that not only do you need to consider ALL THREE elements when making data informed decisions, but that each element contributes to the other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nking of stakeholders - it is the various data users that define information needs and the data producers who supply the data needed to make decisions and improve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hink of data – you need to involve the right data producers so that they can provide the relevant information for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hink of decisions - You need to clarify your questions and what you need to know so you can collect the appropriat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elements are part of a process.  Decisions are not made at one specific moment in time. Information needs are identified; data is collected, analyzed, synthesized; shared; reviewed, </a:t>
            </a:r>
            <a:r>
              <a:rPr b="1" lang="en-US" sz="1200" spc="-1" strike="noStrike">
                <a:solidFill>
                  <a:srgbClr val="000000"/>
                </a:solidFill>
                <a:latin typeface="Arial"/>
              </a:rPr>
              <a:t>and then </a:t>
            </a:r>
            <a:r>
              <a:rPr b="0" lang="en-US" sz="1200" spc="-1" strike="noStrike">
                <a:solidFill>
                  <a:srgbClr val="000000"/>
                </a:solidFill>
                <a:latin typeface="Arial"/>
              </a:rPr>
              <a:t>a decision is made.  Many stakeholders are implicated in this process. Even if you are not a true decision maker with the authority to allocate funds and alter programs – you are still most likely part of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f note, is that these three elements often are influenced by external factors. Even if you have these three elements, a data informed decision may still not be made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deology and favoritism – Decision makers may make health decisions based on what their political parties support, rather tha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opinion – Decision makers may decide to listen to public opinion rather than data because elections could be coming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cision may be made because the decision maker feels in his or her ‘gut’ that it is the right thing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other economic, social, and cultural factors at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al data can provide a basis for discussion, and influence these external factors over time.</a:t>
            </a:r>
            <a:endParaRPr b="0" lang="en-US" sz="1200" spc="-1" strike="noStrike">
              <a:solidFill>
                <a:srgbClr val="000000"/>
              </a:solidFill>
              <a:latin typeface="Arial"/>
            </a:endParaRPr>
          </a:p>
        </p:txBody>
      </p:sp>
      <p:sp>
        <p:nvSpPr>
          <p:cNvPr id="154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09B9-AA4F-4613-B6DD-69150E128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6310-5D26-4EFD-840B-99AD6E7B34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2" name="PlaceHolder 1"/>
          <p:cNvSpPr>
            <a:spLocks noGrp="1"/>
          </p:cNvSpPr>
          <p:nvPr>
            <p:ph type="sldImg"/>
          </p:nvPr>
        </p:nvSpPr>
        <p:spPr>
          <a:xfrm>
            <a:off x="1181160" y="698400"/>
            <a:ext cx="4648320" cy="3486240"/>
          </a:xfrm>
          <a:prstGeom prst="rect">
            <a:avLst/>
          </a:prstGeom>
          <a:ln w="0">
            <a:noFill/>
          </a:ln>
        </p:spPr>
      </p:sp>
      <p:sp>
        <p:nvSpPr>
          <p:cNvPr id="154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 the key messages of this session that describe the path towards data-informed decision making.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ly assessing the value of stakeholders and involving them in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ing how information flows through the organization in order to find opportunities for greater access and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ave time and resources, consider your organizations key decisions and information needs first, and then look for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 both data users and data producers in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Ask if there are any clarifying questions on the material covered in this sess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81160" y="698400"/>
            <a:ext cx="4648320" cy="3486240"/>
          </a:xfrm>
          <a:prstGeom prst="rect">
            <a:avLst/>
          </a:prstGeom>
          <a:ln w="0">
            <a:noFill/>
          </a:ln>
        </p:spPr>
      </p:sp>
      <p:sp>
        <p:nvSpPr>
          <p:cNvPr id="154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5354-B48F-497C-9F0F-8E2BFEB32B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81160" y="698400"/>
            <a:ext cx="4648320" cy="3486240"/>
          </a:xfrm>
          <a:prstGeom prst="rect">
            <a:avLst/>
          </a:prstGeom>
          <a:ln w="0">
            <a:noFill/>
          </a:ln>
        </p:spPr>
      </p:sp>
      <p:sp>
        <p:nvSpPr>
          <p:cNvPr id="147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 the context of decision making, which includes stakeholders, the decisions they make, and the data they rely on. We will also discuss how to assess the many stakeholders who affect decision making and determine how best to engage them.</a:t>
            </a:r>
            <a:endParaRPr b="0" lang="en-US" sz="1200" spc="-1" strike="noStrike">
              <a:solidFill>
                <a:srgbClr val="000000"/>
              </a:solidFill>
              <a:latin typeface="Arial"/>
            </a:endParaRPr>
          </a:p>
        </p:txBody>
      </p:sp>
      <p:sp>
        <p:nvSpPr>
          <p:cNvPr id="148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E461-5456-4FBC-929A-9A4554601E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81160" y="698400"/>
            <a:ext cx="4648320" cy="3486240"/>
          </a:xfrm>
          <a:prstGeom prst="rect">
            <a:avLst/>
          </a:prstGeom>
          <a:ln w="0">
            <a:noFill/>
          </a:ln>
        </p:spPr>
      </p:sp>
      <p:sp>
        <p:nvSpPr>
          <p:cNvPr id="148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three contextual elements for data informed decision making – the involvement of stakeholders, data an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HREE</a:t>
            </a:r>
            <a:r>
              <a:rPr b="0" lang="en-US" sz="1200" spc="-1" strike="noStrike">
                <a:solidFill>
                  <a:srgbClr val="000000"/>
                </a:solidFill>
                <a:latin typeface="Arial"/>
              </a:rPr>
              <a:t> elements are equally important.  These three elements need to function in unison for data informed decision making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iscuss stakeholders’ roles in the context of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 </a:t>
            </a:r>
            <a:r>
              <a:rPr b="0" lang="en-US" sz="1200" spc="-1" strike="noStrike">
                <a:solidFill>
                  <a:srgbClr val="000000"/>
                </a:solidFill>
                <a:latin typeface="Arial"/>
              </a:rPr>
              <a:t>Ask participants, “What is a stakeholder?”  Allow time for a brief open discussion and summarize the points made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fine a </a:t>
            </a:r>
            <a:r>
              <a:rPr b="1" lang="en-US" sz="1200" spc="-1" strike="noStrike">
                <a:solidFill>
                  <a:srgbClr val="000000"/>
                </a:solidFill>
                <a:latin typeface="Arial"/>
              </a:rPr>
              <a:t>stakeholder</a:t>
            </a:r>
            <a:r>
              <a:rPr b="0" lang="en-US" sz="1200" spc="-1" strike="noStrike">
                <a:solidFill>
                  <a:srgbClr val="000000"/>
                </a:solidFill>
                <a:latin typeface="Arial"/>
              </a:rPr>
              <a:t> as anyone who has a “stake” or interest in your program. We often think of government agencies, policymakers, funding agencies, and implementers or providers as stakeholders (CLICK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include the beneficiaries of health programs or civil society as stakeholders (CLICK ANIMATION).  They make decisions about seeking services and continuing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stakeholders as part of the decision making process we often talk about data users and data producers (CLICK ANI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this morning, data users are those who use data to inform the design, implementation, monitoring, and improvement of health program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dir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fer to data producers as the individuals that acquire and analyze health data.  They prepare the data for distribution to an audience of users. Data producers ca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specia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decision making we typically think only of data users as our stakeholders.  The focus is on those who have the authority to make the final decision about health programs and policies, but data producers play a key role in the data-informed decision-making process – they are the individuals who supply the data for the data informed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ing the appropriate number of stakeholders, and tailoring data to their needs can be a challenge.  MEASURE Evaluation has developed a tool which can guide you in stakeholder selection and engagement – the Stakeholder Analysis and Engagement tool. </a:t>
            </a:r>
            <a:endParaRPr b="0" lang="en-US" sz="1200" spc="-1" strike="noStrike">
              <a:solidFill>
                <a:srgbClr val="000000"/>
              </a:solidFill>
              <a:latin typeface="Arial"/>
            </a:endParaRPr>
          </a:p>
        </p:txBody>
      </p:sp>
      <p:sp>
        <p:nvSpPr>
          <p:cNvPr id="148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A522-BE12-437A-978C-287B499C91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FBB3-E5E1-47EC-AC41-293790C585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5" name="PlaceHolder 1"/>
          <p:cNvSpPr>
            <a:spLocks noGrp="1"/>
          </p:cNvSpPr>
          <p:nvPr>
            <p:ph type="sldImg"/>
          </p:nvPr>
        </p:nvSpPr>
        <p:spPr>
          <a:xfrm>
            <a:off x="1154160" y="689040"/>
            <a:ext cx="4687920" cy="3514680"/>
          </a:xfrm>
          <a:prstGeom prst="rect">
            <a:avLst/>
          </a:prstGeom>
          <a:ln w="0">
            <a:noFill/>
          </a:ln>
        </p:spPr>
      </p:sp>
      <p:sp>
        <p:nvSpPr>
          <p:cNvPr id="1486" name="PlaceHolder 2"/>
          <p:cNvSpPr>
            <a:spLocks noGrp="1"/>
          </p:cNvSpPr>
          <p:nvPr>
            <p:ph type="body"/>
          </p:nvPr>
        </p:nvSpPr>
        <p:spPr>
          <a:xfrm>
            <a:off x="910800" y="4431960"/>
            <a:ext cx="5173560" cy="420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stakeholder analysis is done informally, in an ad hoc way. The rationale behind choosing and engaging stakeholders is rarely consistent, systematic, or documented. A researcher may talk to people to identify stakeholders and their roles, but the process is intuitive rather than systematic, and it rarely happens the same way twice. As a result, the following scenarios are typ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data producers are inclu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ose stakeholders in agreement with the proposed plan are invited to particip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re selected only from the organization that is directly involved in the pro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re invited to a preliminary briefing, but they are not included thereafter in project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includes only the bare minimum number of stakeholders required to obtain formal approv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included in the project may not be at the appropriate level in a community or organization to contribute to the project or mak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working with different stakeholders it is important to recognize that each stakeholder may affect the data-informed decision-making process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 PARTICIPANTS:</a:t>
            </a:r>
            <a:r>
              <a:rPr b="0" lang="en-US" sz="1200" spc="-1" strike="noStrike">
                <a:solidFill>
                  <a:srgbClr val="000000"/>
                </a:solidFill>
                <a:latin typeface="Arial"/>
              </a:rPr>
              <a:t> What might you want to know about your different stakeholders that may have an effect on how decisions are made?  What characteristics may vary across a group of stakeholders that may affect how they use information to mak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3-4 RESPONSES CLICK TO REVEAL SLID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takeholders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ctivities from different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different degrees or levels of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r want differ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information at different levels of complex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different intensitie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different roles in the decision-mak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81160" y="698400"/>
            <a:ext cx="4648320" cy="3486240"/>
          </a:xfrm>
          <a:prstGeom prst="rect">
            <a:avLst/>
          </a:prstGeom>
          <a:ln w="0">
            <a:noFill/>
          </a:ln>
        </p:spPr>
      </p:sp>
      <p:sp>
        <p:nvSpPr>
          <p:cNvPr id="148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trong relationship between ownership, data quality, data relevance, and data use. People are more likely to use data in their decision making if they have been involved from the beginning, they believe the data are of high quality, and they feel the specific data addresses their priorities. Engaging stakeholders early and systematically in the process enables the right questions to be asked in the right way, and in turn, to define data activities that will generate quality information that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4BFA-AE26-49C5-A587-0B1055452A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81160" y="698400"/>
            <a:ext cx="4648320" cy="3486240"/>
          </a:xfrm>
          <a:prstGeom prst="rect">
            <a:avLst/>
          </a:prstGeom>
          <a:ln w="0">
            <a:noFill/>
          </a:ln>
        </p:spPr>
      </p:sp>
      <p:sp>
        <p:nvSpPr>
          <p:cNvPr id="149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Evaluation has developed a tool, which is similar in nature to tools developed by other organizations – the Stakeholder Analysis and Engagement tool. It consists of a </a:t>
            </a:r>
            <a:r>
              <a:rPr b="0" lang="en-US" sz="1200" spc="-1" strike="noStrike" u="sng">
                <a:solidFill>
                  <a:srgbClr val="000000"/>
                </a:solidFill>
                <a:uFillTx/>
                <a:latin typeface="Arial"/>
              </a:rPr>
              <a:t>Stakeholder Analysis Matrix </a:t>
            </a:r>
            <a:r>
              <a:rPr b="0" lang="en-US" sz="1200" spc="-1" strike="noStrike">
                <a:solidFill>
                  <a:srgbClr val="000000"/>
                </a:solidFill>
                <a:latin typeface="Arial"/>
              </a:rPr>
              <a:t>and a </a:t>
            </a:r>
            <a:r>
              <a:rPr b="0" lang="en-US" sz="1200" spc="-1" strike="noStrike" u="sng">
                <a:solidFill>
                  <a:srgbClr val="000000"/>
                </a:solidFill>
                <a:uFillTx/>
                <a:latin typeface="Arial"/>
              </a:rPr>
              <a:t>Stakeholder Engagement Pla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helps us to systematically and formally assess all of our stakeholders. It clarifies who has an interest in the activity; what that interest is; who can help the activity, and how; who can hurt it; and how this information can be leveraged to ensure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the tool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stakeholders, define roles &amp;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dynamics among stakeholders, such as their level of influence, knowledge, and comm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optimum stakeholder group &amp; specify how to engage each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 a follow-up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271A-B78B-4F16-8EC6-06BCFE38AF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81160" y="698400"/>
            <a:ext cx="4648320" cy="3486240"/>
          </a:xfrm>
          <a:prstGeom prst="rect">
            <a:avLst/>
          </a:prstGeom>
          <a:ln w="0">
            <a:noFill/>
          </a:ln>
        </p:spPr>
      </p:sp>
      <p:sp>
        <p:nvSpPr>
          <p:cNvPr id="149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you determine who are the important stakeholders to include for your project and develop a plan for how to engage stakeholders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tool encourages you to involve more people (which freaks folks out) it also helps you to be strategic for how to involve them.  The tool isn’t recommending that you involve all these stakeholders all of the time in every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oint to emphasize – often folks think they already know who the stakeholders are. They often think about the usual suspects who need to b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y don’t think about is if there are other stakeholders that you could add to improve your activity OR – as important – other stakeholders who could impede you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tool gives you the information you need to use the leadership practice of Aligning and Mobilizing.  By knowing who your stakeholders are, their influence, interests and potential resources to support the decision making process, you can speak to what they are most interested and be clear about how they can help.</a:t>
            </a:r>
            <a:endParaRPr b="0" lang="en-US" sz="1200" spc="-1" strike="noStrike">
              <a:solidFill>
                <a:srgbClr val="000000"/>
              </a:solidFill>
              <a:latin typeface="Arial"/>
            </a:endParaRPr>
          </a:p>
        </p:txBody>
      </p:sp>
      <p:sp>
        <p:nvSpPr>
          <p:cNvPr id="149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0EB3-E41B-45B9-A7E6-E92AE0553A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81160" y="698400"/>
            <a:ext cx="4648320" cy="3486240"/>
          </a:xfrm>
          <a:prstGeom prst="rect">
            <a:avLst/>
          </a:prstGeom>
          <a:ln w="0">
            <a:noFill/>
          </a:ln>
        </p:spPr>
      </p:sp>
      <p:sp>
        <p:nvSpPr>
          <p:cNvPr id="149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erest of time we will not be reviewing the tool in this workshop. Please refer to the MEASURE Evaluation website for more details, or the Quick Guide Version 2 in the workshop packet and/or CD-ROM.</a:t>
            </a:r>
            <a:endParaRPr b="0" lang="en-US" sz="1200" spc="-1" strike="noStrike">
              <a:solidFill>
                <a:srgbClr val="000000"/>
              </a:solidFill>
              <a:latin typeface="Arial"/>
            </a:endParaRPr>
          </a:p>
        </p:txBody>
      </p:sp>
      <p:sp>
        <p:nvSpPr>
          <p:cNvPr id="149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D591-DC0D-4C4A-9DA9-92B22FA346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2C9323A-2314-49E8-A67D-25282E9B34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CB1B913-B3FE-449A-ACC8-C7688A89A1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8E000887-27D3-4A5C-B8B8-118661C328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F8D98F84-1B94-49F3-9C3B-3E7E0DB23B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DB55630A-DDE1-430E-99CA-96EFF1BE0C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2B51536-57FA-4527-A623-3B93F6AFB6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E8443D4-CAB6-45D4-998B-5998AA84DB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B4FE9127-100B-4CF9-A0DD-87E2D7F455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68982874-7CD5-4D12-B157-7A05DBE46F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19EC756E-8CF1-45B4-AD97-44F6C5EBC5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CB56F48A-3011-4E89-8F02-B858E93F3E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5A5084C-1CFB-4777-A298-2287578C1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80DAD3C-A4A7-444C-BDF6-9BEC29A814D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84475E-3A85-4ACE-8DF7-E29D44CAD1E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86BB33-E961-4373-8C21-1373AD440D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6FE01F-C94C-4E59-8F49-4337EA8D5B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19E3C9-5FCF-4C59-A6E5-4400B09B686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97B8AC-1CE6-4B65-9BBE-D93E3FF351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FB7C53-C13E-4260-92D2-7574A8567A4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8303DC-E257-40F0-AFB2-B09DF42CE68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291287-7366-42A8-9F03-477BF83DAA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625389-416E-4B73-987F-0575B8EBE2D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819689B-8069-47CD-8D45-BC2FF4B727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77AE7B5-3149-479F-B558-038A93EE8A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7BC7F9-2C21-43C6-A90E-8557CA9EBE3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3B0B4128-9574-49C8-8EAA-FCE31797D09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CCC0C8B-59A1-403D-B377-30191CB4BC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9E9FA1A-B81A-493F-8331-64126A0BF73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AB906FE-C937-4521-84DB-1111A904156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01F8BB71-15A8-45DB-B00A-BF8C6EB666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A185961-7502-471D-AF4B-E77DA18978F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F75550B-F995-4A61-A6F8-C96B506D40B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885AE52-4315-4419-9CAB-727B72061A5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2B64BF8-3E6D-4B79-B86E-D855BF43E1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5E5A550E-DD13-44BB-9D16-27BCCD7CFA2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0B776811-C67C-4698-8529-087CBCBDA7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EEC33883-6040-4724-AFA6-A71BDDED8DD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49DA874A-E4CF-4F62-912D-C6910E6C5B8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3B3B8C7-5535-489C-89E9-451ADC8957B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8C703584-5063-452B-8A01-CD8BE7ABAB3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C649A304-DDCA-4E05-96D8-5DE699F37F4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05D301CD-86ED-4A5A-A0D5-1BB5E0D077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7292FB23-99B9-4804-8A2B-77AA2127E7C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484936A6-9C81-456D-928D-C4792CB8565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48158997-8BBE-4AE5-A10A-29A3DBBF4F4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E3FF9E1-E8F7-46C0-8F2E-AECD65FD929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B4BA61FD-6447-4FA5-854B-73FD03B4F5A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8D4B5C14-8164-4D18-80B2-639787BBC41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4C1CC68E-1F1F-4E7E-B5E1-5BCEC59C7F7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A822E1F-6163-4AD0-B921-292284A9097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EAFC7E-ACE0-4B1E-9B8A-F5241781AB8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964DC5A-3BFE-4302-83FB-48148AD0A6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D475C23-4C56-4214-B09B-8FA90356A72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6452C88-6605-49A4-B14F-0EDFABC4364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F64AE1A-25D0-4C2D-8194-116E3890594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D350C12-0E2C-497B-B6CB-FCF0DDC41F8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227D05-77E1-4593-8DD7-71753A7A6BB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DF71D8-AFAA-4EC6-8310-9B630EC6785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E3193F-51BD-492D-B98C-56B09C73AE5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B2AE0BF-B5D0-4B29-9C5D-55C4734DDA5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592ADD4-D3F9-4C9B-9E90-762CA988231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0553B547-D312-4A0A-807A-6018AD1CE4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A3B9A7F-9280-4952-9CA5-EC67B03630F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040D290-B55E-4D63-9A19-E1A3E291B73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61A48FA9-3B78-491B-8754-F76C1B4D645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A1C338A-E9EF-4E66-98FA-E1AD98CE796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5383EFC-CEEA-4253-BDD0-E9398050291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355DA16-4BF9-452F-8E66-4704FBDAED5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80CEC2D-5B83-4A8B-970D-F3B4C5F4D72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C49BB7C-EA62-4112-8530-7B0C639AECD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EB1F1DE-3656-4E16-B79B-519E663A122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2F74ADC3-EEEB-4F92-948B-F9FDE66C43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C43F57B-0BD8-46A0-9A55-672252996C6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36B63B74-F164-48D5-B621-0AFFC244BA2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9C62EBFB-B729-4E03-930A-3AD5EADB006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82E10D29-30A4-4CF6-A502-AD10816F578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6B35C6ED-307D-4611-A966-1631BCA33AE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75B41F2A-D8D3-4440-9B7B-2C755BE9E6A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BE2BC34D-ECA7-4EBF-876C-0B71A0BDDF8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5A103F0D-97EC-4DA5-A82B-8F43682769B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DF48DCA-071A-4B33-BAC0-8BA047B78E6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33F4F6A8-8739-4F53-9E6E-6AD06D75A6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4A2BAD0C-ABC7-47F1-A182-A07FDCD9078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58E4E40E-7E0F-4E11-8EA4-A7E9C9E457D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F01BAD73-4C16-4DCF-A984-E7DB7459E37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63DFE50-E575-4DE1-B974-AA82048330C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2F00AB8-7EC6-49DE-9A2B-EEF0B360383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1EC1C50-852B-485E-AD06-121FDDDE2C7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EDD77DE-2607-4FB6-A467-E7A7963225C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C5134D1-4F38-4C5A-AE4D-35DA92DB669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7E3858D-98ED-4FCA-8EC5-922215D788E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508F2EE-2278-4AB2-A395-B9243BA8E1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0CC09F-CFD3-46C4-A59D-29FC19CE1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7CB02FB-EA2F-4730-A924-F4DE558FD93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627A4E2-2D13-44C1-8AA7-DC62039F649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785C584-1A31-4671-BB0E-68DD4400CE5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9A8E376-BD48-4467-8BD9-28B524B6E89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120B414-CB77-4ED5-A393-8844B2BEC85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9E3CB563-2758-439F-B3DF-4E20A270FC6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4EE334EC-0638-4881-A9D1-00548510EA4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31230433-768E-4C82-87BA-D9FCDB57401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342CA25A-6FF2-450E-8DA7-853AABEC6FE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DD410BDC-1577-4169-B10A-DF88AD64A6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7F3D91B3-365F-45FB-8E87-A6D6B74EF0E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877F5216-C696-4DE4-B7ED-1B5863129B2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9A72166-B325-434E-9763-1CF3A022B77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540D877-8B5B-409B-B537-BAA28A29DF6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8D6AF61E-11E5-42F7-9A4D-7D4918839FA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0EECCF48-71BB-478A-B77C-B634FE59D28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B33265F2-A680-44F5-818F-0F2DA577C33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E011B085-07D6-416F-AE5E-9069759F1C7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4918B4CA-2E82-46B6-8D7A-EF22EB38536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4D5201AC-7876-4EBA-913E-906B249189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84191959-7578-4F4E-8294-BECE606EEBB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005DE7D9-A402-41CC-A6EC-355B5942329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E735F62F-C2C1-4F12-B5CC-9231EACF89F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354FBA73-D278-4A1F-ADD6-06D85EEE078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A80D9150-B005-4A4A-8E42-44323ADE5B6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146B2A9E-09A7-4064-8B33-F082F3F860F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F8C5A2C8-C38B-4866-812A-943F1C6012C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300F5201-9244-4EDE-BED6-5C417C73FAC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ABB69B75-7497-4C30-825D-078E093CBD5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8278D16-DF3E-4EAE-BC71-35C1BE63E4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44295E3-1CE6-4BB7-8C33-40477943A78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A3B4158-B48C-4237-9F33-79D716E6C23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C101CC4-A926-4FFC-8A7F-ED58997CF70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1BE2631-3B66-45C7-9F20-99C90DC35BD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B2A1A1F-256A-4294-B428-5C7AD5B4C08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0417005-BEAC-4C73-934D-FA781D6C065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DCFBF11-04A5-49B1-B624-00ABDA33B3C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BA39AAF-81E2-4370-A3E6-E3BC509021A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0CF2846-C818-4A7D-81D6-B9DBF869170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8CE9973-1C02-4882-AD0C-4A8E93D1F2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278716E-C5E6-47C7-A5DE-AF4F4422DA6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65ADA444-CF86-4E91-83D6-55E94C8EA6A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4F031E8F-1A9C-4445-8988-9FE46F96566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5D191B41-0FAF-4927-AFF7-F4256A646E8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4ADF4C09-1778-4704-AEE4-143A6E80C03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F4721AED-7A7B-4966-895E-2DB7FBAF29B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5F45B179-926D-40E6-8439-BBFD4B484BB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0160B64-A0C8-4DA9-988F-82DE733F878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B7C563F5-89D9-49AD-B82C-98DB6417928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3F0F447-DDEF-4138-93B9-F0B94908DB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8206819-5494-4547-BF43-B3981A30B86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4389A9CF-7332-4C1B-B3C8-2813FA996DE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F43BB740-ECEA-4DC7-9A59-92F61F0FC05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D91AC6DA-45D7-4BC7-BE04-304BDCEC03F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A08F393F-0FD8-4E37-8A58-7EE9655E2E7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5E803CBA-0680-43F9-8AC1-77F9249B4D2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6A7597D6-F0F3-4565-90F2-39CE5A1B38D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A51AC4F1-26AC-4BC0-8DED-B458BD6C24A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E499B4F8-24E4-47C4-AC31-BA607FC57CB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9E6C2C3B-F094-4F11-A298-028815ECAA6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6F564B57-E739-4915-8A72-A5190E0AE8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ACFFF2A-047E-4D6B-A628-852F1C0DD2C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B093C86C-5210-4AA2-95B0-7BD19F4FA46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1372BDD4-F9B0-4193-9602-387D966DA69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A17800A1-1716-4B5F-964F-98348ED0586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68EAC971-7BFD-4D82-B30E-9A3E8C19AE7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BA08115B-DA42-4F3A-A7F5-B7F62989749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A868BAE-009F-4A64-B14C-CEC9C36E346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8AD3E7AD-4D9C-4816-B3B1-6BD61430E89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C141F74-3511-495C-AEC4-1980F022E79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3A798EC-CD1C-46EC-AA7C-3CF15D8A2F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64BDD22-360D-437F-8691-4A48F1F1E54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C5254B2-815C-431D-B4A6-40860A6D25B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40F7496-A6CD-4AA9-B9B1-76C8BFEB537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F948697-9408-4345-A650-B9AF9A7A802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EE8746F-E4B0-4F35-958B-938313F19FE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3589F87-AFA2-498E-B396-77036B924C8F}"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6C26B8B-3713-4711-AD83-AFF6B9BECBA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B2BE333-E43C-4FE5-8D02-03163AAD2CF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D2943A34-4B56-4787-AD7B-0B61DBF4E90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0EBB949E-E752-4364-9E11-56F6F2B5715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C92706F1-EC5C-434F-96EF-183F5B3F20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60F983C-8608-40CB-A1DB-0529C5BD244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6CB3AEE7-2CD9-44A3-857A-0BF298816F6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DDBC92DC-5D75-4213-9C79-49C295771E5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ED1C8BB1-5E06-4654-91D0-E8EAAC31B68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3B390BD3-AA5E-4194-9113-961A0722770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D798E015-E20B-4249-A6C7-E193A627BF5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63FD0B18-17AA-4F9A-A718-5B6D4518AFE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95EFBCF5-8CBC-4146-AE0F-7AEED55356E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FE20452B-C35B-40C8-ABF6-DB56DA06BDB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B64AF3CD-AB8E-4438-A29F-E2240FED41D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64D9C195-7E39-4AAA-800B-AA8AE62274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92443C-91A9-45D3-8893-F85FB652C3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E3D2652-0401-4220-A543-A44042F3B90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0B654D41-554D-43A5-BA0C-CC92160B1ED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12406776-27B0-440C-910E-3049C5766EB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2743364-0C6C-4E0A-9446-056C880BEC6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689D7176-EA90-46C8-9CD5-9F5B800F084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E7841A83-E403-4B65-B6E1-A846AEB5D5A8}"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738B3F23-4760-4351-961A-AF4EEBF02AA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B4AF26EE-86E8-4A4E-B508-5480A5C84C79}"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7A01650A-B503-4810-8819-3DEF6A18CBD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0D6DF994-2868-4A5F-8D97-4D07D8836311}"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8D0DEA75-4D9C-42FD-B5CD-2C73AE66DB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DFA6ECC-7CCE-4DFE-91C7-60DF09C023A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2AB4F54-2CB3-4D0C-97A4-10CE7E8B59E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E3D81659-0212-4DE7-B682-6E001C0FCEA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D234C045-EB10-4C53-9574-4EBA219B673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2F96817D-6F4E-4EED-8C20-48B4D3BA84F7}"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6FC2BFF-31D8-42C7-8DB6-5058A7573C0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676276F-5B1D-4DD3-9125-A70D85088E4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556F914-9749-4C92-AADD-91E4CC3A1B40}"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81ED0347-784B-4AD9-9F83-5750E2D81BBE}"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720340E-15E6-4366-9398-42BAA14CD5BA}"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C59942C-2434-4BD6-9920-6C5EE41F6A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044C945-068F-4D1F-B5A4-51660414B737}"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C5B36BD-9D62-4092-AEF1-0EA48885E6E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F6AFECD-049B-44D7-90AE-D3BB033275C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F271AAD-AE7A-4244-B672-5F074DA6BA7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921A9B60-FF0B-44DC-A63C-7F6F40C2267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976D67AB-BA0A-4673-89E2-A6374B36D17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5A6897CC-1242-49B3-9A6E-9223094F8FC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A98CAB67-EF7A-469A-97BA-56E42163BA9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767B1ABE-0D3C-49CC-8154-21D2ECBF058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5FF7929D-AEA3-4495-9E22-6C28E51E0E6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E933B11D-1FFD-4050-A7B9-7BBBFF346D8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0EACF57-E6A5-4E53-815B-E1B7157A75C6}"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249E4DF5-4CF6-4CDD-942B-6A8532769C4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26C820FA-DC32-4E7A-A076-7F0B9B38DCD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37AA55C2-FA5A-4F23-8A04-921EB448B6F8}"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67667B78-C5F6-46C8-A610-F958F1D7E0E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D658B886-59E7-4AC6-A76B-A931406C4D4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7D579819-9C2D-4B88-A60B-4095C3345BA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5D6CDD6E-7C1F-4F8B-AB02-6A476D27346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5736E3D3-65F6-4C27-8B7D-A926AC35EBE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23C17819-7F3C-4637-BD79-0C8A5D1F788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1DD6F6C1-6A15-4D3A-B305-47ADF6DCE4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25ABEFF-795E-491C-B528-00CB1C49041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E4F6AB3C-C086-4335-B7E1-F7DF228A6C6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23CEA544-CB90-4CA6-8DB8-4D490CDD010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833FF966-378A-40CD-AAFA-89336BD9522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03E719A-B933-49F0-8761-40153553684A}"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730D3A37-E59C-4E94-AB11-71014B7987D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165F054B-CEE7-45CA-A3A4-0A2C29AE5B0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E0CF340B-9116-4437-9038-AA1784290677}"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A71F0B6A-F66B-4625-8B12-4EA3181C6CC2}"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EC51AF6A-4517-4A5C-9143-2FCA6E8B30C9}"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5D6EF783-0432-4FBE-96A1-33C90B594F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6D1D6DD-0184-4070-8A8F-48FE1CA7FB8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74F36EF7-0244-4094-8B3C-D8677C02056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BB32C339-929A-4632-A16D-2E5A4DBB2E9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427D758-C49C-4AF1-AAD3-68CA15672DF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955FEA1C-044F-492C-A973-8769B11EC0C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36276678-24E9-43AE-B505-A63BD93B059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4AB0328-C277-4EC0-9C91-8263C25CEEC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B2F727D-0433-4312-8EA4-E4E48102268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3FE0FC0-9585-4DEB-BD94-BEE165509B1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7074336-8273-4723-A142-E36CA2A530D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C25D0F96-939D-47BD-A90F-221D53469C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BEBDC57-8022-4DCB-A72F-4C97907EE44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75B356FC-5B36-4D51-AEA8-5BC56BA91B2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49"/>
          </p:nvPr>
        </p:nvSpPr>
        <p:spPr/>
        <p:txBody>
          <a:bodyPr/>
          <a:p>
            <a:fld id="{ED0D8EF6-667F-4BB5-8612-3C3C3E8995D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476E7CAD-9A86-46AB-9E0B-35FDC76C718D}"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5CA907B7-7299-4BA3-824C-D6C2917A3348}"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92221D89-DE17-4C29-B552-D3F0A9BDC04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8DE774A1-CF40-4F99-A4AC-C6EB529E1DD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E49CE386-7479-4E73-9FE8-FD94058A773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93242B53-AF06-4AD8-83DF-6B0FF48E1DE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18719D1E-4532-4F6F-9995-3AA1E778843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3AF12EDA-6852-4909-B237-86DE6A5E76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0DAC21DD-BC44-4D00-8DCC-8CFBBD378EE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49"/>
          </p:nvPr>
        </p:nvSpPr>
        <p:spPr/>
        <p:txBody>
          <a:bodyPr/>
          <a:p>
            <a:fld id="{A74E75B4-AABF-42DF-A05E-8138C59D1D4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49"/>
          </p:nvPr>
        </p:nvSpPr>
        <p:spPr/>
        <p:txBody>
          <a:bodyPr/>
          <a:p>
            <a:fld id="{47E0A95C-85E4-41A6-8154-CC0202FA215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AEECD561-15E0-4AC8-B22C-D62BBD58E84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71BFF328-446E-4230-93A1-62ABCA4ABDB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379B71CB-8D12-4DC0-A6D7-0007A04D325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3C4AFA80-FCCC-4DE7-AE04-8E15D54268E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C03722EE-6853-4FE8-8CE2-3A3541BEDEB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CD9EA189-CE6E-41E2-9BAD-0BCDF49F9CF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AC817FFC-635E-489D-8C84-08DD074173F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1DEFCCDE-2DD3-4140-8C03-B53FBFAF62F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3CF1EDF-AD53-45A4-A6C4-47BC40813A7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D7ADC8D0-6BAA-4CAB-9EE2-99BBEDC2F4D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D49B56A8-CEC7-420B-B6D0-6B288420F09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BF654E00-FA65-4ABD-92BE-59DECFBBA03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461D5DAC-0911-45B0-B3E3-328FF9F13FB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7534258B-8B8F-4882-9CCF-52F786CF6F7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B50E7CD3-67F3-44F1-8A77-FBF9B14E844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29F381D-1AC7-4582-9D4D-F3CA023D2A8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A82C302E-F07E-4060-B547-C0DE9DF014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E90B2B3C-959C-43C5-86EA-57FDC10EFF6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E7B08393-8BFF-45F5-BD57-307A14EFA8C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8D08E66B-E5D0-4F46-8C6A-ECF7B2DD4A1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B1F37881-A6A9-4F12-AF6E-B635AC8294D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9E99029-28CD-460B-8779-F53347DCDC7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44C349A0-E02C-4244-A4CD-E9A596CBABCC}"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945A1EE5-4A13-4054-9F34-90264F862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2000AB-9113-450A-A5D9-50B2A2309D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E75B38C-A522-4E73-8E0E-02088494AE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C28FB3-4B20-465A-A88E-78498E2D00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0E953C-2C65-4893-8072-C18B591431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5E8ABD-AB21-4E39-A42F-6EDDFC89ED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2A31BE-BD88-4150-B51F-E6B103983F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7F8171-668B-4979-86F9-D36B05C08B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677123-7817-4386-A64B-012A5710A4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B4F0E8-58FB-4377-B2C3-F749E94E27A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9DE200-B1D0-4456-8DB0-6CAE37EC979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27E67A-C894-401B-963B-5272051896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78172B-20F9-42EB-864B-CFEF3853C0A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9F3A8B1-8CED-4A47-8C3E-D2DF390FF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F159DE-C839-4A23-9723-8B2FE109B4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1FA422-0D07-41D6-B1E9-925E544ADD8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7A9467-E18D-4AB3-A7DF-E535BF2B2E0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9279781-2F8A-4026-9C24-461A88E7DE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150F104-DD43-4CB7-AC5D-B371C6D107D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12E708-D6DE-4DB1-9EFF-67DABB54D83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2228414-DBB4-4821-AE28-81F8CA00EB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C812F3D-953E-4F46-AD0F-2844CBD560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493A6C-203C-48A4-AB66-9B5FFEB3EF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D78AEAE-3D2E-47E1-8D66-8F22CC07CAB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28F4FB-64FE-4AF4-94B6-9A096077F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B6F3B3-59C4-49E0-B734-3E610E00AD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3180C54-94FE-4451-88A9-32249C96F2F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3F0E3DB-4B6A-404A-B748-EEC6263242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4B30E0E-E2E4-458D-9E9B-748C77664AE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B0A3BC-E7C3-424B-A44C-52968778E10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05A58F-BCCF-4766-9CF5-75F2584C7DD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B6BF37C7-3210-4C0E-966E-A5D9440306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E09FAE9F-8896-4FED-849F-FB016E3D6C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634AD86B-D3C0-453F-9C36-5EDDA0E38D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9.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C812-BD19-42E5-825E-D74E3836D45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4" name="Picture 8" descr="Vertical_RGB_600"/>
          <p:cNvPicPr/>
          <p:nvPr/>
        </p:nvPicPr>
        <p:blipFill>
          <a:blip r:embed="rId2"/>
          <a:stretch/>
        </p:blipFill>
        <p:spPr>
          <a:xfrm>
            <a:off x="6580080" y="5829480"/>
            <a:ext cx="1116000" cy="914400"/>
          </a:xfrm>
          <a:prstGeom prst="rect">
            <a:avLst/>
          </a:prstGeom>
          <a:ln w="0">
            <a:noFill/>
          </a:ln>
        </p:spPr>
      </p:pic>
      <p:pic>
        <p:nvPicPr>
          <p:cNvPr id="375" name="Picture 9" descr="logo_2004"/>
          <p:cNvPicPr/>
          <p:nvPr/>
        </p:nvPicPr>
        <p:blipFill>
          <a:blip r:embed="rId3"/>
          <a:stretch/>
        </p:blipFill>
        <p:spPr>
          <a:xfrm>
            <a:off x="7950240" y="5829480"/>
            <a:ext cx="965160" cy="914400"/>
          </a:xfrm>
          <a:prstGeom prst="rect">
            <a:avLst/>
          </a:prstGeom>
          <a:ln w="0">
            <a:noFill/>
          </a:ln>
        </p:spPr>
      </p:pic>
      <p:pic>
        <p:nvPicPr>
          <p:cNvPr id="376" name="Picture 9" descr=""/>
          <p:cNvPicPr/>
          <p:nvPr/>
        </p:nvPicPr>
        <p:blipFill>
          <a:blip r:embed="rId4"/>
          <a:stretch/>
        </p:blipFill>
        <p:spPr>
          <a:xfrm>
            <a:off x="4842000" y="5815080"/>
            <a:ext cx="1439640" cy="895320"/>
          </a:xfrm>
          <a:prstGeom prst="rect">
            <a:avLst/>
          </a:prstGeom>
          <a:ln w="0">
            <a:noFill/>
          </a:ln>
        </p:spPr>
      </p:pic>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79"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D8F1-D905-43FA-9669-17A3BDDF413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80"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9" name="Picture 8" descr="Vertical_RGB_600"/>
          <p:cNvPicPr/>
          <p:nvPr/>
        </p:nvPicPr>
        <p:blipFill>
          <a:blip r:embed="rId2"/>
          <a:stretch/>
        </p:blipFill>
        <p:spPr>
          <a:xfrm>
            <a:off x="6580080" y="5829480"/>
            <a:ext cx="1116000" cy="914400"/>
          </a:xfrm>
          <a:prstGeom prst="rect">
            <a:avLst/>
          </a:prstGeom>
          <a:ln w="0">
            <a:noFill/>
          </a:ln>
        </p:spPr>
      </p:pic>
      <p:pic>
        <p:nvPicPr>
          <p:cNvPr id="420" name="Picture 9" descr="logo_2004"/>
          <p:cNvPicPr/>
          <p:nvPr/>
        </p:nvPicPr>
        <p:blipFill>
          <a:blip r:embed="rId3"/>
          <a:stretch/>
        </p:blipFill>
        <p:spPr>
          <a:xfrm>
            <a:off x="7950240" y="5829480"/>
            <a:ext cx="965160" cy="914400"/>
          </a:xfrm>
          <a:prstGeom prst="rect">
            <a:avLst/>
          </a:prstGeom>
          <a:ln w="0">
            <a:noFill/>
          </a:ln>
        </p:spPr>
      </p:pic>
      <p:pic>
        <p:nvPicPr>
          <p:cNvPr id="421" name="Picture 9" descr=""/>
          <p:cNvPicPr/>
          <p:nvPr/>
        </p:nvPicPr>
        <p:blipFill>
          <a:blip r:embed="rId4"/>
          <a:stretch/>
        </p:blipFill>
        <p:spPr>
          <a:xfrm>
            <a:off x="4811760" y="5786280"/>
            <a:ext cx="1501560" cy="935280"/>
          </a:xfrm>
          <a:prstGeom prst="rect">
            <a:avLst/>
          </a:prstGeom>
          <a:ln w="0">
            <a:noFill/>
          </a:ln>
        </p:spPr>
      </p:pic>
      <p:sp>
        <p:nvSpPr>
          <p:cNvPr id="4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2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24"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314D-75F1-4C5A-909C-49F79761044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25"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6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3" name="Picture 5" descr="Vertical_RGB_600"/>
          <p:cNvPicPr/>
          <p:nvPr/>
        </p:nvPicPr>
        <p:blipFill>
          <a:blip r:embed="rId2"/>
          <a:stretch/>
        </p:blipFill>
        <p:spPr>
          <a:xfrm>
            <a:off x="2600280" y="5010120"/>
            <a:ext cx="1673280" cy="1371600"/>
          </a:xfrm>
          <a:prstGeom prst="rect">
            <a:avLst/>
          </a:prstGeom>
          <a:ln w="0">
            <a:noFill/>
          </a:ln>
        </p:spPr>
      </p:pic>
      <p:pic>
        <p:nvPicPr>
          <p:cNvPr id="464" name="Picture 6" descr="logo_2004"/>
          <p:cNvPicPr/>
          <p:nvPr/>
        </p:nvPicPr>
        <p:blipFill>
          <a:blip r:embed="rId3"/>
          <a:stretch/>
        </p:blipFill>
        <p:spPr>
          <a:xfrm>
            <a:off x="4809960" y="5010120"/>
            <a:ext cx="1447920" cy="1371600"/>
          </a:xfrm>
          <a:prstGeom prst="rect">
            <a:avLst/>
          </a:prstGeom>
          <a:ln w="0">
            <a:noFill/>
          </a:ln>
        </p:spPr>
      </p:pic>
      <p:sp>
        <p:nvSpPr>
          <p:cNvPr id="4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0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5" name="Picture 8" descr="Vertical_RGB_600"/>
          <p:cNvPicPr/>
          <p:nvPr/>
        </p:nvPicPr>
        <p:blipFill>
          <a:blip r:embed="rId2"/>
          <a:stretch/>
        </p:blipFill>
        <p:spPr>
          <a:xfrm>
            <a:off x="6580080" y="5829480"/>
            <a:ext cx="1116000" cy="914400"/>
          </a:xfrm>
          <a:prstGeom prst="rect">
            <a:avLst/>
          </a:prstGeom>
          <a:ln w="0">
            <a:noFill/>
          </a:ln>
        </p:spPr>
      </p:pic>
      <p:pic>
        <p:nvPicPr>
          <p:cNvPr id="506" name="Picture 9" descr="logo_2004"/>
          <p:cNvPicPr/>
          <p:nvPr/>
        </p:nvPicPr>
        <p:blipFill>
          <a:blip r:embed="rId3"/>
          <a:stretch/>
        </p:blipFill>
        <p:spPr>
          <a:xfrm>
            <a:off x="7950240" y="5829480"/>
            <a:ext cx="965160" cy="914400"/>
          </a:xfrm>
          <a:prstGeom prst="rect">
            <a:avLst/>
          </a:prstGeom>
          <a:ln w="0">
            <a:noFill/>
          </a:ln>
        </p:spPr>
      </p:pic>
      <p:sp>
        <p:nvSpPr>
          <p:cNvPr id="5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09"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84CA-DE08-4EA5-9DAA-66291110810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10"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9" name="Picture 8" descr="Vertical_RGB_600"/>
          <p:cNvPicPr/>
          <p:nvPr/>
        </p:nvPicPr>
        <p:blipFill>
          <a:blip r:embed="rId2"/>
          <a:stretch/>
        </p:blipFill>
        <p:spPr>
          <a:xfrm>
            <a:off x="6580080" y="5829480"/>
            <a:ext cx="1116000" cy="914400"/>
          </a:xfrm>
          <a:prstGeom prst="rect">
            <a:avLst/>
          </a:prstGeom>
          <a:ln w="0">
            <a:noFill/>
          </a:ln>
        </p:spPr>
      </p:pic>
      <p:pic>
        <p:nvPicPr>
          <p:cNvPr id="550" name="Picture 9" descr="logo_2004"/>
          <p:cNvPicPr/>
          <p:nvPr/>
        </p:nvPicPr>
        <p:blipFill>
          <a:blip r:embed="rId3"/>
          <a:stretch/>
        </p:blipFill>
        <p:spPr>
          <a:xfrm>
            <a:off x="7950240" y="5829480"/>
            <a:ext cx="965160" cy="914400"/>
          </a:xfrm>
          <a:prstGeom prst="rect">
            <a:avLst/>
          </a:prstGeom>
          <a:ln w="0">
            <a:noFill/>
          </a:ln>
        </p:spPr>
      </p:pic>
      <p:sp>
        <p:nvSpPr>
          <p:cNvPr id="5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53"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296E-A843-4DF8-A1C0-79C77D14A02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54"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9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3" name="Picture 8" descr="Vertical_RGB_600"/>
          <p:cNvPicPr/>
          <p:nvPr/>
        </p:nvPicPr>
        <p:blipFill>
          <a:blip r:embed="rId2"/>
          <a:stretch/>
        </p:blipFill>
        <p:spPr>
          <a:xfrm>
            <a:off x="6580080" y="5829480"/>
            <a:ext cx="1116000" cy="914400"/>
          </a:xfrm>
          <a:prstGeom prst="rect">
            <a:avLst/>
          </a:prstGeom>
          <a:ln w="0">
            <a:noFill/>
          </a:ln>
        </p:spPr>
      </p:pic>
      <p:pic>
        <p:nvPicPr>
          <p:cNvPr id="594" name="Picture 9" descr="logo_2004"/>
          <p:cNvPicPr/>
          <p:nvPr/>
        </p:nvPicPr>
        <p:blipFill>
          <a:blip r:embed="rId3"/>
          <a:stretch/>
        </p:blipFill>
        <p:spPr>
          <a:xfrm>
            <a:off x="7950240" y="5829480"/>
            <a:ext cx="965160" cy="914400"/>
          </a:xfrm>
          <a:prstGeom prst="rect">
            <a:avLst/>
          </a:prstGeom>
          <a:ln w="0">
            <a:noFill/>
          </a:ln>
        </p:spPr>
      </p:pic>
      <p:sp>
        <p:nvSpPr>
          <p:cNvPr id="5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7"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1064-6695-4FAD-95BD-CFF65C666C5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8"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3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7" name="Picture 8" descr="Vertical_RGB_600"/>
          <p:cNvPicPr/>
          <p:nvPr/>
        </p:nvPicPr>
        <p:blipFill>
          <a:blip r:embed="rId2"/>
          <a:stretch/>
        </p:blipFill>
        <p:spPr>
          <a:xfrm>
            <a:off x="6580080" y="5829480"/>
            <a:ext cx="1116000" cy="914400"/>
          </a:xfrm>
          <a:prstGeom prst="rect">
            <a:avLst/>
          </a:prstGeom>
          <a:ln w="0">
            <a:noFill/>
          </a:ln>
        </p:spPr>
      </p:pic>
      <p:pic>
        <p:nvPicPr>
          <p:cNvPr id="638" name="Picture 9" descr="logo_2004"/>
          <p:cNvPicPr/>
          <p:nvPr/>
        </p:nvPicPr>
        <p:blipFill>
          <a:blip r:embed="rId3"/>
          <a:stretch/>
        </p:blipFill>
        <p:spPr>
          <a:xfrm>
            <a:off x="7950240" y="5829480"/>
            <a:ext cx="965160" cy="914400"/>
          </a:xfrm>
          <a:prstGeom prst="rect">
            <a:avLst/>
          </a:prstGeom>
          <a:ln w="0">
            <a:noFill/>
          </a:ln>
        </p:spPr>
      </p:pic>
      <p:sp>
        <p:nvSpPr>
          <p:cNvPr id="6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4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41"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83F8-7399-4B9D-857A-C3196F1F12C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42"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81" name="Picture 8" descr="Vertical_RGB_600"/>
          <p:cNvPicPr/>
          <p:nvPr/>
        </p:nvPicPr>
        <p:blipFill>
          <a:blip r:embed="rId2"/>
          <a:stretch/>
        </p:blipFill>
        <p:spPr>
          <a:xfrm>
            <a:off x="6580080" y="5829480"/>
            <a:ext cx="1116000" cy="914400"/>
          </a:xfrm>
          <a:prstGeom prst="rect">
            <a:avLst/>
          </a:prstGeom>
          <a:ln w="0">
            <a:noFill/>
          </a:ln>
        </p:spPr>
      </p:pic>
      <p:pic>
        <p:nvPicPr>
          <p:cNvPr id="682" name="Picture 9" descr="logo_2004"/>
          <p:cNvPicPr/>
          <p:nvPr/>
        </p:nvPicPr>
        <p:blipFill>
          <a:blip r:embed="rId3"/>
          <a:stretch/>
        </p:blipFill>
        <p:spPr>
          <a:xfrm>
            <a:off x="7950240" y="5829480"/>
            <a:ext cx="965160" cy="914400"/>
          </a:xfrm>
          <a:prstGeom prst="rect">
            <a:avLst/>
          </a:prstGeom>
          <a:ln w="0">
            <a:noFill/>
          </a:ln>
        </p:spPr>
      </p:pic>
      <p:sp>
        <p:nvSpPr>
          <p:cNvPr id="6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85"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7925-9A70-4F27-8246-2DD79C6F0AE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86"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2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5" name="Picture 8" descr="Vertical_RGB_600"/>
          <p:cNvPicPr/>
          <p:nvPr/>
        </p:nvPicPr>
        <p:blipFill>
          <a:blip r:embed="rId2"/>
          <a:stretch/>
        </p:blipFill>
        <p:spPr>
          <a:xfrm>
            <a:off x="6580080" y="5829480"/>
            <a:ext cx="1116000" cy="914400"/>
          </a:xfrm>
          <a:prstGeom prst="rect">
            <a:avLst/>
          </a:prstGeom>
          <a:ln w="0">
            <a:noFill/>
          </a:ln>
        </p:spPr>
      </p:pic>
      <p:pic>
        <p:nvPicPr>
          <p:cNvPr id="726" name="Picture 9" descr="logo_2004"/>
          <p:cNvPicPr/>
          <p:nvPr/>
        </p:nvPicPr>
        <p:blipFill>
          <a:blip r:embed="rId3"/>
          <a:stretch/>
        </p:blipFill>
        <p:spPr>
          <a:xfrm>
            <a:off x="7950240" y="5829480"/>
            <a:ext cx="965160" cy="914400"/>
          </a:xfrm>
          <a:prstGeom prst="rect">
            <a:avLst/>
          </a:prstGeom>
          <a:ln w="0">
            <a:noFill/>
          </a:ln>
        </p:spPr>
      </p:pic>
      <p:sp>
        <p:nvSpPr>
          <p:cNvPr id="7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9"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C5CF-91D1-41C7-894B-EE8F37D57AB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30"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9" name="Picture 8" descr="Vertical_RGB_600"/>
          <p:cNvPicPr/>
          <p:nvPr/>
        </p:nvPicPr>
        <p:blipFill>
          <a:blip r:embed="rId2"/>
          <a:stretch/>
        </p:blipFill>
        <p:spPr>
          <a:xfrm>
            <a:off x="6580080" y="5829480"/>
            <a:ext cx="1116000" cy="914400"/>
          </a:xfrm>
          <a:prstGeom prst="rect">
            <a:avLst/>
          </a:prstGeom>
          <a:ln w="0">
            <a:noFill/>
          </a:ln>
        </p:spPr>
      </p:pic>
      <p:pic>
        <p:nvPicPr>
          <p:cNvPr id="770" name="Picture 9" descr="logo_2004"/>
          <p:cNvPicPr/>
          <p:nvPr/>
        </p:nvPicPr>
        <p:blipFill>
          <a:blip r:embed="rId3"/>
          <a:stretch/>
        </p:blipFill>
        <p:spPr>
          <a:xfrm>
            <a:off x="7950240" y="5829480"/>
            <a:ext cx="965160" cy="914400"/>
          </a:xfrm>
          <a:prstGeom prst="rect">
            <a:avLst/>
          </a:prstGeom>
          <a:ln w="0">
            <a:noFill/>
          </a:ln>
        </p:spPr>
      </p:pic>
      <p:sp>
        <p:nvSpPr>
          <p:cNvPr id="7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7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73"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2FDD-0024-4364-BE5D-D89CC12274A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74"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1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3" name="Picture 8" descr="Vertical_RGB_600"/>
          <p:cNvPicPr/>
          <p:nvPr/>
        </p:nvPicPr>
        <p:blipFill>
          <a:blip r:embed="rId2"/>
          <a:stretch/>
        </p:blipFill>
        <p:spPr>
          <a:xfrm>
            <a:off x="6580080" y="5829480"/>
            <a:ext cx="1116000" cy="914400"/>
          </a:xfrm>
          <a:prstGeom prst="rect">
            <a:avLst/>
          </a:prstGeom>
          <a:ln w="0">
            <a:noFill/>
          </a:ln>
        </p:spPr>
      </p:pic>
      <p:pic>
        <p:nvPicPr>
          <p:cNvPr id="814" name="Picture 9" descr="logo_2004"/>
          <p:cNvPicPr/>
          <p:nvPr/>
        </p:nvPicPr>
        <p:blipFill>
          <a:blip r:embed="rId3"/>
          <a:stretch/>
        </p:blipFill>
        <p:spPr>
          <a:xfrm>
            <a:off x="7950240" y="5829480"/>
            <a:ext cx="965160" cy="914400"/>
          </a:xfrm>
          <a:prstGeom prst="rect">
            <a:avLst/>
          </a:prstGeom>
          <a:ln w="0">
            <a:noFill/>
          </a:ln>
        </p:spPr>
      </p:pic>
      <p:sp>
        <p:nvSpPr>
          <p:cNvPr id="8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17"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B5F9-4DEF-44F9-940C-7199E267B42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8"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5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7" name="Picture 8" descr="Vertical_RGB_600"/>
          <p:cNvPicPr/>
          <p:nvPr/>
        </p:nvPicPr>
        <p:blipFill>
          <a:blip r:embed="rId2"/>
          <a:stretch/>
        </p:blipFill>
        <p:spPr>
          <a:xfrm>
            <a:off x="6580080" y="5829480"/>
            <a:ext cx="1116000" cy="914400"/>
          </a:xfrm>
          <a:prstGeom prst="rect">
            <a:avLst/>
          </a:prstGeom>
          <a:ln w="0">
            <a:noFill/>
          </a:ln>
        </p:spPr>
      </p:pic>
      <p:pic>
        <p:nvPicPr>
          <p:cNvPr id="858" name="Picture 9" descr="logo_2004"/>
          <p:cNvPicPr/>
          <p:nvPr/>
        </p:nvPicPr>
        <p:blipFill>
          <a:blip r:embed="rId3"/>
          <a:stretch/>
        </p:blipFill>
        <p:spPr>
          <a:xfrm>
            <a:off x="7950240" y="5829480"/>
            <a:ext cx="965160" cy="914400"/>
          </a:xfrm>
          <a:prstGeom prst="rect">
            <a:avLst/>
          </a:prstGeom>
          <a:ln w="0">
            <a:noFill/>
          </a:ln>
        </p:spPr>
      </p:pic>
      <p:sp>
        <p:nvSpPr>
          <p:cNvPr id="8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6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1"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0839-7E6F-4941-8E90-28E9020BB61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62"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01" name="Picture 8" descr="Vertical_RGB_600"/>
          <p:cNvPicPr/>
          <p:nvPr/>
        </p:nvPicPr>
        <p:blipFill>
          <a:blip r:embed="rId2"/>
          <a:stretch/>
        </p:blipFill>
        <p:spPr>
          <a:xfrm>
            <a:off x="6580080" y="5829480"/>
            <a:ext cx="1116000" cy="914400"/>
          </a:xfrm>
          <a:prstGeom prst="rect">
            <a:avLst/>
          </a:prstGeom>
          <a:ln w="0">
            <a:noFill/>
          </a:ln>
        </p:spPr>
      </p:pic>
      <p:pic>
        <p:nvPicPr>
          <p:cNvPr id="902" name="Picture 9" descr="logo_2004"/>
          <p:cNvPicPr/>
          <p:nvPr/>
        </p:nvPicPr>
        <p:blipFill>
          <a:blip r:embed="rId3"/>
          <a:stretch/>
        </p:blipFill>
        <p:spPr>
          <a:xfrm>
            <a:off x="7950240" y="5829480"/>
            <a:ext cx="965160" cy="914400"/>
          </a:xfrm>
          <a:prstGeom prst="rect">
            <a:avLst/>
          </a:prstGeom>
          <a:ln w="0">
            <a:noFill/>
          </a:ln>
        </p:spPr>
      </p:pic>
      <p:sp>
        <p:nvSpPr>
          <p:cNvPr id="9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0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05"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35F9-28A1-4B00-8A05-3AA1035810B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06"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43"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4" name="Picture 5" descr="Vertical_RGB_600"/>
          <p:cNvPicPr/>
          <p:nvPr/>
        </p:nvPicPr>
        <p:blipFill>
          <a:blip r:embed="rId2"/>
          <a:stretch/>
        </p:blipFill>
        <p:spPr>
          <a:xfrm>
            <a:off x="5716440" y="5159520"/>
            <a:ext cx="1551240" cy="1271520"/>
          </a:xfrm>
          <a:prstGeom prst="rect">
            <a:avLst/>
          </a:prstGeom>
          <a:ln w="0">
            <a:noFill/>
          </a:ln>
        </p:spPr>
      </p:pic>
      <p:pic>
        <p:nvPicPr>
          <p:cNvPr id="945" name="Picture 6" descr="logo_2004"/>
          <p:cNvPicPr/>
          <p:nvPr/>
        </p:nvPicPr>
        <p:blipFill>
          <a:blip r:embed="rId3"/>
          <a:stretch/>
        </p:blipFill>
        <p:spPr>
          <a:xfrm>
            <a:off x="7608960" y="5121360"/>
            <a:ext cx="1342800" cy="1271520"/>
          </a:xfrm>
          <a:prstGeom prst="rect">
            <a:avLst/>
          </a:prstGeom>
          <a:ln w="0">
            <a:noFill/>
          </a:ln>
        </p:spPr>
      </p:pic>
      <p:pic>
        <p:nvPicPr>
          <p:cNvPr id="946" name="Picture 13" descr=""/>
          <p:cNvPicPr/>
          <p:nvPr/>
        </p:nvPicPr>
        <p:blipFill>
          <a:blip r:embed="rId4"/>
          <a:stretch/>
        </p:blipFill>
        <p:spPr>
          <a:xfrm>
            <a:off x="4444920" y="5219640"/>
            <a:ext cx="933480" cy="1120680"/>
          </a:xfrm>
          <a:prstGeom prst="rect">
            <a:avLst/>
          </a:prstGeom>
          <a:ln w="0">
            <a:noFill/>
          </a:ln>
        </p:spPr>
      </p:pic>
      <p:sp>
        <p:nvSpPr>
          <p:cNvPr id="947" name="Text Box 14"/>
          <p:cNvSpPr/>
          <p:nvPr/>
        </p:nvSpPr>
        <p:spPr>
          <a:xfrm>
            <a:off x="0" y="5361120"/>
            <a:ext cx="1690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4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8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89"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6F9F-7F65-4EBF-9A1B-7A21C7A8CE3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90"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2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30"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291B-81F0-4DC9-A523-44E42263507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31"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7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71"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E546-F1F3-406A-8158-FC28BD1EDC2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72"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0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1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2"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ABE3-D924-42FA-A33F-28FECBA6D4D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13"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5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53"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95BF-39C7-4A68-8C86-1FF496C5D46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54"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94"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AF17-0026-4F52-A6F9-708417489ED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95"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E733-4CD3-440E-B92E-C133EF2225B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3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35"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9C2C-E918-4F43-B047-9748005471A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36"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7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7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76" name="PlaceHolder 3"/>
          <p:cNvSpPr>
            <a:spLocks noGrp="1"/>
          </p:cNvSpPr>
          <p:nvPr>
            <p:ph type="sldNum" idx="4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83FD-ADF5-467B-A528-DE4B0561C17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77" name="PlaceHolder 4"/>
          <p:cNvSpPr>
            <a:spLocks noGrp="1"/>
          </p:cNvSpPr>
          <p:nvPr>
            <p:ph type="ftr" idx="5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1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17" name="PlaceHolder 3"/>
          <p:cNvSpPr>
            <a:spLocks noGrp="1"/>
          </p:cNvSpPr>
          <p:nvPr>
            <p:ph type="sldNum" idx="5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ECB9-3577-4B8A-86E1-F7205C96F64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18" name="PlaceHolder 4"/>
          <p:cNvSpPr>
            <a:spLocks noGrp="1"/>
          </p:cNvSpPr>
          <p:nvPr>
            <p:ph type="ftr" idx="5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5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5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58" name="PlaceHolder 3"/>
          <p:cNvSpPr>
            <a:spLocks noGrp="1"/>
          </p:cNvSpPr>
          <p:nvPr>
            <p:ph type="sldNum" idx="5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85CD-D21F-457C-9051-DBD8E87DBAD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59" name="PlaceHolder 4"/>
          <p:cNvSpPr>
            <a:spLocks noGrp="1"/>
          </p:cNvSpPr>
          <p:nvPr>
            <p:ph type="ftr" idx="5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60"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09FA-0E56-4985-8CB0-2DBEEA1E66F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6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8" descr="Vertical_RGB_600"/>
          <p:cNvPicPr/>
          <p:nvPr/>
        </p:nvPicPr>
        <p:blipFill>
          <a:blip r:embed="rId2"/>
          <a:stretch/>
        </p:blipFill>
        <p:spPr>
          <a:xfrm>
            <a:off x="6580080" y="5829480"/>
            <a:ext cx="1116000" cy="914400"/>
          </a:xfrm>
          <a:prstGeom prst="rect">
            <a:avLst/>
          </a:prstGeom>
          <a:ln w="0">
            <a:noFill/>
          </a:ln>
        </p:spPr>
      </p:pic>
      <p:pic>
        <p:nvPicPr>
          <p:cNvPr id="16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3"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C86D-7C83-4F24-8E72-5F76C8E951F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3" name="Picture 5" descr="Vertical_RGB_600"/>
          <p:cNvPicPr/>
          <p:nvPr/>
        </p:nvPicPr>
        <p:blipFill>
          <a:blip r:embed="rId2"/>
          <a:stretch/>
        </p:blipFill>
        <p:spPr>
          <a:xfrm>
            <a:off x="5716440" y="5159520"/>
            <a:ext cx="1551240" cy="1271520"/>
          </a:xfrm>
          <a:prstGeom prst="rect">
            <a:avLst/>
          </a:prstGeom>
          <a:ln w="0">
            <a:noFill/>
          </a:ln>
        </p:spPr>
      </p:pic>
      <p:pic>
        <p:nvPicPr>
          <p:cNvPr id="244" name="Picture 6" descr="logo_2004"/>
          <p:cNvPicPr/>
          <p:nvPr/>
        </p:nvPicPr>
        <p:blipFill>
          <a:blip r:embed="rId3"/>
          <a:stretch/>
        </p:blipFill>
        <p:spPr>
          <a:xfrm>
            <a:off x="7608960" y="5121360"/>
            <a:ext cx="1342800" cy="1271520"/>
          </a:xfrm>
          <a:prstGeom prst="rect">
            <a:avLst/>
          </a:prstGeom>
          <a:ln w="0">
            <a:noFill/>
          </a:ln>
        </p:spPr>
      </p:pic>
      <p:pic>
        <p:nvPicPr>
          <p:cNvPr id="245" name="Picture 13" descr=""/>
          <p:cNvPicPr/>
          <p:nvPr/>
        </p:nvPicPr>
        <p:blipFill>
          <a:blip r:embed="rId4"/>
          <a:stretch/>
        </p:blipFill>
        <p:spPr>
          <a:xfrm>
            <a:off x="4444920" y="5219640"/>
            <a:ext cx="933480" cy="1120680"/>
          </a:xfrm>
          <a:prstGeom prst="rect">
            <a:avLst/>
          </a:prstGeom>
          <a:ln w="0">
            <a:noFill/>
          </a:ln>
        </p:spPr>
      </p:pic>
      <p:sp>
        <p:nvSpPr>
          <p:cNvPr id="246" name="Text Box 14"/>
          <p:cNvSpPr/>
          <p:nvPr/>
        </p:nvSpPr>
        <p:spPr>
          <a:xfrm>
            <a:off x="0" y="5361120"/>
            <a:ext cx="1690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6" name="Picture 5" descr="Vertical_RGB_600"/>
          <p:cNvPicPr/>
          <p:nvPr/>
        </p:nvPicPr>
        <p:blipFill>
          <a:blip r:embed="rId2"/>
          <a:stretch/>
        </p:blipFill>
        <p:spPr>
          <a:xfrm>
            <a:off x="3935520" y="5052960"/>
            <a:ext cx="1673280" cy="1371600"/>
          </a:xfrm>
          <a:prstGeom prst="rect">
            <a:avLst/>
          </a:prstGeom>
          <a:ln w="0">
            <a:noFill/>
          </a:ln>
        </p:spPr>
      </p:pic>
      <p:pic>
        <p:nvPicPr>
          <p:cNvPr id="287" name="Picture 6" descr="logo_2004"/>
          <p:cNvPicPr/>
          <p:nvPr/>
        </p:nvPicPr>
        <p:blipFill>
          <a:blip r:embed="rId3"/>
          <a:stretch/>
        </p:blipFill>
        <p:spPr>
          <a:xfrm>
            <a:off x="6145200" y="5052960"/>
            <a:ext cx="1447920" cy="1371600"/>
          </a:xfrm>
          <a:prstGeom prst="rect">
            <a:avLst/>
          </a:prstGeom>
          <a:ln w="0">
            <a:noFill/>
          </a:ln>
        </p:spPr>
      </p:pic>
      <p:pic>
        <p:nvPicPr>
          <p:cNvPr id="288" name="Picture 12" descr=""/>
          <p:cNvPicPr/>
          <p:nvPr/>
        </p:nvPicPr>
        <p:blipFill>
          <a:blip r:embed="rId4"/>
          <a:stretch/>
        </p:blipFill>
        <p:spPr>
          <a:xfrm>
            <a:off x="1200240" y="5052960"/>
            <a:ext cx="2182680" cy="1357200"/>
          </a:xfrm>
          <a:prstGeom prst="rect">
            <a:avLst/>
          </a:prstGeom>
          <a:ln w="0">
            <a:noFill/>
          </a:ln>
        </p:spPr>
      </p:pic>
      <p:sp>
        <p:nvSpPr>
          <p:cNvPr id="2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29" name="Picture 8" descr="Vertical_RGB_600"/>
          <p:cNvPicPr/>
          <p:nvPr/>
        </p:nvPicPr>
        <p:blipFill>
          <a:blip r:embed="rId2"/>
          <a:stretch/>
        </p:blipFill>
        <p:spPr>
          <a:xfrm>
            <a:off x="6580080" y="5829480"/>
            <a:ext cx="1116000" cy="914400"/>
          </a:xfrm>
          <a:prstGeom prst="rect">
            <a:avLst/>
          </a:prstGeom>
          <a:ln w="0">
            <a:noFill/>
          </a:ln>
        </p:spPr>
      </p:pic>
      <p:pic>
        <p:nvPicPr>
          <p:cNvPr id="330" name="Picture 9" descr="logo_2004"/>
          <p:cNvPicPr/>
          <p:nvPr/>
        </p:nvPicPr>
        <p:blipFill>
          <a:blip r:embed="rId3"/>
          <a:stretch/>
        </p:blipFill>
        <p:spPr>
          <a:xfrm>
            <a:off x="7950240" y="5829480"/>
            <a:ext cx="965160" cy="914400"/>
          </a:xfrm>
          <a:prstGeom prst="rect">
            <a:avLst/>
          </a:prstGeom>
          <a:ln w="0">
            <a:noFill/>
          </a:ln>
        </p:spPr>
      </p:pic>
      <p:pic>
        <p:nvPicPr>
          <p:cNvPr id="331" name="Picture 9" descr=""/>
          <p:cNvPicPr/>
          <p:nvPr/>
        </p:nvPicPr>
        <p:blipFill>
          <a:blip r:embed="rId4"/>
          <a:stretch/>
        </p:blipFill>
        <p:spPr>
          <a:xfrm>
            <a:off x="4738680" y="5776920"/>
            <a:ext cx="1552680" cy="965160"/>
          </a:xfrm>
          <a:prstGeom prst="rect">
            <a:avLst/>
          </a:prstGeom>
          <a:ln w="0">
            <a:noFill/>
          </a:ln>
        </p:spPr>
      </p:pic>
      <p:sp>
        <p:nvSpPr>
          <p:cNvPr id="3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34"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FDDC-5FB1-4CEA-85BC-EE468F00A85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35"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easureevaluation.org/ddu-toolkit" TargetMode="External"/><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09080" y="900000"/>
            <a:ext cx="884556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Calibri"/>
              </a:rPr>
              <a:t>Session 3: Context Of Decision Making</a:t>
            </a:r>
            <a:br>
              <a:rPr sz="4800"/>
            </a:br>
            <a:br>
              <a:rPr sz="4800"/>
            </a:br>
            <a:r>
              <a:rPr b="0" lang="en-US" sz="2400" spc="-1" strike="noStrike">
                <a:solidFill>
                  <a:srgbClr val="ffffff"/>
                </a:solidFill>
                <a:latin typeface="Arial"/>
                <a:ea typeface="Calibri"/>
              </a:rPr>
              <a:t>Building Leadership for Data Demand and U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1029960" y="149040"/>
            <a:ext cx="6637320" cy="1143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ntext of Decision Making</a:t>
            </a:r>
            <a:endParaRPr b="1" lang="en-US" sz="3600" spc="-1" strike="noStrike">
              <a:solidFill>
                <a:srgbClr val="ffffff"/>
              </a:solidFill>
              <a:latin typeface="Arial"/>
            </a:endParaRPr>
          </a:p>
        </p:txBody>
      </p:sp>
      <p:pic>
        <p:nvPicPr>
          <p:cNvPr id="1430" name="Picture 4" descr=""/>
          <p:cNvPicPr/>
          <p:nvPr/>
        </p:nvPicPr>
        <p:blipFill>
          <a:blip r:embed="rId1"/>
          <a:stretch/>
        </p:blipFill>
        <p:spPr>
          <a:xfrm>
            <a:off x="1382760" y="988920"/>
            <a:ext cx="6514920" cy="4695840"/>
          </a:xfrm>
          <a:prstGeom prst="rect">
            <a:avLst/>
          </a:prstGeom>
          <a:ln w="0">
            <a:noFill/>
          </a:ln>
        </p:spPr>
      </p:pic>
      <p:sp>
        <p:nvSpPr>
          <p:cNvPr id="1431" name="TextBox 2"/>
          <p:cNvSpPr/>
          <p:nvPr/>
        </p:nvSpPr>
        <p:spPr>
          <a:xfrm>
            <a:off x="4915080" y="3995640"/>
            <a:ext cx="1234800" cy="905400"/>
          </a:xfrm>
          <a:prstGeom prst="rect">
            <a:avLst/>
          </a:prstGeom>
          <a:solidFill>
            <a:srgbClr val="ffc000"/>
          </a:solid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2" name="TextBox 3"/>
          <p:cNvSpPr/>
          <p:nvPr/>
        </p:nvSpPr>
        <p:spPr>
          <a:xfrm>
            <a:off x="5010120" y="4249800"/>
            <a:ext cx="1486080" cy="4024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61616"/>
                </a:solidFill>
                <a:latin typeface="Arial"/>
              </a:rPr>
              <a:t>Questions</a:t>
            </a:r>
            <a:endParaRPr b="0" lang="en-US" sz="2100" spc="-1" strike="noStrike">
              <a:solidFill>
                <a:srgbClr val="ffffff"/>
              </a:solidFill>
              <a:latin typeface="Arial"/>
            </a:endParaRPr>
          </a:p>
        </p:txBody>
      </p:sp>
      <p:sp>
        <p:nvSpPr>
          <p:cNvPr id="1433" name="TextBox 1"/>
          <p:cNvSpPr/>
          <p:nvPr/>
        </p:nvSpPr>
        <p:spPr>
          <a:xfrm>
            <a:off x="219240" y="3013200"/>
            <a:ext cx="16239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a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ffff"/>
                </a:solidFill>
                <a:latin typeface="Arial"/>
              </a:rPr>
              <a:t>Promotion of Data Sources</a:t>
            </a:r>
            <a:endParaRPr b="0" lang="en-US" sz="1800" spc="-1" strike="noStrike">
              <a:solidFill>
                <a:srgbClr val="ffffff"/>
              </a:solidFill>
              <a:latin typeface="Arial"/>
            </a:endParaRPr>
          </a:p>
        </p:txBody>
      </p:sp>
      <p:sp>
        <p:nvSpPr>
          <p:cNvPr id="1434" name="TextBox 4"/>
          <p:cNvSpPr/>
          <p:nvPr/>
        </p:nvSpPr>
        <p:spPr>
          <a:xfrm>
            <a:off x="219240" y="3924360"/>
            <a:ext cx="13237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a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ffff"/>
                </a:solidFill>
                <a:latin typeface="Arial"/>
              </a:rPr>
              <a:t>Access </a:t>
            </a:r>
            <a:endParaRPr b="0" lang="en-US" sz="1800" spc="-1" strike="noStrike">
              <a:solidFill>
                <a:srgbClr val="ffffff"/>
              </a:solidFill>
              <a:latin typeface="Arial"/>
            </a:endParaRPr>
          </a:p>
        </p:txBody>
      </p:sp>
      <p:sp>
        <p:nvSpPr>
          <p:cNvPr id="1435" name="TextBox 5"/>
          <p:cNvSpPr/>
          <p:nvPr/>
        </p:nvSpPr>
        <p:spPr>
          <a:xfrm>
            <a:off x="219240" y="4292640"/>
            <a:ext cx="1730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a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ffff"/>
                </a:solidFill>
                <a:latin typeface="Arial"/>
              </a:rPr>
              <a:t>Information F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3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34">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d Information</a:t>
            </a:r>
            <a:endParaRPr b="1" lang="en-US" sz="3600" spc="-1" strike="noStrike">
              <a:solidFill>
                <a:srgbClr val="ffffff"/>
              </a:solidFill>
              <a:latin typeface="Arial"/>
            </a:endParaRPr>
          </a:p>
        </p:txBody>
      </p:sp>
      <p:sp>
        <p:nvSpPr>
          <p:cNvPr id="1437" name=""/>
          <p:cNvSpPr txBox="1"/>
          <p:nvPr/>
        </p:nvSpPr>
        <p:spPr>
          <a:xfrm>
            <a:off x="484200" y="1374840"/>
            <a:ext cx="7972560" cy="4354560"/>
          </a:xfrm>
          <a:prstGeom prst="rect">
            <a:avLst/>
          </a:prstGeom>
          <a:noFill/>
          <a:ln w="0">
            <a:noFill/>
          </a:ln>
        </p:spPr>
        <p:txBody>
          <a:bodyPr anchor="t">
            <a:normAutofit/>
          </a:bodyPr>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u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illance data </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sehold survey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level service statistics (RHI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and management information</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ing, estimates, and projection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sons to Consider Information Flow</a:t>
            </a:r>
            <a:endParaRPr b="1" lang="en-US" sz="3600" spc="-1" strike="noStrike">
              <a:solidFill>
                <a:srgbClr val="ffffff"/>
              </a:solidFill>
              <a:latin typeface="Arial"/>
            </a:endParaRPr>
          </a:p>
        </p:txBody>
      </p:sp>
      <p:sp>
        <p:nvSpPr>
          <p:cNvPr id="1439"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data not used locally</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level information does not return back to local level</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data not assessed in broad context</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incentive to produce high-quality data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0"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104A-1EA9-4627-82A6-B142841BC3F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Use Mapping Tool</a:t>
            </a:r>
            <a:endParaRPr b="1" lang="en-US" sz="3600" spc="-1" strike="noStrike">
              <a:solidFill>
                <a:srgbClr val="ffffff"/>
              </a:solidFill>
              <a:latin typeface="Arial"/>
            </a:endParaRPr>
          </a:p>
        </p:txBody>
      </p:sp>
      <p:sp>
        <p:nvSpPr>
          <p:cNvPr id="1442" name=""/>
          <p:cNvSpPr txBox="1"/>
          <p:nvPr/>
        </p:nvSpPr>
        <p:spPr>
          <a:xfrm>
            <a:off x="923760" y="1599840"/>
            <a:ext cx="7763040" cy="39625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Use Problem:</a:t>
            </a:r>
            <a:endParaRPr b="0" lang="en-US" sz="24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is collected, but not interpreted by those who can use it.</a:t>
            </a:r>
            <a:endParaRPr b="0" lang="en-US" sz="2000" spc="-1" strike="noStrike">
              <a:solidFill>
                <a:srgbClr val="ffffff"/>
              </a:solidFill>
              <a:latin typeface="Arial"/>
            </a:endParaRPr>
          </a:p>
          <a:p>
            <a:pPr lvl="1" marL="743040" indent="-2858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Use Solution: </a:t>
            </a:r>
            <a:endParaRPr b="0" lang="en-US" sz="24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ss how data is translated into useful information within a health system.</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how that information can be used and by who to improve health service delive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Use Mapping Tool</a:t>
            </a:r>
            <a:endParaRPr b="1" lang="en-US" sz="3600" spc="-1" strike="noStrike">
              <a:solidFill>
                <a:srgbClr val="ffffff"/>
              </a:solidFill>
              <a:latin typeface="Arial"/>
            </a:endParaRPr>
          </a:p>
        </p:txBody>
      </p:sp>
      <p:sp>
        <p:nvSpPr>
          <p:cNvPr id="1444" name=""/>
          <p:cNvSpPr txBox="1"/>
          <p:nvPr/>
        </p:nvSpPr>
        <p:spPr>
          <a:xfrm>
            <a:off x="923760" y="1599840"/>
            <a:ext cx="7763040" cy="3962520"/>
          </a:xfrm>
          <a:prstGeom prst="rect">
            <a:avLst/>
          </a:prstGeom>
          <a:noFill/>
          <a:ln w="0">
            <a:noFill/>
          </a:ln>
        </p:spPr>
        <p:txBody>
          <a:bodyPr anchor="t">
            <a:norm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oals:</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opportunities to increase </a:t>
            </a:r>
            <a:r>
              <a:rPr b="0" lang="en-US" sz="2000" spc="-1" strike="noStrike" u="sng">
                <a:solidFill>
                  <a:srgbClr val="ffffff"/>
                </a:solidFill>
                <a:uFillTx/>
                <a:latin typeface="Arial"/>
              </a:rPr>
              <a:t>who</a:t>
            </a:r>
            <a:r>
              <a:rPr b="0" lang="en-US" sz="2000" spc="-1" strike="noStrike">
                <a:solidFill>
                  <a:srgbClr val="ffffff"/>
                </a:solidFill>
                <a:latin typeface="Arial"/>
              </a:rPr>
              <a:t> translates data into useful information</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ng </a:t>
            </a:r>
            <a:r>
              <a:rPr b="0" lang="en-US" sz="2000" spc="-1" strike="noStrike" u="sng">
                <a:solidFill>
                  <a:srgbClr val="ffffff"/>
                </a:solidFill>
                <a:uFillTx/>
                <a:latin typeface="Arial"/>
              </a:rPr>
              <a:t>local expertise</a:t>
            </a:r>
            <a:r>
              <a:rPr b="0" lang="en-US" sz="2000" spc="-1" strike="noStrike">
                <a:solidFill>
                  <a:srgbClr val="ffffff"/>
                </a:solidFill>
                <a:latin typeface="Arial"/>
              </a:rPr>
              <a:t> into data interpretation and increase use of data to inform programmatic decisions.</a:t>
            </a:r>
            <a:endParaRPr b="0" lang="en-US" sz="2000" spc="-1" strike="noStrike">
              <a:solidFill>
                <a:srgbClr val="ffffff"/>
              </a:solidFill>
              <a:latin typeface="Arial"/>
            </a:endParaRPr>
          </a:p>
          <a:p>
            <a:pPr lvl="1" marL="743040" indent="-2858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ways that information can be presented as </a:t>
            </a:r>
            <a:r>
              <a:rPr b="0" lang="en-US" sz="2000" spc="-1" strike="noStrike" u="sng">
                <a:solidFill>
                  <a:srgbClr val="ffffff"/>
                </a:solidFill>
                <a:uFillTx/>
                <a:latin typeface="Arial"/>
              </a:rPr>
              <a:t>feedback</a:t>
            </a:r>
            <a:r>
              <a:rPr b="0" lang="en-US" sz="2000" spc="-1" strike="noStrike">
                <a:solidFill>
                  <a:srgbClr val="ffffff"/>
                </a:solidFill>
                <a:latin typeface="Arial"/>
              </a:rPr>
              <a:t> to others in the health service 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1321920" y="191880"/>
            <a:ext cx="6637320" cy="1143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ntext of Decision Making</a:t>
            </a:r>
            <a:endParaRPr b="1" lang="en-US" sz="3600" spc="-1" strike="noStrike">
              <a:solidFill>
                <a:srgbClr val="ffffff"/>
              </a:solidFill>
              <a:latin typeface="Arial"/>
            </a:endParaRPr>
          </a:p>
        </p:txBody>
      </p:sp>
      <p:pic>
        <p:nvPicPr>
          <p:cNvPr id="1446" name="Picture 4" descr=""/>
          <p:cNvPicPr/>
          <p:nvPr/>
        </p:nvPicPr>
        <p:blipFill>
          <a:blip r:embed="rId1"/>
          <a:stretch/>
        </p:blipFill>
        <p:spPr>
          <a:xfrm>
            <a:off x="1382760" y="988920"/>
            <a:ext cx="6514920" cy="4695840"/>
          </a:xfrm>
          <a:prstGeom prst="rect">
            <a:avLst/>
          </a:prstGeom>
          <a:ln w="0">
            <a:noFill/>
          </a:ln>
        </p:spPr>
      </p:pic>
      <p:sp>
        <p:nvSpPr>
          <p:cNvPr id="1447" name="TextBox 2"/>
          <p:cNvSpPr/>
          <p:nvPr/>
        </p:nvSpPr>
        <p:spPr>
          <a:xfrm>
            <a:off x="4915080" y="3995640"/>
            <a:ext cx="1234800" cy="905400"/>
          </a:xfrm>
          <a:prstGeom prst="rect">
            <a:avLst/>
          </a:prstGeom>
          <a:solidFill>
            <a:srgbClr val="ffc000"/>
          </a:solid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8" name="TextBox 3"/>
          <p:cNvSpPr/>
          <p:nvPr/>
        </p:nvSpPr>
        <p:spPr>
          <a:xfrm>
            <a:off x="4915080" y="4240080"/>
            <a:ext cx="1485720" cy="4024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61616"/>
                </a:solidFill>
                <a:latin typeface="Arial"/>
              </a:rPr>
              <a:t>Questions</a:t>
            </a:r>
            <a:endParaRPr b="0" lang="en-US" sz="2100" spc="-1" strike="noStrike">
              <a:solidFill>
                <a:srgbClr val="ffffff"/>
              </a:solidFill>
              <a:latin typeface="Arial"/>
            </a:endParaRPr>
          </a:p>
        </p:txBody>
      </p:sp>
      <p:cxnSp>
        <p:nvCxnSpPr>
          <p:cNvPr id="1449" name="Straight Arrow Connector 7"/>
          <p:cNvCxnSpPr/>
          <p:nvPr/>
        </p:nvCxnSpPr>
        <p:spPr>
          <a:xfrm>
            <a:off x="6496200" y="4452480"/>
            <a:ext cx="629280" cy="1080"/>
          </a:xfrm>
          <a:prstGeom prst="straightConnector1">
            <a:avLst/>
          </a:prstGeom>
          <a:ln w="38160">
            <a:solidFill>
              <a:srgbClr val="ffc000"/>
            </a:solidFill>
            <a:miter/>
            <a:tailEnd len="med" type="arrow" w="med"/>
          </a:ln>
        </p:spPr>
      </p:cxnSp>
      <p:sp>
        <p:nvSpPr>
          <p:cNvPr id="1450" name="TextBox 8"/>
          <p:cNvSpPr/>
          <p:nvPr/>
        </p:nvSpPr>
        <p:spPr>
          <a:xfrm>
            <a:off x="7261200" y="4240080"/>
            <a:ext cx="171936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Arial"/>
              </a:rPr>
              <a:t>DECISION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4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Decisions?</a:t>
            </a:r>
            <a:endParaRPr b="1" lang="en-US" sz="3600" spc="-1" strike="noStrike">
              <a:solidFill>
                <a:srgbClr val="ffffff"/>
              </a:solidFill>
              <a:latin typeface="Arial"/>
            </a:endParaRPr>
          </a:p>
        </p:txBody>
      </p:sp>
      <p:sp>
        <p:nvSpPr>
          <p:cNvPr id="1452"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s that lead to ac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ecisions are informed by </a:t>
            </a:r>
            <a:r>
              <a:rPr b="0" lang="en-US" sz="2800" spc="-1" strike="noStrike">
                <a:solidFill>
                  <a:srgbClr val="ffff33"/>
                </a:solidFill>
                <a:latin typeface="Arial"/>
              </a:rPr>
              <a:t>question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questions should be based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388800" y="429840"/>
            <a:ext cx="829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 Areas that Need Data</a:t>
            </a:r>
            <a:endParaRPr b="1" lang="en-US" sz="3600" spc="-1" strike="noStrike">
              <a:solidFill>
                <a:srgbClr val="ffffff"/>
              </a:solidFill>
              <a:latin typeface="Arial"/>
            </a:endParaRPr>
          </a:p>
        </p:txBody>
      </p:sp>
      <p:sp>
        <p:nvSpPr>
          <p:cNvPr id="1454" name=""/>
          <p:cNvSpPr txBox="1"/>
          <p:nvPr/>
        </p:nvSpPr>
        <p:spPr>
          <a:xfrm>
            <a:off x="569880" y="1979280"/>
            <a:ext cx="7618320" cy="273204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design that meets the needs of a target population</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management and improvement</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valuation &amp; Strategic planning</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cy and Policy Developmen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Design</a:t>
            </a:r>
            <a:endParaRPr b="1" lang="en-US" sz="3600" spc="-1" strike="noStrike">
              <a:solidFill>
                <a:srgbClr val="ffffff"/>
              </a:solidFill>
              <a:latin typeface="Arial"/>
            </a:endParaRPr>
          </a:p>
        </p:txBody>
      </p:sp>
      <p:sp>
        <p:nvSpPr>
          <p:cNvPr id="1456" name=""/>
          <p:cNvSpPr txBox="1"/>
          <p:nvPr/>
        </p:nvSpPr>
        <p:spPr>
          <a:xfrm>
            <a:off x="923760" y="1778040"/>
            <a:ext cx="7763040" cy="3402000"/>
          </a:xfrm>
          <a:prstGeom prst="rect">
            <a:avLst/>
          </a:prstGeom>
          <a:noFill/>
          <a:ln w="0">
            <a:noFill/>
          </a:ln>
        </p:spPr>
        <p:txBody>
          <a:bodyPr anchor="t">
            <a:norm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ign Example:</a:t>
            </a:r>
            <a:endParaRPr b="0" lang="en-US" sz="30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essage would be most relevant to our target audience?</a:t>
            </a:r>
            <a:endParaRPr b="0" lang="en-US" sz="2800" spc="-1" strike="noStrike">
              <a:solidFill>
                <a:srgbClr val="ffffff"/>
              </a:solidFill>
              <a:latin typeface="Arial"/>
            </a:endParaRPr>
          </a:p>
          <a:p>
            <a:pPr>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Management and Improvement</a:t>
            </a:r>
            <a:endParaRPr b="1" lang="en-US" sz="3600" spc="-1" strike="noStrike">
              <a:solidFill>
                <a:srgbClr val="ffffff"/>
              </a:solidFill>
              <a:latin typeface="Arial"/>
            </a:endParaRPr>
          </a:p>
        </p:txBody>
      </p:sp>
      <p:sp>
        <p:nvSpPr>
          <p:cNvPr id="1458" name=""/>
          <p:cNvSpPr txBox="1"/>
          <p:nvPr/>
        </p:nvSpPr>
        <p:spPr>
          <a:xfrm>
            <a:off x="923760" y="1599840"/>
            <a:ext cx="7763040" cy="396252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ment Example:</a:t>
            </a:r>
            <a:endParaRPr b="0" lang="en-US" sz="30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we meeting our process objectives?  Are we doing what we said we’d do?</a:t>
            </a:r>
            <a:endParaRPr b="0" lang="en-US" sz="28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am Improvement Example:</a:t>
            </a:r>
            <a:endParaRPr b="0" lang="en-US" sz="30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I get the most out of my program budge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2: Learning Objectives</a:t>
            </a:r>
            <a:endParaRPr b="1" lang="en-US" sz="3600" spc="-1" strike="noStrike">
              <a:solidFill>
                <a:srgbClr val="ffffff"/>
              </a:solidFill>
              <a:latin typeface="Arial"/>
            </a:endParaRPr>
          </a:p>
        </p:txBody>
      </p:sp>
      <p:sp>
        <p:nvSpPr>
          <p:cNvPr id="1405"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context of decision making</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concept of stakehold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mportance of involving varied stakeholders throughout the decision-making cycl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the Stakeholder Analysis and Engagement to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Evaluation and Strategic Planning</a:t>
            </a:r>
            <a:endParaRPr b="1" lang="en-US" sz="3600" spc="-1" strike="noStrike">
              <a:solidFill>
                <a:srgbClr val="ffffff"/>
              </a:solidFill>
              <a:latin typeface="Arial"/>
            </a:endParaRPr>
          </a:p>
        </p:txBody>
      </p:sp>
      <p:sp>
        <p:nvSpPr>
          <p:cNvPr id="1460" name=""/>
          <p:cNvSpPr txBox="1"/>
          <p:nvPr/>
        </p:nvSpPr>
        <p:spPr>
          <a:xfrm>
            <a:off x="923760" y="1599840"/>
            <a:ext cx="7763040" cy="3962520"/>
          </a:xfrm>
          <a:prstGeom prst="rect">
            <a:avLst/>
          </a:prstGeom>
          <a:noFill/>
          <a:ln w="0">
            <a:noFill/>
          </a:ln>
        </p:spPr>
        <p:txBody>
          <a:bodyPr anchor="t">
            <a:norm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am Evaluation:</a:t>
            </a:r>
            <a:endParaRPr b="0" lang="en-US" sz="30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need a new program approach to meet health impact objectives?</a:t>
            </a:r>
            <a:endParaRPr b="0" lang="en-US" sz="2800" spc="-1" strike="noStrike">
              <a:solidFill>
                <a:srgbClr val="ffffff"/>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ategic Planning:</a:t>
            </a:r>
            <a:endParaRPr b="0" lang="en-US" sz="30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in this area, where is my highest need?</a:t>
            </a:r>
            <a:endParaRPr b="0" lang="en-US" sz="2800" spc="-1" strike="noStrike">
              <a:solidFill>
                <a:srgbClr val="ffffff"/>
              </a:solidFill>
              <a:latin typeface="Arial"/>
            </a:endParaRPr>
          </a:p>
          <a:p>
            <a:pPr>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do I need to work with to get this d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vocacy and Policy Development</a:t>
            </a:r>
            <a:endParaRPr b="1" lang="en-US" sz="3600" spc="-1" strike="noStrike">
              <a:solidFill>
                <a:srgbClr val="ffffff"/>
              </a:solidFill>
              <a:latin typeface="Arial"/>
            </a:endParaRPr>
          </a:p>
        </p:txBody>
      </p:sp>
      <p:sp>
        <p:nvSpPr>
          <p:cNvPr id="1462" name=""/>
          <p:cNvSpPr txBox="1"/>
          <p:nvPr/>
        </p:nvSpPr>
        <p:spPr>
          <a:xfrm>
            <a:off x="923760" y="1800000"/>
            <a:ext cx="7763040" cy="351612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o does not access my health services and why?</a:t>
            </a:r>
            <a:endParaRPr b="0" lang="en-US" sz="3000" spc="-1" strike="noStrike">
              <a:solidFill>
                <a:srgbClr val="ffffff"/>
              </a:solidFill>
              <a:latin typeface="Arial"/>
            </a:endParaRPr>
          </a:p>
          <a:p>
            <a:pPr marL="343080" indent="-343080">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is this a public health issue?  What new policies are needed to address it?</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Consider Decisions?</a:t>
            </a:r>
            <a:endParaRPr b="1" lang="en-US" sz="3600" spc="-1" strike="noStrike">
              <a:solidFill>
                <a:srgbClr val="ffffff"/>
              </a:solidFill>
              <a:latin typeface="Arial"/>
            </a:endParaRPr>
          </a:p>
        </p:txBody>
      </p:sp>
      <p:sp>
        <p:nvSpPr>
          <p:cNvPr id="146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overloa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cus on information needs – what do you need to know?</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ultimate goal is not to gain information but to improve ac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1321920" y="191880"/>
            <a:ext cx="6637320" cy="1143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ntext of Decision Making</a:t>
            </a:r>
            <a:endParaRPr b="1" lang="en-US" sz="3600" spc="-1" strike="noStrike">
              <a:solidFill>
                <a:srgbClr val="ffffff"/>
              </a:solidFill>
              <a:latin typeface="Arial"/>
            </a:endParaRPr>
          </a:p>
        </p:txBody>
      </p:sp>
      <p:pic>
        <p:nvPicPr>
          <p:cNvPr id="1466" name="Picture 4" descr=""/>
          <p:cNvPicPr/>
          <p:nvPr/>
        </p:nvPicPr>
        <p:blipFill>
          <a:blip r:embed="rId1"/>
          <a:stretch/>
        </p:blipFill>
        <p:spPr>
          <a:xfrm>
            <a:off x="1382760" y="988920"/>
            <a:ext cx="6514920" cy="4695840"/>
          </a:xfrm>
          <a:prstGeom prst="rect">
            <a:avLst/>
          </a:prstGeom>
          <a:ln w="0">
            <a:noFill/>
          </a:ln>
        </p:spPr>
      </p:pic>
      <p:sp>
        <p:nvSpPr>
          <p:cNvPr id="1467" name="TextBox 2"/>
          <p:cNvSpPr/>
          <p:nvPr/>
        </p:nvSpPr>
        <p:spPr>
          <a:xfrm>
            <a:off x="4915080" y="3995640"/>
            <a:ext cx="1234800" cy="905400"/>
          </a:xfrm>
          <a:prstGeom prst="rect">
            <a:avLst/>
          </a:prstGeom>
          <a:solidFill>
            <a:srgbClr val="ffc000"/>
          </a:solid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8" name="TextBox 3"/>
          <p:cNvSpPr/>
          <p:nvPr/>
        </p:nvSpPr>
        <p:spPr>
          <a:xfrm>
            <a:off x="5010120" y="4249800"/>
            <a:ext cx="1486080" cy="4024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61616"/>
                </a:solidFill>
                <a:latin typeface="Arial"/>
              </a:rPr>
              <a:t>Question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593640" y="496800"/>
            <a:ext cx="776304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to Data-Informed Decisions</a:t>
            </a:r>
            <a:endParaRPr b="1" lang="en-US" sz="3600" spc="-1" strike="noStrike">
              <a:solidFill>
                <a:srgbClr val="ffffff"/>
              </a:solidFill>
              <a:latin typeface="Arial"/>
            </a:endParaRPr>
          </a:p>
        </p:txBody>
      </p:sp>
      <p:sp>
        <p:nvSpPr>
          <p:cNvPr id="1470" name=""/>
          <p:cNvSpPr txBox="1"/>
          <p:nvPr/>
        </p:nvSpPr>
        <p:spPr>
          <a:xfrm>
            <a:off x="669960" y="1348920"/>
            <a:ext cx="8121600" cy="5033880"/>
          </a:xfrm>
          <a:prstGeom prst="rect">
            <a:avLst/>
          </a:prstGeom>
          <a:noFill/>
          <a:ln w="0">
            <a:noFill/>
          </a:ln>
        </p:spPr>
        <p:txBody>
          <a:bodyPr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ly assess and involve stakeholder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 information flow to improve data access and sharing</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priority decisions and information need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 both data users and producers in the proces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20000"/>
              </a:lnSpc>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20000"/>
              </a:lnSpc>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2"/>
          <p:cNvSpPr/>
          <p:nvPr/>
        </p:nvSpPr>
        <p:spPr>
          <a:xfrm>
            <a:off x="598320" y="736560"/>
            <a:ext cx="7950240" cy="3713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407" name=""/>
          <p:cNvSpPr txBox="1"/>
          <p:nvPr/>
        </p:nvSpPr>
        <p:spPr>
          <a:xfrm>
            <a:off x="923760" y="1599840"/>
            <a:ext cx="7763040" cy="3962520"/>
          </a:xfrm>
          <a:prstGeom prst="rect">
            <a:avLst/>
          </a:prstGeom>
          <a:noFill/>
          <a:ln w="0">
            <a:noFill/>
          </a:ln>
        </p:spPr>
        <p:txBody>
          <a:bodyPr anchor="t">
            <a:normAutofit/>
          </a:bodyPr>
          <a:p>
            <a:pPr marL="343080" indent="-343080">
              <a:spcBef>
                <a:spcPts val="1001"/>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ext of decision making</a:t>
            </a:r>
            <a:endParaRPr b="0" lang="en-US" sz="4000" spc="-1" strike="noStrike">
              <a:solidFill>
                <a:srgbClr val="ffffff"/>
              </a:solidFill>
              <a:latin typeface="Arial"/>
            </a:endParaRPr>
          </a:p>
          <a:p>
            <a:pPr lvl="1" marL="743040" indent="-285840">
              <a:spcBef>
                <a:spcPts val="901"/>
              </a:spcBef>
              <a:spcAft>
                <a:spcPts val="9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keholders</a:t>
            </a:r>
            <a:endParaRPr b="0" lang="en-US" sz="3600" spc="-1" strike="noStrike">
              <a:solidFill>
                <a:srgbClr val="ffffff"/>
              </a:solidFill>
              <a:latin typeface="Arial"/>
            </a:endParaRPr>
          </a:p>
          <a:p>
            <a:pPr lvl="1" marL="743040" indent="-285840">
              <a:spcBef>
                <a:spcPts val="901"/>
              </a:spcBef>
              <a:spcAft>
                <a:spcPts val="9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isions</a:t>
            </a:r>
            <a:endParaRPr b="0" lang="en-US" sz="3600" spc="-1" strike="noStrike">
              <a:solidFill>
                <a:srgbClr val="ffffff"/>
              </a:solidFill>
              <a:latin typeface="Arial"/>
            </a:endParaRPr>
          </a:p>
          <a:p>
            <a:pPr lvl="1" marL="743040" indent="-285840">
              <a:spcBef>
                <a:spcPts val="901"/>
              </a:spcBef>
              <a:spcAft>
                <a:spcPts val="9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1321920" y="191880"/>
            <a:ext cx="6637320" cy="1143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ontext of Decision Making</a:t>
            </a:r>
            <a:endParaRPr b="1" lang="en-US" sz="3600" spc="-1" strike="noStrike">
              <a:solidFill>
                <a:srgbClr val="ffffff"/>
              </a:solidFill>
              <a:latin typeface="Arial"/>
            </a:endParaRPr>
          </a:p>
        </p:txBody>
      </p:sp>
      <p:pic>
        <p:nvPicPr>
          <p:cNvPr id="1409" name="Picture 4" descr=""/>
          <p:cNvPicPr/>
          <p:nvPr/>
        </p:nvPicPr>
        <p:blipFill>
          <a:blip r:embed="rId1"/>
          <a:stretch/>
        </p:blipFill>
        <p:spPr>
          <a:xfrm>
            <a:off x="1382760" y="988920"/>
            <a:ext cx="6514920" cy="4695840"/>
          </a:xfrm>
          <a:prstGeom prst="rect">
            <a:avLst/>
          </a:prstGeom>
          <a:ln w="0">
            <a:noFill/>
          </a:ln>
        </p:spPr>
      </p:pic>
      <p:sp>
        <p:nvSpPr>
          <p:cNvPr id="1410" name="TextBox 2"/>
          <p:cNvSpPr/>
          <p:nvPr/>
        </p:nvSpPr>
        <p:spPr>
          <a:xfrm>
            <a:off x="4915080" y="3995640"/>
            <a:ext cx="1234800" cy="905400"/>
          </a:xfrm>
          <a:prstGeom prst="rect">
            <a:avLst/>
          </a:prstGeom>
          <a:solidFill>
            <a:srgbClr val="ffc000"/>
          </a:solid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1" name="TextBox 3"/>
          <p:cNvSpPr/>
          <p:nvPr/>
        </p:nvSpPr>
        <p:spPr>
          <a:xfrm>
            <a:off x="5010120" y="4249800"/>
            <a:ext cx="1486080" cy="4024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61616"/>
                </a:solidFill>
                <a:latin typeface="Arial"/>
              </a:rPr>
              <a:t>Questions</a:t>
            </a:r>
            <a:endParaRPr b="0" lang="en-US" sz="2100" spc="-1" strike="noStrike">
              <a:solidFill>
                <a:srgbClr val="ffffff"/>
              </a:solidFill>
              <a:latin typeface="Arial"/>
            </a:endParaRPr>
          </a:p>
        </p:txBody>
      </p:sp>
      <p:sp>
        <p:nvSpPr>
          <p:cNvPr id="1412" name="TextBox 4"/>
          <p:cNvSpPr/>
          <p:nvPr/>
        </p:nvSpPr>
        <p:spPr>
          <a:xfrm>
            <a:off x="6291360" y="1060560"/>
            <a:ext cx="24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70"/>
                </a:solidFill>
                <a:latin typeface="Arial"/>
              </a:rPr>
              <a:t>- Agency, Policy maker, Donor, Civil Society, or Service Provider</a:t>
            </a:r>
            <a:endParaRPr b="0" lang="en-US" sz="1800" spc="-1" strike="noStrike">
              <a:solidFill>
                <a:srgbClr val="ffffff"/>
              </a:solidFill>
              <a:latin typeface="Arial"/>
            </a:endParaRPr>
          </a:p>
        </p:txBody>
      </p:sp>
      <p:sp>
        <p:nvSpPr>
          <p:cNvPr id="1413" name="TextBox 5"/>
          <p:cNvSpPr/>
          <p:nvPr/>
        </p:nvSpPr>
        <p:spPr>
          <a:xfrm>
            <a:off x="6351480" y="2260440"/>
            <a:ext cx="227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70"/>
                </a:solidFill>
                <a:latin typeface="Arial"/>
              </a:rPr>
              <a:t>- Beneficiaries</a:t>
            </a:r>
            <a:endParaRPr b="0" lang="en-US" sz="1800" spc="-1" strike="noStrike">
              <a:solidFill>
                <a:srgbClr val="ffffff"/>
              </a:solidFill>
              <a:latin typeface="Arial"/>
            </a:endParaRPr>
          </a:p>
        </p:txBody>
      </p:sp>
      <p:sp>
        <p:nvSpPr>
          <p:cNvPr id="1414" name="TextBox 9"/>
          <p:cNvSpPr/>
          <p:nvPr/>
        </p:nvSpPr>
        <p:spPr>
          <a:xfrm>
            <a:off x="6842160" y="2666880"/>
            <a:ext cx="162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Data Users &amp; Data Produc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228240" y="457200"/>
            <a:ext cx="84423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ortance of Knowing Your Stakeholders</a:t>
            </a:r>
            <a:endParaRPr b="1" lang="en-US" sz="3600" spc="-1" strike="noStrike">
              <a:solidFill>
                <a:srgbClr val="ffffff"/>
              </a:solidFill>
              <a:latin typeface="Arial"/>
            </a:endParaRPr>
          </a:p>
        </p:txBody>
      </p:sp>
      <p:sp>
        <p:nvSpPr>
          <p:cNvPr id="1416" name=""/>
          <p:cNvSpPr txBox="1"/>
          <p:nvPr/>
        </p:nvSpPr>
        <p:spPr>
          <a:xfrm>
            <a:off x="274680" y="1655280"/>
            <a:ext cx="8540640" cy="4956120"/>
          </a:xfrm>
          <a:prstGeom prst="rect">
            <a:avLst/>
          </a:prstGeom>
          <a:noFill/>
          <a:ln w="0">
            <a:noFill/>
          </a:ln>
        </p:spPr>
        <p:txBody>
          <a:bodyPr anchor="t">
            <a:normAutofit/>
          </a:bodyPr>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ctivities from different perspectives</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degrees of understanding</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 want different information</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information at different levels of complexity</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intensities of interest</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roles in the decision-making process</a:t>
            </a:r>
            <a:endParaRPr b="0" lang="en-US" sz="2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416">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16">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16">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1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16">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396360" y="261720"/>
            <a:ext cx="836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ults of Involving Stakeholders in Data Use Process</a:t>
            </a:r>
            <a:endParaRPr b="1" lang="en-US" sz="3600" spc="-1" strike="noStrike">
              <a:solidFill>
                <a:srgbClr val="ffffff"/>
              </a:solidFill>
              <a:latin typeface="Arial"/>
            </a:endParaRPr>
          </a:p>
        </p:txBody>
      </p:sp>
      <p:sp>
        <p:nvSpPr>
          <p:cNvPr id="1418" name=""/>
          <p:cNvSpPr txBox="1"/>
          <p:nvPr/>
        </p:nvSpPr>
        <p:spPr>
          <a:xfrm>
            <a:off x="831600" y="1983960"/>
            <a:ext cx="7762680" cy="3962520"/>
          </a:xfrm>
          <a:prstGeom prst="rect">
            <a:avLst/>
          </a:prstGeom>
          <a:noFill/>
          <a:ln w="0">
            <a:noFill/>
          </a:ln>
        </p:spPr>
        <p:txBody>
          <a:bodyPr anchor="t">
            <a:normAutofit/>
          </a:bodyPr>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levance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wnership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ppropriate dissemination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Use of data </a:t>
            </a:r>
            <a:endParaRPr b="0" lang="en-US" sz="3200" spc="-1" strike="noStrike">
              <a:solidFill>
                <a:srgbClr val="ffffff"/>
              </a:solidFill>
              <a:latin typeface="Arial"/>
            </a:endParaRPr>
          </a:p>
        </p:txBody>
      </p:sp>
      <p:sp>
        <p:nvSpPr>
          <p:cNvPr id="1419" name="Up Arrow 3"/>
          <p:cNvSpPr/>
          <p:nvPr/>
        </p:nvSpPr>
        <p:spPr>
          <a:xfrm>
            <a:off x="966960" y="2716200"/>
            <a:ext cx="384120" cy="423720"/>
          </a:xfrm>
          <a:prstGeom prst="upArrow">
            <a:avLst>
              <a:gd name="adj1" fmla="val 50000"/>
              <a:gd name="adj2" fmla="val 49991"/>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Up Arrow 5"/>
          <p:cNvSpPr/>
          <p:nvPr/>
        </p:nvSpPr>
        <p:spPr>
          <a:xfrm>
            <a:off x="947880" y="3413160"/>
            <a:ext cx="384120" cy="423720"/>
          </a:xfrm>
          <a:prstGeom prst="upArrow">
            <a:avLst>
              <a:gd name="adj1" fmla="val 50000"/>
              <a:gd name="adj2" fmla="val 49991"/>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Up Arrow 6"/>
          <p:cNvSpPr/>
          <p:nvPr/>
        </p:nvSpPr>
        <p:spPr>
          <a:xfrm>
            <a:off x="954000" y="4041720"/>
            <a:ext cx="384120" cy="424080"/>
          </a:xfrm>
          <a:prstGeom prst="upArrow">
            <a:avLst>
              <a:gd name="adj1" fmla="val 50000"/>
              <a:gd name="adj2" fmla="val 50034"/>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Up Arrow 7"/>
          <p:cNvSpPr/>
          <p:nvPr/>
        </p:nvSpPr>
        <p:spPr>
          <a:xfrm>
            <a:off x="954000" y="2093760"/>
            <a:ext cx="384120" cy="424080"/>
          </a:xfrm>
          <a:prstGeom prst="upArrow">
            <a:avLst>
              <a:gd name="adj1" fmla="val 50000"/>
              <a:gd name="adj2" fmla="val 50034"/>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KEHOLDER TOOL </a:t>
            </a:r>
            <a:endParaRPr b="1" lang="en-US" sz="4000" spc="-1" strike="noStrike">
              <a:solidFill>
                <a:srgbClr val="ffffff"/>
              </a:solidFill>
              <a:latin typeface="Arial"/>
            </a:endParaRPr>
          </a:p>
        </p:txBody>
      </p:sp>
      <p:pic>
        <p:nvPicPr>
          <p:cNvPr id="1424" name="Picture 1" descr=""/>
          <p:cNvPicPr/>
          <p:nvPr/>
        </p:nvPicPr>
        <p:blipFill>
          <a:blip r:embed="rId1"/>
          <a:stretch/>
        </p:blipFill>
        <p:spPr>
          <a:xfrm>
            <a:off x="2116080" y="60012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 and Engagement Plan</a:t>
            </a:r>
            <a:endParaRPr b="1" lang="en-US" sz="3600" spc="-1" strike="noStrike">
              <a:solidFill>
                <a:srgbClr val="ffffff"/>
              </a:solidFill>
              <a:latin typeface="Arial"/>
            </a:endParaRPr>
          </a:p>
        </p:txBody>
      </p:sp>
      <p:sp>
        <p:nvSpPr>
          <p:cNvPr id="1426" name=""/>
          <p:cNvSpPr txBox="1"/>
          <p:nvPr/>
        </p:nvSpPr>
        <p:spPr>
          <a:xfrm>
            <a:off x="923760" y="1599840"/>
            <a:ext cx="7763040" cy="3962520"/>
          </a:xfrm>
          <a:prstGeom prst="rect">
            <a:avLst/>
          </a:prstGeom>
          <a:noFill/>
          <a:ln w="0">
            <a:noFill/>
          </a:ln>
        </p:spPr>
        <p:txBody>
          <a:bodyPr anchor="t">
            <a:normAutofit fontScale="99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sure that data initiatives reflect the needs and values of relevant stakeholders to support data use in decision making. </a:t>
            </a:r>
            <a:endParaRPr b="0" lang="en-US" sz="2400" spc="-1" strike="noStrike">
              <a:solidFill>
                <a:srgbClr val="ffffff"/>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ll relevant stakeholders involved in the process.</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ppropriate strategies for engaging with stakehol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 Engagement Resources</a:t>
            </a:r>
            <a:endParaRPr b="1" lang="en-US" sz="2400" spc="-1" strike="noStrike">
              <a:solidFill>
                <a:srgbClr val="ffffff"/>
              </a:solidFill>
              <a:latin typeface="Arial"/>
            </a:endParaRPr>
          </a:p>
        </p:txBody>
      </p:sp>
      <p:sp>
        <p:nvSpPr>
          <p:cNvPr id="1428" name=""/>
          <p:cNvSpPr txBox="1"/>
          <p:nvPr/>
        </p:nvSpPr>
        <p:spPr>
          <a:xfrm>
            <a:off x="941400" y="1362240"/>
            <a:ext cx="7763040" cy="3962160"/>
          </a:xfrm>
          <a:prstGeom prst="rect">
            <a:avLst/>
          </a:prstGeom>
          <a:noFill/>
          <a:ln w="0">
            <a:noFill/>
          </a:ln>
        </p:spPr>
        <p:txBody>
          <a:bodyPr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 is available on the MEASURE Evaluation website: </a:t>
            </a:r>
            <a:r>
              <a:rPr b="0" lang="en-US" sz="2400" spc="-1" strike="noStrike" u="sng">
                <a:solidFill>
                  <a:srgbClr val="c0c0c0"/>
                </a:solidFill>
                <a:uFillTx/>
                <a:latin typeface="Arial"/>
                <a:hlinkClick r:id="rId1"/>
              </a:rPr>
              <a:t>www.measureevaluation.org/ddu-toolkit</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s for us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keholder Analysis Matrix and Engagement Templat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applic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checkli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Samhita</cp:lastModifiedBy>
  <cp:lastPrinted>2010-09-27T20:38:36Z</cp:lastPrinted>
  <dcterms:modified xsi:type="dcterms:W3CDTF">2013-04-25T18:40:32Z</dcterms:modified>
  <cp:revision>192</cp:revision>
  <dc:subject/>
  <dc:title>Slide 1</dc:title>
</cp:coreProperties>
</file>