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C655-65D5-4A39-A0EA-2F676C16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321-AD5C-4900-94E2-4658E91CB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come to the end of the training on Using Data to Monitor and Improve Service Delivery. Before we conclude, let’s review the key themes from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045A-A4F1-4E46-BD84-5D57B918E1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7A7F-4FEE-40EB-9EFC-FE92F04F5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373-A9B7-4B28-8A8C-DA46BE2B41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633D-5540-4EE5-92EA-664EE93DF7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F4B-BB06-448C-8D54-548CA8CE5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D1D-D225-4085-BD4E-968F68348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r questions about the material presented, conta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7CCD-7C89-4C12-A6FE-0745F786E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use net is a community of practice where professionals interested in using data in decision making can discuss challenges to data use, best practices in data use, and tools that can facilitate the data-informed decision-making process. To sign up for the listserv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 to facilitator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FD2B-F7A9-40DC-9A53-692FE9D7E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9C4A-5B00-43B0-81FC-9A364CB85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F895-57F2-45AD-87D2-35C45253C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B2E1-2447-4288-B49D-3A1012932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94D4-76EA-494A-BB8F-9A8BF34E4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BC38-E705-433C-85A1-03455EA84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68BF-59AA-42E3-9B65-F6E74B5F76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852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3280" y="159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2376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852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3280" y="3669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0B50-4DB1-4F5E-A85D-1FD879782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50EE-BDA7-426D-AE31-4C1705C9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23760" y="274320"/>
            <a:ext cx="7763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D7E4-463A-4379-AA2A-7CB6C74D9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9EBA-6841-4338-ACB7-63A28076A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760" y="366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903-4A15-49C5-97FC-D1FF001FF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760" y="1599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23760" y="3669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54B3-EADB-4E71-B4C1-C94536048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28240" y="612432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69B-B058-4D18-A5C5-890FEEF362B3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1270080" y="6477120"/>
            <a:ext cx="756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800" y="6095520"/>
            <a:ext cx="4191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8" descr="Vertical_RGB_600"/>
          <p:cNvPicPr/>
          <p:nvPr/>
        </p:nvPicPr>
        <p:blipFill>
          <a:blip r:embed="rId2"/>
          <a:stretch/>
        </p:blipFill>
        <p:spPr>
          <a:xfrm>
            <a:off x="6580080" y="5829480"/>
            <a:ext cx="11160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logo_2004"/>
          <p:cNvPicPr/>
          <p:nvPr/>
        </p:nvPicPr>
        <p:blipFill>
          <a:blip r:embed="rId3"/>
          <a:stretch/>
        </p:blipFill>
        <p:spPr>
          <a:xfrm>
            <a:off x="7950240" y="5829480"/>
            <a:ext cx="9651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3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Vertical_RGB_600"/>
          <p:cNvPicPr/>
          <p:nvPr/>
        </p:nvPicPr>
        <p:blipFill>
          <a:blip r:embed="rId2"/>
          <a:stretch/>
        </p:blipFill>
        <p:spPr>
          <a:xfrm>
            <a:off x="2600280" y="5010120"/>
            <a:ext cx="167328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logo_2004"/>
          <p:cNvPicPr/>
          <p:nvPr/>
        </p:nvPicPr>
        <p:blipFill>
          <a:blip r:embed="rId3"/>
          <a:stretch/>
        </p:blipFill>
        <p:spPr>
          <a:xfrm>
            <a:off x="4809960" y="501012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istserv@unc.edu" TargetMode="External"/><Relationship Id="rId2" Type="http://schemas.openxmlformats.org/officeDocument/2006/relationships/hyperlink" Target="mailto:youremail@youremail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 of key them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076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92000" y="108540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ASURE Evaluation is funded by the United States Agency for International Development (USAID) through Cooperative Agreement GHA-A-00-08-00003-00. The views expressed in this publication do not necessarily reflect the views of USAID or the United States governmen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sit us online at http://www.cpc.unc.edu/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1: Data demand &amp; us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re needed to improve the delivery of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33"/>
                </a:solidFill>
                <a:latin typeface="Arial"/>
              </a:rPr>
              <a:t>Providers play a critical role in data collection, data monitoring, problem identification, &amp; solut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s based on evidence lead to better health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ing is affected by three major determin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Purpose of analysis is to provide answers to programmatic ques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analyses describe the sample/target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ptive analyses do not define causality – tell you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not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ll data analysis requires computers and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484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2: Data analysis key concep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3: Basic analy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Coverag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xtent to which a program reaches its intended target population, institution, or geographic 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Reten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 extent to which the range of services are being delivered as initially int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important to look at both to fully understand your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440" y="27432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4: Data presentation &amp; interpre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23760" y="172836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the right graph for the right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s – can display a large amount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s/charts – visual, easier to detect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components of your grap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Interpreting</a:t>
            </a:r>
            <a:r>
              <a:rPr b="0" i="1" lang="en-US" sz="26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data</a:t>
            </a:r>
            <a:r>
              <a:rPr b="0" i="1" lang="en-US" sz="26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adds meaning by making connections and comparisons to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ice data are good at tracking progress &amp; identifying concerns – do not show caus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Effective data feedback helps ensure use of information for planning and programmatic improv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t is important to identify and address barriers to information f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rmation Use Map can highlight intervention points to improve information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5: Sharing data &amp;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ule 6: Making data-informed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4680" y="1855440"/>
            <a:ext cx="7762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33"/>
                </a:solidFill>
                <a:latin typeface="Arial"/>
              </a:rPr>
              <a:t>Building data use into your work takes planning and dedicated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Framework for Linking Data with Action can be used to create an actionable plan for using data in decision ma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23760" y="1599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ra Nutl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ior Technical Special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 Eval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University of North Carolina at Chapel Hi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6 W. Franklin Street, 2nd Floor, CB 812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pel Hill, NC 275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nutley@futuresgroup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3760" y="274320"/>
            <a:ext cx="776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in Data Use 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06120" y="1420920"/>
            <a:ext cx="77626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nd an email to </a:t>
            </a:r>
            <a:r>
              <a:rPr b="0" lang="en-US" sz="2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listserv@unc.edu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Leave the subject field blank and in the body of the message type ‘subscribe DataUseNet.’ For example: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: listserv@unc.ed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lang="en-US" sz="26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youremail@youremail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scribe Data Us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traight Connector 4"/>
          <p:cNvSpPr/>
          <p:nvPr/>
        </p:nvSpPr>
        <p:spPr>
          <a:xfrm>
            <a:off x="1104840" y="4343400"/>
            <a:ext cx="7296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1:25:38Z</dcterms:created>
  <dc:creator>Carolina Population Center</dc:creator>
  <dc:description/>
  <dc:language>en-US</dc:language>
  <cp:lastModifiedBy>FGUser</cp:lastModifiedBy>
  <dcterms:modified xsi:type="dcterms:W3CDTF">2011-04-29T16:54:54Z</dcterms:modified>
  <cp:revision>339</cp:revision>
  <dc:subject/>
  <dc:title>Slide 1</dc:title>
</cp:coreProperties>
</file>