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A99D-22B7-442D-B9DA-9ADAA426D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d information are useful in decision making only if they are shared. In this module, we will discuss the importance of, and key elements in, information feedback and information flow. </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67CB-EDC8-48EC-B11E-D6FDC1A87D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7B19-1AA4-42D1-B1AA-D2264955B4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Use Map is a tool developed by MEASURE Evaluation that can be used to assess and document the flow of data and inform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7790-406F-4766-91AB-5C584AF707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507960" y="4225680"/>
            <a:ext cx="5851440" cy="438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Use Map is a flowchart framework that allows the user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schematic representation of the existing state of a health information system or subsyst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ough this visual representation, quickly identify gaps and deficiencies in that information flow</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opportunities for new feedback mechanisms to share high-level analysis and reports with lower levels of the information hierarch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points in the process at which additional analysis and use of data could lead to improved progra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oritize recommendations and formulate an action plan to implement them</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Use Map can be developed and applied at the international, regional, national, or local level. The map can be an ongoing guideline to assess progress toward the “expected” future vision of the map. The Information Use Map can also become a standard part of an M&amp;E system—revisited and revised at regular intervals, or whenever a new survey or special study is being 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process of creating an Information Use Map helps users better understand their role in the greater health information system and the importance of collecting and using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0358-875F-45ED-8063-BF44D8B80C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napshot of the Information Use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ws represent the different actors in the health system that collect and use data. It starts with private clinics, NGOs, government facilities, regions, and finally, the national level. Data are collected at the first three levels and then passed to the last two levels for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s represent the process that data go through from collection to compilation, storage, analysis, reporting, and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 shows where data from the different data collection points pass through the stages of collection to use. When information flow is mapped visually, deficiencies quickly become apparent. Large, empty expanses of the chart tell the story. In this map, it is clear that insights from high-level reports are not shared back with lower levels, and information is being used only to file reports, not to support evidence-based decisions for program improvement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F6CB-3BB5-498E-8308-A2AC1402B4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highlights potential improvements in the M&amp;E system, where feedback mechanisms can be developed and opportunities for increased data use can be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 process shows how each level of service delivery can improve its use of the data for local decision making. The map also shows how the data collected at the facility level contribute to national data systems and the decision-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we as providers do to improve the sharing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information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goes beyond simply sharing data. The purpose of feedback is to organize the data so they provide input about the functioning of the program collecting the data. We can do this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4472-FCFC-482A-A888-A3F228BF23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feedback contributes to what is known as the ‘information culture.’ When information becomes available, it is more likely to be used. This is one of the steps in the cycle of information use that was represented on an earlier slide in this modu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formation is shared and used, it:</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omes an integral part of decision-making processes, including planning, problem solving, choosing alternatives, feedback, etc.</a:t>
            </a:r>
            <a:endParaRPr b="0" lang="en-US" sz="1200" spc="-1" strike="noStrike">
              <a:solidFill>
                <a:srgbClr val="000000"/>
              </a:solidFill>
              <a:latin typeface="Arial"/>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powers people to ask questions, seek improvement, learn, and improve the quality of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343D-78A6-498B-8C7B-508314A2B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an be presented in many different way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narratives. Most countries/programs/facilities have a type of narrative for sharing data.   </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9707-6187-4829-9F85-EAB06AF6C9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3520" y="71604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n HIV quarterly surveillance report from the government of Haiti. It reports on the number of HIV cases by establishment, month, age, etc. What is interesting about this report is that it provides figures and graphics and is nicely organized so that the reader is not overwhelmed with information.</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329E-9BA6-4E16-9A7C-999A9F7B23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from a facility and reports on ART services delivered for a specific quarter. This simple chart is unique in that is shows how the indicator was calculated – it gives the numerator and denominator to show the percentage of the population that was served. Providers can then use this information by comparing it to their targets for each servic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y provides an easy way to discuss facility performance around established performance indicators. </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8E9E-3805-43D1-A589-1F46E09FB2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579240" y="4343400"/>
            <a:ext cx="5740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rvice delivery setting, it is possible that you may be called upon to work with others in the facility to develop a feedback mechanism. In this case, there are issues to consider that will improve the usefulness of the feedback mechanism. The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data being shared. What is the best way to summarize and present them? Remember the recommendations from Module 4 on data pres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o – or which stakeholders – will benefit from the information being shared. Is it your fellow providers? Facility management? District leadership? The recipients of the information will affect how you packag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best format for your information? Will your feedback be written or verbal? Will it be a formal or informal feedback syst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forum at which the feedback will be presented. Will it be presented at facility meetings? At district health management team meeting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will the feedback be provided? Weekly? Monthly? Quarter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onsider how the information will move to the next level. For example, program managers should always review data before they send the data up to the nex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25C5-BA32-44FD-AED9-53B5B5761D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360D-FF8F-459B-88FD-1CEA39DA6D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6406-5F93-419F-B486-C6A2524CC9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294840" y="4232160"/>
            <a:ext cx="6278760" cy="433224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haring information and providing feedback are critical to a provider’s job, there are barriers that may inhibit the ability to do so. They include:</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y – All providers report to a facility manager, a doctor, or a program manager. Providing feedback on clinic performance is traditionally seen as a clinic manager’s job. Providers may feel that they are stepping out of place by taking on this responsibility. While it is true that traditionally it is a manager’s responsibility to provide feedback, a provider can facilitate this process. By regularly monitoring, analyzing, interpreting, and presenting data, the provider is assisting the manager in accessing the necessary information that needs to be communicated. Through discussion with clinic supervision, a shared responsibility can be established. </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ettings, there are staff who are dedicated to data capture and data compilation for reporting purposes. In this case, the provider should work with the data officer to clarify indicators; answer data queries; and suggest specific analyses that the provider needs for monitoring service delivery, interpreting findings, and communicating data.  </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ettings, there may be restrictions on sharing confidential information, and approval may be needed to distribute data outside of the facility. In these cases, the provider should work with clinic management to determine a way forward.</a:t>
            </a:r>
            <a:endParaRPr b="0" lang="en-US" sz="1200" spc="-1" strike="noStrike">
              <a:solidFill>
                <a:srgbClr val="000000"/>
              </a:solidFill>
              <a:latin typeface="Arial"/>
            </a:endParaRPr>
          </a:p>
          <a:p>
            <a:pPr>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providers may lack knowledge as to what information stakeholders need. Discussions with colleagues, managers, and the community can facilitat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Module 5 on sharing information.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C3EE-E8D5-4543-A002-0DECF73CAF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1B57-1D71-4F77-B535-DEA819EDB8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022C-9BD0-4999-8E73-A83000C7699C}"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706320" y="431316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this point in the module, we have been working to increase the learners’ capacity to analyze, interpret, and present data to improve their use. The next step in the data use cycle is to ensure that data and information are shared with those who are going to make the decisions. Also, sharing information and final decisions made with those who have collected the data is equally important. To illustrate these points, let’s go back to the data demand and use conceptual framework. </a:t>
            </a:r>
            <a:br>
              <a:rPr sz="1200"/>
            </a:b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discussed data demand (see the blue box at the bottom of the circle) and how demand leads to data collection and analysis (see the blue box on the left side of the circle). We also have touched on data availability in our module on data presentation (see blue box at the top of the circle). The topic of making data available is a broad one and also includes sharing inform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all that earlier today I read a quote from a national-level policymaker in Nigeria. MEASURE Evaluation also interviewed professionals at the facility level. The situation described by the head of an ART facility in Nigeria is what happens when information is not shared. Unfortunately, this is common to many facilities, programs, and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FFC5-0E6E-4252-A50E-228F204BA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AA0D-9BD2-43D6-84F1-37F6DB45FD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nformation is not fed back to those who need it, the following tends to happ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data are not being used locally. </a:t>
            </a:r>
            <a:r>
              <a:rPr b="0" lang="en-US" sz="1000" spc="-1" strike="noStrike">
                <a:solidFill>
                  <a:srgbClr val="000000"/>
                </a:solidFill>
                <a:latin typeface="Arial"/>
              </a:rPr>
              <a:t>Often, data are tallied and reported up, but are rarely analyzed and used to support mid-course corrections at the level at which they were generated. In many situations, data could be used to investigate trends over time, compare different areas, set priorities and goals for future years, compare progress against defined goals, and advocate for funding or polic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er-level information does not return back to the local level. </a:t>
            </a:r>
            <a:r>
              <a:rPr b="0" lang="en-US" sz="1000" spc="-1" strike="noStrike">
                <a:solidFill>
                  <a:srgbClr val="000000"/>
                </a:solidFill>
                <a:latin typeface="Arial"/>
              </a:rPr>
              <a:t>Consider the example of a family planning clinic, where data reveal a declining trend in the use of oral contraception. The providers knew that women complained about the side effects but did not know how much the overall contraception rates were being affected. The district and regional officers knew contraception rates were declining but could not know why. There was a need to bring these information sources and stakeholders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l data are not assessed in the broad context. </a:t>
            </a:r>
            <a:r>
              <a:rPr b="0" lang="en-US" sz="1000" spc="-1" strike="noStrike">
                <a:solidFill>
                  <a:srgbClr val="000000"/>
                </a:solidFill>
                <a:latin typeface="Arial"/>
              </a:rPr>
              <a:t>For example, suppose 10% of the population in the region is expected to receive a service, and one district is reaching only 2%. Obviously, there is a large service coverage gap in this district—but the facilities and district office would not necessarily know it because they may not be aware of how their service delivery rates compare to national obj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e is little incentive to produce high-quality data.</a:t>
            </a:r>
            <a:r>
              <a:rPr b="0" lang="en-US" sz="1000" spc="-1" strike="noStrike">
                <a:solidFill>
                  <a:srgbClr val="000000"/>
                </a:solidFill>
                <a:latin typeface="Arial"/>
              </a:rPr>
              <a:t> People involved in local-level data collection efforts often do not see the purpose in collecting the data. They have a difficult time appreciating their role in the larger context of the health information chain and, as a result, spend less energy in collecting the data and paying attention to detai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is critical to the daily work of a provider. When data are shared </a:t>
            </a:r>
            <a:r>
              <a:rPr b="1" lang="en-US" sz="1200" spc="-1" strike="noStrike">
                <a:solidFill>
                  <a:srgbClr val="000000"/>
                </a:solidFill>
                <a:latin typeface="Arial"/>
              </a:rPr>
              <a:t>within</a:t>
            </a:r>
            <a:r>
              <a:rPr b="0" lang="en-US" sz="1200" spc="-1" strike="noStrike">
                <a:solidFill>
                  <a:srgbClr val="000000"/>
                </a:solidFill>
                <a:latin typeface="Arial"/>
              </a:rPr>
              <a:t> the facility, they assist providers in understanding how their daily work contributes to the goals of the program and how the program is progr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from higher levels in the data infrastructure (district, region, province, etc.) allows providers to compare their facility with other clinics in the region – resulting in expanded data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feedback (feedback DOWN the data infrastructure) also informs the providers that the data they collect are used and are valuable, which results 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placing more importance on, and attention to, their data collection duties and thus collecting better quality dat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the sharing of data and being able to see the value of data to those within and outside their own facility heightens the incentive and motivation of providers to continue to collect, analyze, and use data to improve their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0A95-C60D-4A89-A7B9-E605DFF64D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040"/>
            <a:ext cx="5486400" cy="431316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know, data collection requires the efforts of many individuals within an organization, several organizations and facilities, different levels of government, and community members. The resulting information should be shared just as widely. However, once data are analyzed, often the information is not made available or accessible to stakeholders who need it for decision making. Feedback ensures that those who collected the data benefit from the collection as much as those requesting data. Also, information needs to be shared regularly and in a timely manner so that a ‘culture of information use’ is supported.</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ing – or feedback – of information needs to go ‘</a:t>
            </a:r>
            <a:r>
              <a:rPr b="1" lang="en-US" sz="1200" spc="-1" strike="noStrike">
                <a:solidFill>
                  <a:srgbClr val="000000"/>
                </a:solidFill>
                <a:latin typeface="Arial"/>
              </a:rPr>
              <a:t>up</a:t>
            </a:r>
            <a:r>
              <a:rPr b="0" lang="en-US" sz="1200" spc="-1" strike="noStrike">
                <a:solidFill>
                  <a:srgbClr val="000000"/>
                </a:solidFill>
                <a:latin typeface="Arial"/>
              </a:rPr>
              <a:t>’ the information hierarchy (from the facility to the district to the province to the national levels) but also </a:t>
            </a:r>
            <a:r>
              <a:rPr b="1" lang="en-US" sz="1200" spc="-1" strike="noStrike">
                <a:solidFill>
                  <a:srgbClr val="000000"/>
                </a:solidFill>
                <a:latin typeface="Arial"/>
              </a:rPr>
              <a:t>within</a:t>
            </a:r>
            <a:r>
              <a:rPr b="0" lang="en-US" sz="1200" spc="-1" strike="noStrike">
                <a:solidFill>
                  <a:srgbClr val="000000"/>
                </a:solidFill>
                <a:latin typeface="Arial"/>
              </a:rPr>
              <a:t> a facility, district, province. Sharing among the other providers and management and </a:t>
            </a:r>
            <a:r>
              <a:rPr b="1" lang="en-US" sz="1200" spc="-1" strike="noStrike">
                <a:solidFill>
                  <a:srgbClr val="000000"/>
                </a:solidFill>
                <a:latin typeface="Arial"/>
              </a:rPr>
              <a:t>between</a:t>
            </a:r>
            <a:r>
              <a:rPr b="0" lang="en-US" sz="1200" spc="-1" strike="noStrike">
                <a:solidFill>
                  <a:srgbClr val="000000"/>
                </a:solidFill>
                <a:latin typeface="Arial"/>
              </a:rPr>
              <a:t> facilities, districts, and provinces is equally important. And last, it needs to be shared </a:t>
            </a:r>
            <a:r>
              <a:rPr b="1" lang="en-US" sz="1200" spc="-1" strike="noStrike">
                <a:solidFill>
                  <a:srgbClr val="000000"/>
                </a:solidFill>
                <a:latin typeface="Arial"/>
              </a:rPr>
              <a:t>down</a:t>
            </a:r>
            <a:r>
              <a:rPr b="0" lang="en-US" sz="1200" spc="-1" strike="noStrike">
                <a:solidFill>
                  <a:srgbClr val="000000"/>
                </a:solidFill>
                <a:latin typeface="Arial"/>
              </a:rPr>
              <a:t> the information hierarchy – from the national level to the province – district and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communication helps to ensure the use of information for planning and programmatic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D551-EE6E-4901-83D5-978A87DB5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DBC7-ADEC-405B-BCDC-982469D305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iscussing the importance of sharing information, it is helpful to look at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owchart on this slide shows how data can flow effectively from the service delivery level to the higher levels responsible for the supervision of programs (UP the information hierarchy – to the district and eventually national levels). You see in the box on the left that data are collected at the facility level for a specific program area. These data then pass to higher levels (box on the right) for aggregation and use in reporting – and hopefully,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as represented by the pink arrow) is an essential part of the information flow process. Reports produced by the higher levels should be shared with service delivery points and organizations to ensure that they are familiar with how other service providers are performing (feedback going DOWN the information hierarchy). In addition, the higher level can provide guidance and advice to facilities on an individual level based on the data that they re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is 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6B74-971B-4BBA-9561-C6F0E02992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process of depicting information flow helps individuals to better understand their role in the greater health information system—and the importance of collecting data in the first place. When people can see the value of their data collection efforts, they become more committed to consistent, sustainable, high-quality data collection and to regular analysis and application of those data in decision ma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ing the flow of data and information will allow us to identify opportunities for improving data collection and analysis, increasing availability, and ensuring the use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graphically represent the flow of data and information at any level of the health system.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B6C8282-F579-4DC0-8A58-149B74F8C5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87BB236-53EE-463B-A27B-ACABF4246D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EB76D95-56F2-4B1F-9D83-CC143C86F6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509BE43-55E2-42DD-9BFC-9256894347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F99CD9-0BF7-4B0E-880A-C91DEA726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18A794-A6FA-4FC8-A3ED-13AC06574C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C2507C8-934F-4FEE-A1CC-48D47FF70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615A9C-95F1-4DAF-98E7-C94F212CF9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0BBBDF-A360-4B88-B66B-B31A4147C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29D057-23FE-43E0-BAFA-2E7E4C0505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A9A28D-7E13-4C1C-8707-37A6C14AC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461C36-5800-4AC7-BD80-6F5EF47D1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0799-12FB-49A3-B89F-81CF3700251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5: Sharing data &amp; information </a:t>
            </a:r>
            <a:endParaRPr b="1" lang="en-US" sz="4000" spc="-1" strike="noStrike">
              <a:solidFill>
                <a:srgbClr val="ffffff"/>
              </a:solidFill>
              <a:latin typeface="Arial"/>
            </a:endParaRPr>
          </a:p>
        </p:txBody>
      </p:sp>
      <p:sp>
        <p:nvSpPr>
          <p:cNvPr id="12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formation Use Map</a:t>
            </a:r>
            <a:endParaRPr b="1" lang="en-US" sz="4400" spc="-1" strike="noStrike">
              <a:solidFill>
                <a:srgbClr val="ffffff"/>
              </a:solidFill>
              <a:latin typeface="Arial"/>
            </a:endParaRPr>
          </a:p>
        </p:txBody>
      </p:sp>
      <p:sp>
        <p:nvSpPr>
          <p:cNvPr id="177"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Use Mapping</a:t>
            </a:r>
            <a:endParaRPr b="1" lang="en-US" sz="3600" spc="-1" strike="noStrike">
              <a:solidFill>
                <a:srgbClr val="ffffff"/>
              </a:solidFill>
              <a:latin typeface="Arial"/>
            </a:endParaRPr>
          </a:p>
        </p:txBody>
      </p:sp>
      <p:sp>
        <p:nvSpPr>
          <p:cNvPr id="179" name="PlaceHolder 2"/>
          <p:cNvSpPr>
            <a:spLocks noGrp="1"/>
          </p:cNvSpPr>
          <p:nvPr>
            <p:ph/>
          </p:nvPr>
        </p:nvSpPr>
        <p:spPr>
          <a:xfrm>
            <a:off x="630360" y="1447920"/>
            <a:ext cx="8129520" cy="512424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a:t>
            </a:r>
            <a:endParaRPr b="0" lang="en-US" sz="2800" spc="-1" strike="noStrike">
              <a:solidFill>
                <a:srgbClr val="ffffff"/>
              </a:solidFill>
              <a:latin typeface="Arial"/>
            </a:endParaRPr>
          </a:p>
          <a:p>
            <a:pPr lvl="1" marL="743040" indent="-285840">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existing flow of health information to identify opportunities for improving its use</a:t>
            </a:r>
            <a:endParaRPr b="0" lang="en-US" sz="2400" spc="-1" strike="noStrike">
              <a:solidFill>
                <a:srgbClr val="ffffff"/>
              </a:solidFill>
              <a:latin typeface="Arial"/>
            </a:endParaRPr>
          </a:p>
          <a:p>
            <a:pPr marL="343080" indent="-343080">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iption</a:t>
            </a:r>
            <a:endParaRPr b="0" lang="en-US" sz="30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s gaps and opportunities for using information</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s opportunities for additional feedback mechanisms</a:t>
            </a:r>
            <a:endParaRPr b="0" lang="en-US" sz="2200" spc="-1" strike="noStrike">
              <a:solidFill>
                <a:srgbClr val="ffffff"/>
              </a:solidFill>
              <a:latin typeface="Arial"/>
            </a:endParaRPr>
          </a:p>
          <a:p>
            <a:pPr lvl="1" marL="743040" indent="-285840">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s points at which analysis &amp; data could support programmatic decision makin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Rectangle 6"/>
          <p:cNvSpPr/>
          <p:nvPr/>
        </p:nvSpPr>
        <p:spPr>
          <a:xfrm>
            <a:off x="0" y="84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81" name="Object 5"/>
          <p:cNvGraphicFramePr/>
          <p:nvPr/>
        </p:nvGraphicFramePr>
        <p:xfrm>
          <a:off x="604800" y="209520"/>
          <a:ext cx="7934400" cy="6648480"/>
        </p:xfrm>
        <a:graphic>
          <a:graphicData uri="http://schemas.openxmlformats.org/presentationml/2006/ole">
            <p:oleObj r:id="rId1" spid="">
              <p:embed/>
              <p:pic>
                <p:nvPicPr>
                  <p:cNvPr id="182" name="Object 5" descr=""/>
                  <p:cNvPicPr/>
                  <p:nvPr/>
                </p:nvPicPr>
                <p:blipFill>
                  <a:blip r:embed="rId2"/>
                  <a:stretch/>
                </p:blipFill>
                <p:spPr>
                  <a:xfrm>
                    <a:off x="604800" y="209520"/>
                    <a:ext cx="7934400" cy="664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6"/>
          <p:cNvSpPr/>
          <p:nvPr/>
        </p:nvSpPr>
        <p:spPr>
          <a:xfrm>
            <a:off x="0" y="113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84" name="Object 5"/>
          <p:cNvGraphicFramePr/>
          <p:nvPr/>
        </p:nvGraphicFramePr>
        <p:xfrm>
          <a:off x="200160" y="363600"/>
          <a:ext cx="8743680" cy="6381720"/>
        </p:xfrm>
        <a:graphic>
          <a:graphicData uri="http://schemas.openxmlformats.org/presentationml/2006/ole">
            <p:oleObj r:id="rId1" spid="">
              <p:embed/>
              <p:pic>
                <p:nvPicPr>
                  <p:cNvPr id="185" name="Object 5" descr=""/>
                  <p:cNvPicPr/>
                  <p:nvPr/>
                </p:nvPicPr>
                <p:blipFill>
                  <a:blip r:embed="rId2"/>
                  <a:stretch/>
                </p:blipFill>
                <p:spPr>
                  <a:xfrm>
                    <a:off x="200160" y="363600"/>
                    <a:ext cx="8743680" cy="638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roving Information flow</a:t>
            </a:r>
            <a:endParaRPr b="1" lang="en-US" sz="3600" spc="-1" strike="noStrike">
              <a:solidFill>
                <a:srgbClr val="ffffff"/>
              </a:solidFill>
              <a:latin typeface="Arial"/>
            </a:endParaRPr>
          </a:p>
        </p:txBody>
      </p:sp>
      <p:sp>
        <p:nvSpPr>
          <p:cNvPr id="187" name="PlaceHolder 2"/>
          <p:cNvSpPr>
            <a:spLocks noGrp="1"/>
          </p:cNvSpPr>
          <p:nvPr>
            <p:ph/>
          </p:nvPr>
        </p:nvSpPr>
        <p:spPr>
          <a:xfrm>
            <a:off x="923760" y="1301760"/>
            <a:ext cx="7763040" cy="484200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EDBACK!</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information and commentary </a:t>
            </a:r>
            <a:r>
              <a:rPr b="0" lang="en-US" sz="2600" spc="-1" strike="noStrike">
                <a:solidFill>
                  <a:srgbClr val="ffff00"/>
                </a:solidFill>
                <a:latin typeface="Arial"/>
              </a:rPr>
              <a:t>within</a:t>
            </a:r>
            <a:r>
              <a:rPr b="0" lang="en-US" sz="2600" spc="-1" strike="noStrike">
                <a:solidFill>
                  <a:srgbClr val="ffffff"/>
                </a:solidFill>
                <a:latin typeface="Arial"/>
              </a:rPr>
              <a:t> a facility, organization, district, province</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information </a:t>
            </a:r>
            <a:r>
              <a:rPr b="0" lang="en-US" sz="2600" spc="-1" strike="noStrike">
                <a:solidFill>
                  <a:srgbClr val="ffff00"/>
                </a:solidFill>
                <a:latin typeface="Arial"/>
              </a:rPr>
              <a:t>between</a:t>
            </a:r>
            <a:r>
              <a:rPr b="0" lang="en-US" sz="2600" spc="-1" strike="noStrike">
                <a:solidFill>
                  <a:srgbClr val="ffffff"/>
                </a:solidFill>
                <a:latin typeface="Arial"/>
              </a:rPr>
              <a:t> facilities, districts, provinces</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iscussing</a:t>
            </a:r>
            <a:r>
              <a:rPr b="0" lang="en-US" sz="2600" spc="-1" strike="noStrike">
                <a:solidFill>
                  <a:srgbClr val="ffffff"/>
                </a:solidFill>
                <a:latin typeface="Arial"/>
              </a:rPr>
              <a:t> and </a:t>
            </a:r>
            <a:r>
              <a:rPr b="0" lang="en-US" sz="2600" spc="-1" strike="noStrike">
                <a:solidFill>
                  <a:srgbClr val="ffff00"/>
                </a:solidFill>
                <a:latin typeface="Arial"/>
              </a:rPr>
              <a:t>using</a:t>
            </a:r>
            <a:r>
              <a:rPr b="0" lang="en-US" sz="2600" spc="-1" strike="noStrike">
                <a:solidFill>
                  <a:srgbClr val="ffffff"/>
                </a:solidFill>
                <a:latin typeface="Arial"/>
              </a:rPr>
              <a:t> information</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emanding</a:t>
            </a:r>
            <a:r>
              <a:rPr b="0" lang="en-US" sz="2600" spc="-1" strike="noStrike">
                <a:solidFill>
                  <a:srgbClr val="ffffff"/>
                </a:solidFill>
                <a:latin typeface="Arial"/>
              </a:rPr>
              <a:t> information</a:t>
            </a:r>
            <a:endParaRPr b="0" lang="en-US" sz="2600" spc="-1" strike="noStrike">
              <a:solidFill>
                <a:srgbClr val="ffffff"/>
              </a:solidFill>
              <a:latin typeface="Arial"/>
            </a:endParaRPr>
          </a:p>
          <a:p>
            <a:pPr marL="343080" indent="0">
              <a:lnSpc>
                <a:spcPct val="11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500040"/>
            <a:ext cx="776916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orking toward a culture of information use</a:t>
            </a:r>
            <a:endParaRPr b="1" lang="en-US" sz="3600" spc="-1" strike="noStrike">
              <a:solidFill>
                <a:srgbClr val="ffffff"/>
              </a:solidFill>
              <a:latin typeface="Arial"/>
            </a:endParaRPr>
          </a:p>
        </p:txBody>
      </p:sp>
      <p:sp>
        <p:nvSpPr>
          <p:cNvPr id="189" name="PlaceHolder 2"/>
          <p:cNvSpPr>
            <a:spLocks noGrp="1"/>
          </p:cNvSpPr>
          <p:nvPr>
            <p:ph/>
          </p:nvPr>
        </p:nvSpPr>
        <p:spPr>
          <a:xfrm>
            <a:off x="533160" y="1900080"/>
            <a:ext cx="8458200" cy="476568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becomes an integral part of decision-making processes, including planning, problem solving, choosing alternatives, feedback, etc.</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owers people to ask questions, seek improvement, learn, and improve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riety of Formats</a:t>
            </a:r>
            <a:endParaRPr b="1" lang="en-US" sz="3600" spc="-1" strike="noStrike">
              <a:solidFill>
                <a:srgbClr val="ffffff"/>
              </a:solidFill>
              <a:latin typeface="Arial"/>
            </a:endParaRPr>
          </a:p>
        </p:txBody>
      </p:sp>
      <p:sp>
        <p:nvSpPr>
          <p:cNvPr id="191" name=""/>
          <p:cNvSpPr txBox="1"/>
          <p:nvPr/>
        </p:nvSpPr>
        <p:spPr>
          <a:xfrm>
            <a:off x="923760" y="159984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rratives </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ies, bulleted items, graphs, charts</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erson discussion</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on-on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meetings, district meetings</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ches to staff</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ion vis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2" name="Picture 4" descr=""/>
          <p:cNvPicPr/>
          <p:nvPr/>
        </p:nvPicPr>
        <p:blipFill>
          <a:blip r:embed="rId1"/>
          <a:stretch/>
        </p:blipFill>
        <p:spPr>
          <a:xfrm>
            <a:off x="1576440" y="444600"/>
            <a:ext cx="5726160" cy="59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3" name=""/>
          <p:cNvGraphicFramePr/>
          <p:nvPr/>
        </p:nvGraphicFramePr>
        <p:xfrm>
          <a:off x="844560" y="274680"/>
          <a:ext cx="7386480" cy="6583320"/>
        </p:xfrm>
        <a:graphic>
          <a:graphicData uri="http://schemas.openxmlformats.org/drawingml/2006/table">
            <a:tbl>
              <a:tblPr/>
              <a:tblGrid>
                <a:gridCol w="218880"/>
                <a:gridCol w="1607400"/>
                <a:gridCol w="2111760"/>
                <a:gridCol w="2067120"/>
                <a:gridCol w="1381320"/>
              </a:tblGrid>
              <a:tr h="274320">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c gridSpan="2">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5a58"/>
                          </a:solidFill>
                          <a:latin typeface="Verdana"/>
                          <a:ea typeface="Arial"/>
                        </a:rPr>
                        <a:t>Quarterly Performance Indicators</a:t>
                      </a:r>
                      <a:endParaRPr b="0" lang="en-US" sz="1200" spc="-1" strike="noStrike">
                        <a:solidFill>
                          <a:srgbClr val="ffffff"/>
                        </a:solidFill>
                        <a:latin typeface="Arial"/>
                      </a:endParaRPr>
                    </a:p>
                  </a:txBody>
                  <a:tcPr anchor="b" marL="91440" marR="91440">
                    <a:lnL>
                      <a:noFill/>
                    </a:lnL>
                    <a:lnR>
                      <a:noFill/>
                    </a:lnR>
                    <a:lnT>
                      <a:noFill/>
                    </a:lnT>
                    <a:lnB>
                      <a:noFill/>
                    </a:lnB>
                    <a:solidFill>
                      <a:srgbClr val="ccd4d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1440" marR="91440">
                    <a:lnL>
                      <a:noFill/>
                    </a:lnL>
                    <a:lnR>
                      <a:noFill/>
                    </a:lnR>
                    <a:lnT>
                      <a:noFill/>
                    </a:lnT>
                    <a:lnB>
                      <a:noFill/>
                    </a:lnB>
                    <a:solidFill>
                      <a:srgbClr val="ccd4d4"/>
                    </a:solidFill>
                  </a:tcPr>
                </a:tc>
              </a:tr>
              <a:tr h="244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ea typeface="Arial"/>
                        </a:rPr>
                        <a: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ea typeface="Arial"/>
                        </a:rPr>
                        <a:t>Indic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ea typeface="Arial"/>
                        </a:rPr>
                        <a:t>Numer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ea typeface="Arial"/>
                        </a:rPr>
                        <a:t>Denominator</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ea typeface="Arial"/>
                        </a:rPr>
                        <a:t>Percentage</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r>
              <a:tr h="24444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61616"/>
                          </a:solidFill>
                          <a:latin typeface="Verdana"/>
                          <a:ea typeface="Arial"/>
                        </a:rPr>
                        <a:t>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828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eligible clients placed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new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Sum of # of new clients on ART and clients on ART waiting lis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100%</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39</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current ART client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ac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cumulative clients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92%</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62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76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864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ART clients in 6 month cohort undergoing repeat CD4 testing</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clients for whom repeat CD4 testing was done at 6 months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Total # of active ART clients in 6 month coho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94%</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47</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5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Pediatric ART</a:t>
                      </a:r>
                      <a:endParaRPr b="0" lang="en-US" sz="10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children current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ac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cumulative children on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78%</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5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ART Care Follow-up</a:t>
                      </a:r>
                      <a:endParaRPr b="0" lang="en-US" sz="10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492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1</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 active ART patients who have stopped AR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patients who stopped AR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0%</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0</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2</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 active ART patients who transferred out.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patients who transferred out.</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6%</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8</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080">
                <a:tc rowSpan="2">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 active ART patients who died.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patients who died.</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73%</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06</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636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4</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rial"/>
                        </a:rPr>
                        <a:t>% of non active ART patients who have been lost to follow-up. </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patients who have been lost to follow-up.</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5a58"/>
                          </a:solidFill>
                          <a:latin typeface="Verdana"/>
                          <a:ea typeface="Arial"/>
                        </a:rPr>
                        <a:t># of non active ART patients.</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a:noFill/>
                    </a:lnB>
                    <a:solidFill>
                      <a:srgbClr val="fffff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a58"/>
                          </a:solidFill>
                          <a:latin typeface="Verdana"/>
                          <a:ea typeface="Arial"/>
                        </a:rPr>
                        <a:t>16%</a:t>
                      </a:r>
                      <a:endParaRPr b="0" lang="en-US" sz="1800" spc="-1" strike="noStrike">
                        <a:solidFill>
                          <a:srgbClr val="ffffff"/>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2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23</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5a58"/>
                          </a:solidFill>
                          <a:latin typeface="Verdana"/>
                          <a:ea typeface="Arial"/>
                        </a:rPr>
                        <a:t>145</a:t>
                      </a:r>
                      <a:endParaRPr b="0" lang="en-US" sz="1000" spc="-1" strike="noStrike">
                        <a:solidFill>
                          <a:srgbClr val="ffffff"/>
                        </a:solidFill>
                        <a:latin typeface="Arial"/>
                      </a:endParaRPr>
                    </a:p>
                  </a:txBody>
                  <a:tcPr anchor="t" marL="91440" marR="91440">
                    <a:lnL w="5760">
                      <a:solidFill>
                        <a:srgbClr val="000000"/>
                      </a:solidFill>
                    </a:lnL>
                    <a:lnR w="5760">
                      <a:solidFill>
                        <a:srgbClr val="000000"/>
                      </a:solidFill>
                    </a:lnR>
                    <a:lnT>
                      <a:no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87A8-6931-47E0-9B61-F94735A0584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developing feedback mechanism, consider…</a:t>
            </a:r>
            <a:endParaRPr b="1" lang="en-US" sz="3600" spc="-1" strike="noStrike">
              <a:solidFill>
                <a:srgbClr val="ffffff"/>
              </a:solidFill>
              <a:latin typeface="Arial"/>
            </a:endParaRPr>
          </a:p>
        </p:txBody>
      </p:sp>
      <p:sp>
        <p:nvSpPr>
          <p:cNvPr id="196" name="PlaceHolder 2"/>
          <p:cNvSpPr>
            <a:spLocks noGrp="1"/>
          </p:cNvSpPr>
          <p:nvPr>
            <p:ph/>
          </p:nvPr>
        </p:nvSpPr>
        <p:spPr>
          <a:xfrm>
            <a:off x="923760" y="1905120"/>
            <a:ext cx="7763040" cy="469584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information being shared</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o will benefit from feedback </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ormat of the feedback mechanism</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orum at which feedback will be shared</a:t>
            </a:r>
            <a:endParaRPr b="0" lang="en-US" sz="2600" spc="-1" strike="noStrike">
              <a:solidFill>
                <a:srgbClr val="ffffff"/>
              </a:solidFill>
              <a:latin typeface="Arial"/>
            </a:endParaRPr>
          </a:p>
          <a:p>
            <a:pPr marL="343080" indent="-343080">
              <a:lnSpc>
                <a:spcPct val="12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often the feedback will be provided </a:t>
            </a:r>
            <a:endParaRPr b="0" lang="en-US" sz="2600" spc="-1" strike="noStrike">
              <a:solidFill>
                <a:srgbClr val="ffffff"/>
              </a:solidFill>
              <a:latin typeface="Arial"/>
            </a:endParaRPr>
          </a:p>
          <a:p>
            <a:pPr marL="343080" indent="-343080">
              <a:lnSpc>
                <a:spcPct val="15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he feedback will move to the next level</a:t>
            </a:r>
            <a:endParaRPr b="0" lang="en-US" sz="2600" spc="-1" strike="noStrike">
              <a:solidFill>
                <a:srgbClr val="ffffff"/>
              </a:solidFill>
              <a:latin typeface="Arial"/>
            </a:endParaRPr>
          </a:p>
          <a:p>
            <a:pPr marL="343080" indent="0">
              <a:lnSpc>
                <a:spcPct val="11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5: Learning objectives</a:t>
            </a:r>
            <a:endParaRPr b="1" lang="en-US" sz="3600" spc="-1" strike="noStrike">
              <a:solidFill>
                <a:srgbClr val="ffffff"/>
              </a:solidFill>
              <a:latin typeface="Arial"/>
            </a:endParaRPr>
          </a:p>
        </p:txBody>
      </p:sp>
      <p:sp>
        <p:nvSpPr>
          <p:cNvPr id="131" name=""/>
          <p:cNvSpPr txBox="1"/>
          <p:nvPr/>
        </p:nvSpPr>
        <p:spPr>
          <a:xfrm>
            <a:off x="923760" y="1599840"/>
            <a:ext cx="7763040" cy="396252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importance of information  feedback in program improvement and management</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elements of good feedback</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importance of information flow and how it affects data use</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E895-586E-478F-9882-DBB1A9D4D342}"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906120" y="561600"/>
            <a:ext cx="7932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tential barriers to providing feedback</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199" name="PlaceHolder 2"/>
          <p:cNvSpPr>
            <a:spLocks noGrp="1"/>
          </p:cNvSpPr>
          <p:nvPr>
            <p:ph/>
          </p:nvPr>
        </p:nvSpPr>
        <p:spPr>
          <a:xfrm>
            <a:off x="941400" y="1973160"/>
            <a:ext cx="7763040" cy="453240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erarchy </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le clarification – data clerk &amp; M&amp;E officer</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roval requirements to distribute data</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k of knowledge as to what information stakeholders ne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20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ective data feedback helps to ensure use of information for planning and programmatic improve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important to identify and address barriers to information flow</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Use Map can highlight intervention points to improve information u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86960" y="232920"/>
            <a:ext cx="759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Data Demand &amp; Information Use </a:t>
            </a:r>
            <a:endParaRPr b="1" lang="en-US" sz="3400" spc="-1" strike="noStrike">
              <a:solidFill>
                <a:srgbClr val="ffffff"/>
              </a:solidFill>
              <a:latin typeface="Arial"/>
            </a:endParaRPr>
          </a:p>
        </p:txBody>
      </p:sp>
      <p:pic>
        <p:nvPicPr>
          <p:cNvPr id="133" name="Picture 3" descr="measure flowchart"/>
          <p:cNvPicPr/>
          <p:nvPr/>
        </p:nvPicPr>
        <p:blipFill>
          <a:blip r:embed="rId1"/>
          <a:stretch/>
        </p:blipFill>
        <p:spPr>
          <a:xfrm>
            <a:off x="895320" y="1596960"/>
            <a:ext cx="7061400" cy="44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We are always giving patient forms and data to our M&amp;E Unit, who then gives data to donors and the government. I am the head doctor and I never have the chance to look through the data before they go up. We just keep giving data up and up, and we never hear back about it…”</a:t>
            </a:r>
            <a:endParaRPr b="0" lang="en-US" sz="2600" spc="-1" strike="noStrike">
              <a:solidFill>
                <a:srgbClr val="ffffff"/>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600" spc="-1" strike="noStrike">
                <a:solidFill>
                  <a:srgbClr val="ffffff"/>
                </a:solidFill>
                <a:latin typeface="Arial"/>
              </a:rPr>
              <a:t>        </a:t>
            </a:r>
            <a:r>
              <a:rPr b="0" i="1" lang="en-US" sz="2200" spc="-1" strike="noStrike">
                <a:solidFill>
                  <a:srgbClr val="ffffff"/>
                </a:solidFill>
                <a:latin typeface="Arial"/>
              </a:rPr>
              <a:t>Head of ART facility, Nigeri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B1C3-14C9-4F21-8EFC-7519DED1F51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ck of information feedback is a common problem</a:t>
            </a:r>
            <a:endParaRPr b="1" lang="en-US" sz="3600" spc="-1" strike="noStrike">
              <a:solidFill>
                <a:srgbClr val="ffffff"/>
              </a:solidFill>
              <a:latin typeface="Arial"/>
            </a:endParaRPr>
          </a:p>
        </p:txBody>
      </p:sp>
      <p:sp>
        <p:nvSpPr>
          <p:cNvPr id="138"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cal data not used locally</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er-level information does not return back to local level</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cal data not assessed in broad context</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ttle incentive to produce high-quality data </a:t>
            </a:r>
            <a:endParaRPr b="0" lang="en-US" sz="2600" spc="-1" strike="noStrike">
              <a:solidFill>
                <a:srgbClr val="ffffff"/>
              </a:solidFill>
              <a:latin typeface="Arial"/>
            </a:endParaRPr>
          </a:p>
          <a:p>
            <a:pPr marL="343080" indent="0">
              <a:lnSpc>
                <a:spcPct val="11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is feedback important to the provider?</a:t>
            </a:r>
            <a:endParaRPr b="1" lang="en-US" sz="3600" spc="-1" strike="noStrike">
              <a:solidFill>
                <a:srgbClr val="ffffff"/>
              </a:solidFill>
              <a:latin typeface="Arial"/>
            </a:endParaRPr>
          </a:p>
        </p:txBody>
      </p:sp>
      <p:sp>
        <p:nvSpPr>
          <p:cNvPr id="140" name="PlaceHolder 2"/>
          <p:cNvSpPr>
            <a:spLocks noGrp="1"/>
          </p:cNvSpPr>
          <p:nvPr>
            <p:ph/>
          </p:nvPr>
        </p:nvSpPr>
        <p:spPr>
          <a:xfrm>
            <a:off x="863640" y="1599840"/>
            <a:ext cx="8013600" cy="52578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how daily work contributes to greater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opportunity to compare programs – resulting in expanded data u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s providers that data they collect are used – leads to improved data quality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entive/motivation to continue to collect, analyze, &amp; use data</a:t>
            </a:r>
            <a:endParaRPr b="0" lang="en-US" sz="26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ring information</a:t>
            </a:r>
            <a:endParaRPr b="1" lang="en-US" sz="3600" spc="-1" strike="noStrike">
              <a:solidFill>
                <a:srgbClr val="ffffff"/>
              </a:solidFill>
              <a:latin typeface="Arial"/>
            </a:endParaRPr>
          </a:p>
        </p:txBody>
      </p:sp>
      <p:sp>
        <p:nvSpPr>
          <p:cNvPr id="14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needs to be shared</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imely and regular interval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in, between, up, and dow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33"/>
                </a:solidFill>
                <a:latin typeface="Arial"/>
              </a:rPr>
              <a:t>Effective communication helps to ensure use of information for planning and programmatic improvement</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2"/>
          <p:cNvGrpSpPr/>
          <p:nvPr/>
        </p:nvGrpSpPr>
        <p:grpSpPr>
          <a:xfrm>
            <a:off x="4071960" y="1816200"/>
            <a:ext cx="4554360" cy="3801600"/>
            <a:chOff x="4071960" y="1816200"/>
            <a:chExt cx="4554360" cy="3801600"/>
          </a:xfrm>
        </p:grpSpPr>
        <p:grpSp>
          <p:nvGrpSpPr>
            <p:cNvPr id="144" name="Group 3"/>
            <p:cNvGrpSpPr/>
            <p:nvPr/>
          </p:nvGrpSpPr>
          <p:grpSpPr>
            <a:xfrm>
              <a:off x="4433760" y="1816200"/>
              <a:ext cx="4192560" cy="3801600"/>
              <a:chOff x="4433760" y="1816200"/>
              <a:chExt cx="4192560" cy="3801600"/>
            </a:xfrm>
          </p:grpSpPr>
          <p:sp>
            <p:nvSpPr>
              <p:cNvPr id="145" name="Rectangle 4"/>
              <p:cNvSpPr/>
              <p:nvPr/>
            </p:nvSpPr>
            <p:spPr>
              <a:xfrm>
                <a:off x="4433760" y="1816200"/>
                <a:ext cx="4192560" cy="3409920"/>
              </a:xfrm>
              <a:prstGeom prst="rect">
                <a:avLst/>
              </a:prstGeom>
              <a:solidFill>
                <a:srgbClr val="ffff00">
                  <a:alpha val="19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5"/>
              <p:cNvSpPr/>
              <p:nvPr/>
            </p:nvSpPr>
            <p:spPr>
              <a:xfrm>
                <a:off x="4857840" y="5037120"/>
                <a:ext cx="343044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igher levels: district, province, national</a:t>
                </a:r>
                <a:endParaRPr b="0" lang="en-US" sz="1600" spc="-1" strike="noStrike">
                  <a:solidFill>
                    <a:srgbClr val="ffffff"/>
                  </a:solidFill>
                  <a:latin typeface="Arial"/>
                </a:endParaRPr>
              </a:p>
            </p:txBody>
          </p:sp>
        </p:grpSp>
        <p:grpSp>
          <p:nvGrpSpPr>
            <p:cNvPr id="147" name="Group 6"/>
            <p:cNvGrpSpPr/>
            <p:nvPr/>
          </p:nvGrpSpPr>
          <p:grpSpPr>
            <a:xfrm>
              <a:off x="4071960" y="3600720"/>
              <a:ext cx="1936800" cy="1158840"/>
              <a:chOff x="4071960" y="3600720"/>
              <a:chExt cx="1936800" cy="1158840"/>
            </a:xfrm>
          </p:grpSpPr>
          <p:sp>
            <p:nvSpPr>
              <p:cNvPr id="148" name="AutoShape 7"/>
              <p:cNvSpPr/>
              <p:nvPr/>
            </p:nvSpPr>
            <p:spPr>
              <a:xfrm>
                <a:off x="4613400" y="3600720"/>
                <a:ext cx="1395360" cy="11588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ts, Evaluators</a:t>
                </a:r>
                <a:endParaRPr b="0" lang="en-US" sz="1600" spc="-1" strike="noStrike">
                  <a:solidFill>
                    <a:srgbClr val="ffffff"/>
                  </a:solidFill>
                  <a:latin typeface="Arial"/>
                </a:endParaRPr>
              </a:p>
            </p:txBody>
          </p:sp>
          <p:sp>
            <p:nvSpPr>
              <p:cNvPr id="149" name="Line 8"/>
              <p:cNvSpPr/>
              <p:nvPr/>
            </p:nvSpPr>
            <p:spPr>
              <a:xfrm>
                <a:off x="4071960" y="4019760"/>
                <a:ext cx="490320" cy="4680"/>
              </a:xfrm>
              <a:prstGeom prst="line">
                <a:avLst/>
              </a:prstGeom>
              <a:ln w="28440">
                <a:solidFill>
                  <a:srgbClr val="ffffff"/>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sp>
        <p:nvSpPr>
          <p:cNvPr id="150" name="Rectangle 9"/>
          <p:cNvSpPr/>
          <p:nvPr/>
        </p:nvSpPr>
        <p:spPr>
          <a:xfrm>
            <a:off x="461880" y="1816200"/>
            <a:ext cx="3764160" cy="3409920"/>
          </a:xfrm>
          <a:prstGeom prst="rect">
            <a:avLst/>
          </a:prstGeom>
          <a:solidFill>
            <a:srgbClr val="66ffcc">
              <a:alpha val="15000"/>
            </a:srgbClr>
          </a:solidFill>
          <a:ln w="38160">
            <a:solidFill>
              <a:srgbClr val="ffff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Text Box 10"/>
          <p:cNvSpPr/>
          <p:nvPr/>
        </p:nvSpPr>
        <p:spPr>
          <a:xfrm>
            <a:off x="1998720" y="5029200"/>
            <a:ext cx="1909800" cy="580680"/>
          </a:xfrm>
          <a:prstGeom prst="rect">
            <a:avLst/>
          </a:prstGeom>
          <a:solidFill>
            <a:srgbClr val="0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ervice Delivery Point</a:t>
            </a:r>
            <a:endParaRPr b="0" lang="en-US" sz="1600" spc="-1" strike="noStrike">
              <a:solidFill>
                <a:srgbClr val="ffffff"/>
              </a:solidFill>
              <a:latin typeface="Arial"/>
            </a:endParaRPr>
          </a:p>
        </p:txBody>
      </p:sp>
      <p:sp>
        <p:nvSpPr>
          <p:cNvPr id="152" name="AutoShape 11"/>
          <p:cNvSpPr/>
          <p:nvPr/>
        </p:nvSpPr>
        <p:spPr>
          <a:xfrm>
            <a:off x="1960560" y="2162160"/>
            <a:ext cx="3774960" cy="830160"/>
          </a:xfrm>
          <a:prstGeom prst="leftArrow">
            <a:avLst>
              <a:gd name="adj1" fmla="val 40824"/>
              <a:gd name="adj2" fmla="val 59767"/>
            </a:avLst>
          </a:prstGeom>
          <a:solidFill>
            <a:srgbClr val="ff99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Feedback     </a:t>
            </a:r>
            <a:endParaRPr b="0" lang="en-US" sz="1600" spc="-1" strike="noStrike">
              <a:solidFill>
                <a:srgbClr val="ffffff"/>
              </a:solidFill>
              <a:latin typeface="Arial"/>
            </a:endParaRPr>
          </a:p>
        </p:txBody>
      </p:sp>
      <p:grpSp>
        <p:nvGrpSpPr>
          <p:cNvPr id="153" name="Group 12"/>
          <p:cNvGrpSpPr/>
          <p:nvPr/>
        </p:nvGrpSpPr>
        <p:grpSpPr>
          <a:xfrm>
            <a:off x="6723000" y="1978200"/>
            <a:ext cx="1902960" cy="1157040"/>
            <a:chOff x="6723000" y="1978200"/>
            <a:chExt cx="1902960" cy="1157040"/>
          </a:xfrm>
        </p:grpSpPr>
        <p:sp>
          <p:nvSpPr>
            <p:cNvPr id="154" name="AutoShape 13"/>
            <p:cNvSpPr/>
            <p:nvPr/>
          </p:nvSpPr>
          <p:spPr>
            <a:xfrm>
              <a:off x="6981120" y="1978200"/>
              <a:ext cx="1644840" cy="115704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rs, Government, Donors</a:t>
              </a:r>
              <a:endParaRPr b="0" lang="en-US" sz="1600" spc="-1" strike="noStrike">
                <a:solidFill>
                  <a:srgbClr val="ffffff"/>
                </a:solidFill>
                <a:latin typeface="Arial"/>
              </a:endParaRPr>
            </a:p>
          </p:txBody>
        </p:sp>
        <p:sp>
          <p:nvSpPr>
            <p:cNvPr id="155" name="Line 14"/>
            <p:cNvSpPr/>
            <p:nvPr/>
          </p:nvSpPr>
          <p:spPr>
            <a:xfrm>
              <a:off x="6723000" y="2558880"/>
              <a:ext cx="234720" cy="4320"/>
            </a:xfrm>
            <a:prstGeom prst="line">
              <a:avLst/>
            </a:prstGeom>
            <a:ln w="28440">
              <a:solidFill>
                <a:srgbClr val="ffffff"/>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grpSp>
      <p:sp>
        <p:nvSpPr>
          <p:cNvPr id="156" name="AutoShape 15"/>
          <p:cNvSpPr/>
          <p:nvPr/>
        </p:nvSpPr>
        <p:spPr>
          <a:xfrm>
            <a:off x="693720" y="2046240"/>
            <a:ext cx="1197000" cy="1157400"/>
          </a:xfrm>
          <a:prstGeom prst="flowChartAlternateProcess">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a:t>
            </a:r>
            <a:endParaRPr b="0" lang="en-US" sz="1600" spc="-1" strike="noStrike">
              <a:solidFill>
                <a:srgbClr val="ffffff"/>
              </a:solidFill>
              <a:latin typeface="Arial"/>
            </a:endParaRPr>
          </a:p>
        </p:txBody>
      </p:sp>
      <p:grpSp>
        <p:nvGrpSpPr>
          <p:cNvPr id="157" name="Group 16"/>
          <p:cNvGrpSpPr/>
          <p:nvPr/>
        </p:nvGrpSpPr>
        <p:grpSpPr>
          <a:xfrm>
            <a:off x="2805120" y="3436920"/>
            <a:ext cx="1294920" cy="1238400"/>
            <a:chOff x="2805120" y="3436920"/>
            <a:chExt cx="1294920" cy="1238400"/>
          </a:xfrm>
        </p:grpSpPr>
        <p:sp>
          <p:nvSpPr>
            <p:cNvPr id="158" name="AutoShape 17"/>
            <p:cNvSpPr/>
            <p:nvPr/>
          </p:nvSpPr>
          <p:spPr>
            <a:xfrm>
              <a:off x="3073680" y="3436920"/>
              <a:ext cx="102636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piled Data</a:t>
              </a:r>
              <a:endParaRPr b="0" lang="en-US" sz="1500" spc="-1" strike="noStrike">
                <a:solidFill>
                  <a:srgbClr val="ffffff"/>
                </a:solidFill>
                <a:latin typeface="Arial"/>
              </a:endParaRPr>
            </a:p>
          </p:txBody>
        </p:sp>
        <p:sp>
          <p:nvSpPr>
            <p:cNvPr id="159" name="Line 18"/>
            <p:cNvSpPr/>
            <p:nvPr/>
          </p:nvSpPr>
          <p:spPr>
            <a:xfrm>
              <a:off x="2805120" y="3976560"/>
              <a:ext cx="224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 name="Group 19"/>
          <p:cNvGrpSpPr/>
          <p:nvPr/>
        </p:nvGrpSpPr>
        <p:grpSpPr>
          <a:xfrm>
            <a:off x="961920" y="3214800"/>
            <a:ext cx="1884240" cy="1702800"/>
            <a:chOff x="961920" y="3214800"/>
            <a:chExt cx="1884240" cy="1702800"/>
          </a:xfrm>
        </p:grpSpPr>
        <p:sp>
          <p:nvSpPr>
            <p:cNvPr id="161" name="Line 20"/>
            <p:cNvSpPr/>
            <p:nvPr/>
          </p:nvSpPr>
          <p:spPr>
            <a:xfrm>
              <a:off x="968400" y="3976560"/>
              <a:ext cx="209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2" name="Group 21"/>
            <p:cNvGrpSpPr/>
            <p:nvPr/>
          </p:nvGrpSpPr>
          <p:grpSpPr>
            <a:xfrm>
              <a:off x="961920" y="3214800"/>
              <a:ext cx="1884240" cy="1702800"/>
              <a:chOff x="961920" y="3214800"/>
              <a:chExt cx="1884240" cy="1702800"/>
            </a:xfrm>
          </p:grpSpPr>
          <p:sp>
            <p:nvSpPr>
              <p:cNvPr id="163" name="AutoShape 22"/>
              <p:cNvSpPr/>
              <p:nvPr/>
            </p:nvSpPr>
            <p:spPr>
              <a:xfrm>
                <a:off x="1211040" y="3347640"/>
                <a:ext cx="1635120" cy="1569960"/>
              </a:xfrm>
              <a:prstGeom prst="flowChartMulti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nical Histories, Service Statistics</a:t>
                </a:r>
                <a:endParaRPr b="0" lang="en-US" sz="1600" spc="-1" strike="noStrike">
                  <a:solidFill>
                    <a:srgbClr val="ffffff"/>
                  </a:solidFill>
                  <a:latin typeface="Arial"/>
                </a:endParaRPr>
              </a:p>
            </p:txBody>
          </p:sp>
          <p:sp>
            <p:nvSpPr>
              <p:cNvPr id="164" name="Line 23"/>
              <p:cNvSpPr/>
              <p:nvPr/>
            </p:nvSpPr>
            <p:spPr>
              <a:xfrm flipV="1">
                <a:off x="961920" y="3214800"/>
                <a:ext cx="0" cy="769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65" name="Group 24"/>
          <p:cNvGrpSpPr/>
          <p:nvPr/>
        </p:nvGrpSpPr>
        <p:grpSpPr>
          <a:xfrm>
            <a:off x="5148360" y="2130480"/>
            <a:ext cx="1574640" cy="1451520"/>
            <a:chOff x="5148360" y="2130480"/>
            <a:chExt cx="1574640" cy="1451520"/>
          </a:xfrm>
        </p:grpSpPr>
        <p:sp>
          <p:nvSpPr>
            <p:cNvPr id="166" name="AutoShape 25"/>
            <p:cNvSpPr/>
            <p:nvPr/>
          </p:nvSpPr>
          <p:spPr>
            <a:xfrm>
              <a:off x="5724360" y="2130480"/>
              <a:ext cx="998640" cy="1238400"/>
            </a:xfrm>
            <a:prstGeom prst="flowChartDocument">
              <a:avLst/>
            </a:prstGeom>
            <a:solidFill>
              <a:srgbClr val="00808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orts</a:t>
              </a:r>
              <a:endParaRPr b="0" lang="en-US" sz="1600" spc="-1" strike="noStrike">
                <a:solidFill>
                  <a:srgbClr val="ffffff"/>
                </a:solidFill>
                <a:latin typeface="Arial"/>
              </a:endParaRPr>
            </a:p>
          </p:txBody>
        </p:sp>
        <p:grpSp>
          <p:nvGrpSpPr>
            <p:cNvPr id="167" name="Group 26"/>
            <p:cNvGrpSpPr/>
            <p:nvPr/>
          </p:nvGrpSpPr>
          <p:grpSpPr>
            <a:xfrm>
              <a:off x="5148360" y="3006360"/>
              <a:ext cx="575640" cy="575640"/>
              <a:chOff x="5148360" y="3006360"/>
              <a:chExt cx="575640" cy="575640"/>
            </a:xfrm>
          </p:grpSpPr>
          <p:sp>
            <p:nvSpPr>
              <p:cNvPr id="168" name="Line 27"/>
              <p:cNvSpPr/>
              <p:nvPr/>
            </p:nvSpPr>
            <p:spPr>
              <a:xfrm flipV="1">
                <a:off x="5148360" y="3006360"/>
                <a:ext cx="0" cy="57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8"/>
              <p:cNvSpPr/>
              <p:nvPr/>
            </p:nvSpPr>
            <p:spPr>
              <a:xfrm>
                <a:off x="5148360" y="3006720"/>
                <a:ext cx="575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ormation Flow</a:t>
            </a:r>
            <a:endParaRPr b="1" lang="en-US" sz="3600" spc="-1" strike="noStrike">
              <a:solidFill>
                <a:srgbClr val="ffffff"/>
              </a:solidFill>
              <a:latin typeface="Arial"/>
            </a:endParaRPr>
          </a:p>
        </p:txBody>
      </p:sp>
      <p:grpSp>
        <p:nvGrpSpPr>
          <p:cNvPr id="171" name="Group 30"/>
          <p:cNvGrpSpPr/>
          <p:nvPr/>
        </p:nvGrpSpPr>
        <p:grpSpPr>
          <a:xfrm>
            <a:off x="1949400" y="2584440"/>
            <a:ext cx="1431720" cy="844560"/>
            <a:chOff x="1949400" y="2584440"/>
            <a:chExt cx="1431720" cy="844560"/>
          </a:xfrm>
        </p:grpSpPr>
        <p:sp>
          <p:nvSpPr>
            <p:cNvPr id="172" name="Line 31"/>
            <p:cNvSpPr/>
            <p:nvPr/>
          </p:nvSpPr>
          <p:spPr>
            <a:xfrm flipV="1">
              <a:off x="3381120" y="2584440"/>
              <a:ext cx="0" cy="844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Line 32"/>
            <p:cNvSpPr/>
            <p:nvPr/>
          </p:nvSpPr>
          <p:spPr>
            <a:xfrm>
              <a:off x="1949400" y="2584440"/>
              <a:ext cx="14317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rpose of understanding information flow</a:t>
            </a:r>
            <a:endParaRPr b="1" lang="en-US" sz="3600" spc="-1" strike="noStrike">
              <a:solidFill>
                <a:srgbClr val="ffffff"/>
              </a:solidFill>
              <a:latin typeface="Arial"/>
            </a:endParaRPr>
          </a:p>
        </p:txBody>
      </p:sp>
      <p:sp>
        <p:nvSpPr>
          <p:cNvPr id="175" name="PlaceHolder 2"/>
          <p:cNvSpPr>
            <a:spLocks noGrp="1"/>
          </p:cNvSpPr>
          <p:nvPr>
            <p:ph/>
          </p:nvPr>
        </p:nvSpPr>
        <p:spPr>
          <a:xfrm>
            <a:off x="630360" y="1633680"/>
            <a:ext cx="8129520" cy="493848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lps us better understand our role in health information system and importance of collecting data</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dentify opportunities for improving data collection &amp; analysis, increasing availability, and ensuring data us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4-29T16:53:01Z</dcterms:modified>
  <cp:revision>348</cp:revision>
  <dc:subject/>
  <dc:title>Slide 1</dc:title>
</cp:coreProperties>
</file>