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5D28-C2A1-4B66-BD57-C951C7859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6B3A8-212A-42D3-A5E1-117CE1F97A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ic of the last module on using data to monitor and improve service delivery is making data-informed decisions. This module will provide you with concrete suggestions and tools for how to include data use in your clinical practic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larify what we mean by ‘dec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 Every day you need to make a decision about what to wear out of the house. To make this decision, you may ask yourself some questions that will inform the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tempera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rai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vents do I have planned for the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swer these questions, you may consult the thermometer, the weather report, or your daily calendar.</a:t>
            </a:r>
            <a:endParaRPr b="0" lang="en-US" sz="12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692D-4657-49C8-B9A0-232E60A424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B39A-3CA5-4282-8384-928608AD7D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43000" y="684360"/>
            <a:ext cx="4573440" cy="3430440"/>
          </a:xfrm>
          <a:prstGeom prst="rect">
            <a:avLst/>
          </a:prstGeom>
          <a:ln w="0">
            <a:noFill/>
          </a:ln>
        </p:spPr>
      </p:sp>
      <p:sp>
        <p:nvSpPr>
          <p:cNvPr id="218"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examples of decisions that may be made at different levels of the health car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ontexts, a decision cannot be identified before a key programmatic or policy question is answered. Or decision makers may have a question about their program that needs an answer. It is the answers to these questions that may provide the evidence that some kind of action needs to be taken to either improve or realign services. In this case, we focus on identifying ‘programmatic questions’ as opposed to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73B5-017B-44E0-803D-91ACAB494F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F5F9-FA30-4019-BAE3-818F91CFC6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4360"/>
            <a:ext cx="4573440" cy="3430440"/>
          </a:xfrm>
          <a:prstGeom prst="rect">
            <a:avLst/>
          </a:prstGeom>
          <a:ln w="0">
            <a:noFill/>
          </a:ln>
        </p:spPr>
      </p:sp>
      <p:sp>
        <p:nvSpPr>
          <p:cNvPr id="224"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programmatic questions include: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In some cases, it may be helpful to have participants brainstorm a list of programmatic questions. As they identify questions (or as you go through the list above), talk about what data could answer the questions, as well as what decisions might result from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 monthly report data reveal that only 20% of women are delivering in health facilities, ask the participants to brainstorm solutions. Identify at least one decision that would need to be ma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use an example from a PMTCT program to walk through the Framework. In this example, program managers were interested in finding out if they were reaching their testing targets in PMTCT. So we start with the Program /Policy Question column. The managers also had additional questions about the number of available test kits and the nurse-to-client ratios. Next, they considered the key stakeholders who might be interested in this question. This information is entered in column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n-US" sz="1200" spc="-1" strike="noStrike">
                <a:solidFill>
                  <a:srgbClr val="000000"/>
                </a:solidFill>
                <a:latin typeface="Arial"/>
              </a:rPr>
              <a:t>Note to facilitator</a:t>
            </a:r>
            <a:r>
              <a:rPr b="0" lang="en-US" sz="1200" spc="-1" strike="noStrike">
                <a:solidFill>
                  <a:srgbClr val="000000"/>
                </a:solidFill>
                <a:latin typeface="Arial"/>
              </a:rPr>
              <a:t>:  Click mouse for animation to 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5FBA-58C8-4868-94E3-9B14219DAE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nswers to the questions supported a programmatic change, who would be the person to lead that change? In this example, it is the Head of the Regional Health Management Committee. Note the ‘DM’ before the name. This indicates the individual who is the true decision maker – that individual who has the responsibility to make a programmatic change. You will also note that other stakeholders are implicated in this column as ‘OS’ – other stakeholders. There are the other stakeholders who would be interested in the answers to the programmatic questions and the decisions that are made, the stakeholders who would be affected by a programmatic change to PMTCT programs. These stakeholders would perhaps be: other providers, the division of clinical training, and the supplier of PMTCT sup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3AE7-CFE7-472C-A8EC-1E17C1B35B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731880" y="43131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Click to reveal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next two columns, Indicator/Data and Data Source. In these two columns, you link your decision with data. So looking back at our example, we need to answer the following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Go to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C74C-E4C1-4291-8A77-4AD5856EB6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e we reaching testing targets in PMT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we have sufficient test k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nurse-to-client ratio in the cli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swer these questions, you will need specific data from your service statistics and logistics management system, so you indicate that in the Data Source column. In the Indicator/Data column (to the left), you specify the indicator in your RHIS that captures this information. Once you’ve answered the questions, you can share your findings with the key decision makers and then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F8A7-4111-4E94-9D44-A3A6A80F23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you fill in the Timeline column, which is where you indicate when you will have your analysis completed and communicated to the appropriate stakeholders. In this column, you also can indicate when you need to have your decision made or action taken.</a:t>
            </a: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137E-033F-4C6C-9C2D-B30CF106DB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imeline column, you indicate the date by which you need to answer the question and make the decision. This column helps you to set dates for incorporating data use into your job. Note in this example that there are multiple dates ent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in which the provider is interested is one that requires regular monitoring. Because of this, the provider will review data every three months to determine whether the facility is meeting the programmatic targets and if there are sufficient commodities to support program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2011 is in bold because it is the date when the new strategic plan will be drafted to program activities and funds for the 2012 health program – that is when they want the key decision maker to take action on the findings of the analysis. </a:t>
            </a: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7517-B590-4143-9D76-181B40E3D3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AEEF-A478-40EC-A0A5-0C44875577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the learner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st column, you indicate how you will inform the decision maker and other stakeholders of the data-informed decision. When completing this column, think back to our module on feedback. What mechanism or format will you use to inform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2D3B-21C7-4456-BA79-A32A30D2E1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of our example, perhaps you would prepare a short paragraph that summarizes the findings of your analysis and highlights a programmatic recommendation. This would be presented to the stakeholders outlined in the Decision Maker/Stakeholder column. </a:t>
            </a: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0561-0B1C-426E-B53C-6C64139F46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Click mouse to reveal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we fill in the Decision/Action column. In our example, let’s assume that the analysis informed us that the PMTCT program was nowhere close to meeting its targets for the year, the nurse to client ratio was far below acceptable, and there were sufficient test kits to reach programmatic targets. After this information was discussed with key stakeholders and interpreted in the context of the PMTCT program, the Head of the Regional Health Committee decided that additional PMTCT counselors would improve program performance. So, we fill in column 1 with thi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important to note that this tool can be applied in different ways, depending on the needs of the user. If the decision is known and clear, users will start with column 1 first and work their way across the matrix to the right.  </a:t>
            </a: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35AC-B023-4960-A83C-A9296CF6E9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for Linking Data with Action is a management tool – a combination of template and process – that serves three key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Creates a time-bound plan for information-informed decision making </a:t>
            </a:r>
            <a:r>
              <a:rPr b="0" lang="en-US" sz="1200" spc="-1" strike="noStrike">
                <a:solidFill>
                  <a:srgbClr val="000000"/>
                </a:solidFill>
                <a:latin typeface="Arial"/>
              </a:rPr>
              <a:t>by setting dates by which data should be reviewed in relation to key programmatic questions and upcom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Encourages greater use of existing information </a:t>
            </a:r>
            <a:r>
              <a:rPr b="0" lang="en-US" sz="1200" spc="-1" strike="noStrike">
                <a:solidFill>
                  <a:srgbClr val="000000"/>
                </a:solidFill>
                <a:latin typeface="Arial"/>
              </a:rPr>
              <a:t>by</a:t>
            </a:r>
            <a:r>
              <a:rPr b="1" lang="en-US" sz="1200" spc="-1" strike="noStrike">
                <a:solidFill>
                  <a:srgbClr val="000000"/>
                </a:solidFill>
                <a:latin typeface="Arial"/>
              </a:rPr>
              <a:t> </a:t>
            </a:r>
            <a:r>
              <a:rPr b="0" lang="en-US" sz="1200" spc="-1" strike="noStrike">
                <a:solidFill>
                  <a:srgbClr val="000000"/>
                </a:solidFill>
                <a:latin typeface="Arial"/>
              </a:rPr>
              <a:t>identifying existing data resources; then the Framework uses that information to answer necessary questions that will support evidence-based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it provides you with a data-informed decision-making ‘record’ so that you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Monitors the use of information in decision making </a:t>
            </a:r>
            <a:r>
              <a:rPr b="0" lang="en-US" sz="1200" spc="-1" strike="noStrike">
                <a:solidFill>
                  <a:srgbClr val="000000"/>
                </a:solidFill>
                <a:latin typeface="Arial"/>
              </a:rPr>
              <a:t>– Provides</a:t>
            </a:r>
            <a:r>
              <a:rPr b="1" lang="en-US" sz="1200" spc="-1" strike="noStrike">
                <a:solidFill>
                  <a:srgbClr val="000000"/>
                </a:solidFill>
                <a:latin typeface="Arial"/>
              </a:rPr>
              <a:t> </a:t>
            </a:r>
            <a:r>
              <a:rPr b="0" lang="en-US" sz="1200" spc="-1" strike="noStrike">
                <a:solidFill>
                  <a:srgbClr val="000000"/>
                </a:solidFill>
                <a:latin typeface="Arial"/>
              </a:rPr>
              <a:t>a timeline for conducting analyses and making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9BB3-FC5B-4B7C-A64D-DEE4A3C4AA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me to the end of Module 6 on making data-informed decisions. The key messages of this module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3A947-8FE4-4BCD-923F-7EFCDC121E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w going to practice applying the Framework for Linking Data with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4BAA-D1C5-4453-9794-1CE7530F8A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ompleted the exercise, each break-out group will share its experiences with the larger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8358-24FF-4984-A628-5774C9CDCE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EF3C-E1FE-4EB6-9C14-B861521F90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3625-D31A-4D5F-A18F-8DFBE7B00D88}"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begin talking making data-informed decisions, let’s review why this is important to the work of a prov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ata-informed decisions helps us to determine whether a program is being true to its stated goals and objectives. For in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help us evaluate whether our programs are having their desired outcomes. If we want to know how a program is performing, we might assess it against targets that have been set for specific indicators by the program, funding agency, or government. For example, we might assess if a breastfeeding program is reaching its goals in providing counseling to pregnant women during ANC; we also could look at the percentage of children under six months who are exclusively breast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lso help us to inform facility-level policies and other programmatic decisions. However, for M&amp;E to have this desired impact, M&amp;E data and information must be used strategically by programs, service delivery organizations, policymakers, and other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question is – how do you do it? How do you ensure that data use becomes part and parcel of your work as a nurse? The answer is to PLAN for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Evaluation has developed a simple tool that assists users in identifying decisions and programmatic questions they face in day-to-day work. These may be decisions and questions arou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gram monitoring, planning, and impro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vocacy nee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gram management or operations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 helps you to link the decision and questions with data and then creates a time-bound plan for decision ma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ritical to involve others in your work – the best decisions are made with stakeholder involvement. You need to understand:</a:t>
            </a:r>
            <a:endParaRPr b="0" lang="en-US" sz="1200" spc="-1" strike="noStrike">
              <a:solidFill>
                <a:srgbClr val="000000"/>
              </a:solidFill>
              <a:latin typeface="Arial"/>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others make, information they need, and the best way to present that information</a:t>
            </a:r>
            <a:endParaRPr b="0" lang="en-US" sz="1200" spc="-1" strike="noStrike">
              <a:solidFill>
                <a:srgbClr val="000000"/>
              </a:solidFill>
              <a:latin typeface="Arial"/>
            </a:endParaRPr>
          </a:p>
          <a:p>
            <a:pPr lvl="1" marL="5716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ext few slides, I will orient you to the Framework for Linking Data with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B917-37D5-4FA6-AED2-BFAD3A55B9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mework assists you to ident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8802-7659-469A-8C69-CBCB5DDC45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608A-AF58-47C5-8DE0-A6000ADA49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look at the Framework.</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3C52-3CCF-46B4-A800-A09E0558B3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template for the Framework for Linking Data with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st a few minutes, we will practice using the Framework. Before we do that, I’d like to spend a few minutes orienting you how to use it.  </a:t>
            </a: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C974-0359-4164-B55A-FBFA4551F7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talk about the first two columns – the Decision/Action and the Program/Policy colum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you put in the first column – the Decision/Action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In slides 9, 15, 17, 19, and 21, it is important to orient participants to which columns you are explaining. Red circles are animated into this presentation to assist with this. Click the mouse and the red circle will appear. </a:t>
            </a: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8498C-D964-40ED-926A-C7A0DB4CB5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24968FE-72DC-4489-8FD2-7797994495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93F9BD7-3B11-401B-AB7A-C93D1947E1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C11B106-BA54-4483-ADAC-5A4CC0507B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1A9464D-1D24-4B29-A391-98E3CE8552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5E130FE-B10F-4819-9BA8-002085A976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1391984-A52D-4449-8928-E696C1982CE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91F0A47-4A15-4FBF-AB36-55B1213925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1AAA19E-5EBD-47A3-B422-843F3D8FC4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00EF05B-8CAA-4F42-8008-1F87FAC990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EBACC04-9A34-4D14-BC89-1095C04260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7650BAD-C5B0-4A4D-8752-157009F8EC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9897590-EF3F-4113-81E9-00AF9FE44D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81D4-FB91-4917-BB4E-7BCD6EC87254}"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Picture 5" descr="Vertical_RGB_600"/>
          <p:cNvPicPr/>
          <p:nvPr/>
        </p:nvPicPr>
        <p:blipFill>
          <a:blip r:embed="rId2"/>
          <a:stretch/>
        </p:blipFill>
        <p:spPr>
          <a:xfrm>
            <a:off x="2600280" y="5010120"/>
            <a:ext cx="1673280" cy="1371600"/>
          </a:xfrm>
          <a:prstGeom prst="rect">
            <a:avLst/>
          </a:prstGeom>
          <a:ln w="0">
            <a:noFill/>
          </a:ln>
        </p:spPr>
      </p:pic>
      <p:pic>
        <p:nvPicPr>
          <p:cNvPr id="82" name="Picture 6" descr="logo_2004"/>
          <p:cNvPicPr/>
          <p:nvPr/>
        </p:nvPicPr>
        <p:blipFill>
          <a:blip r:embed="rId3"/>
          <a:stretch/>
        </p:blipFill>
        <p:spPr>
          <a:xfrm>
            <a:off x="4809960" y="5010120"/>
            <a:ext cx="1447920" cy="1371600"/>
          </a:xfrm>
          <a:prstGeom prst="rect">
            <a:avLst/>
          </a:prstGeom>
          <a:ln w="0">
            <a:noFill/>
          </a:ln>
        </p:spPr>
      </p:pic>
      <p:sp>
        <p:nvSpPr>
          <p:cNvPr id="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ule 6:  Making data-informed decisions </a:t>
            </a:r>
            <a:endParaRPr b="1" lang="en-US" sz="4000" spc="-1" strike="noStrike">
              <a:solidFill>
                <a:srgbClr val="ffffff"/>
              </a:solidFill>
              <a:latin typeface="Arial"/>
            </a:endParaRPr>
          </a:p>
        </p:txBody>
      </p:sp>
      <p:sp>
        <p:nvSpPr>
          <p:cNvPr id="129" name="PlaceHolder 2"/>
          <p:cNvSpPr>
            <a:spLocks noGrp="1"/>
          </p:cNvSpPr>
          <p:nvPr>
            <p:ph type="subTitle"/>
          </p:nvPr>
        </p:nvSpPr>
        <p:spPr>
          <a:xfrm>
            <a:off x="1371600" y="3076560"/>
            <a:ext cx="6400800" cy="1752480"/>
          </a:xfrm>
          <a:prstGeom prst="rect">
            <a:avLst/>
          </a:prstGeom>
          <a:noFill/>
          <a:ln w="0">
            <a:noFill/>
          </a:ln>
        </p:spPr>
        <p:txBody>
          <a:bodyPr lIns="0" rIns="0" tIns="0" bIns="0" anchor="t">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Are Decisions?</a:t>
            </a:r>
            <a:endParaRPr b="1" lang="en-US" sz="3600" spc="-1" strike="noStrike">
              <a:solidFill>
                <a:srgbClr val="ffffff"/>
              </a:solidFill>
              <a:latin typeface="Arial"/>
            </a:endParaRPr>
          </a:p>
        </p:txBody>
      </p:sp>
      <p:sp>
        <p:nvSpPr>
          <p:cNvPr id="147"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oices that lead to ac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decisions are informed by </a:t>
            </a:r>
            <a:r>
              <a:rPr b="0" lang="en-US" sz="2600" spc="-1" strike="noStrike">
                <a:solidFill>
                  <a:srgbClr val="ffff33"/>
                </a:solidFill>
                <a:latin typeface="Arial"/>
              </a:rPr>
              <a:t>ques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questions should be based on dat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6000" y="296640"/>
            <a:ext cx="829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cisions</a:t>
            </a:r>
            <a:endParaRPr b="1" lang="en-US" sz="3600" spc="-1" strike="noStrike">
              <a:solidFill>
                <a:srgbClr val="ffffff"/>
              </a:solidFill>
              <a:latin typeface="Arial"/>
            </a:endParaRPr>
          </a:p>
        </p:txBody>
      </p:sp>
      <p:sp>
        <p:nvSpPr>
          <p:cNvPr id="149" name="PlaceHolder 2"/>
          <p:cNvSpPr>
            <a:spLocks noGrp="1"/>
          </p:cNvSpPr>
          <p:nvPr>
            <p:ph/>
          </p:nvPr>
        </p:nvSpPr>
        <p:spPr>
          <a:xfrm>
            <a:off x="534600" y="1325160"/>
            <a:ext cx="7675560" cy="50324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ion of resources across IPs/ states / districts/faciliti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ise OVC program approaches to emphasize fostering and adop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and institute workplace policies on HIV/AIDS in all institutions in state X</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re and allocate staff to facilities</a:t>
            </a:r>
            <a:endParaRPr b="0" lang="en-US" sz="26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cision or Question</a:t>
            </a:r>
            <a:endParaRPr b="1" lang="en-US" sz="3600" spc="-1" strike="noStrike">
              <a:solidFill>
                <a:srgbClr val="ffffff"/>
              </a:solidFill>
              <a:latin typeface="Arial"/>
            </a:endParaRPr>
          </a:p>
        </p:txBody>
      </p:sp>
      <p:pic>
        <p:nvPicPr>
          <p:cNvPr id="151" name="Picture 2" descr="C:\Users\TNutley\AppData\Local\Microsoft\Windows\Temporary Internet Files\Content.IE5\NID92NCW\MC900383550[1].wmf"/>
          <p:cNvPicPr/>
          <p:nvPr/>
        </p:nvPicPr>
        <p:blipFill>
          <a:blip r:embed="rId1"/>
          <a:stretch/>
        </p:blipFill>
        <p:spPr>
          <a:xfrm>
            <a:off x="4094280" y="2249640"/>
            <a:ext cx="1557360" cy="221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6000" y="296640"/>
            <a:ext cx="829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matic questions</a:t>
            </a:r>
            <a:endParaRPr b="1" lang="en-US" sz="3600" spc="-1" strike="noStrike">
              <a:solidFill>
                <a:srgbClr val="ffffff"/>
              </a:solidFill>
              <a:latin typeface="Arial"/>
            </a:endParaRPr>
          </a:p>
        </p:txBody>
      </p:sp>
      <p:sp>
        <p:nvSpPr>
          <p:cNvPr id="153" name="PlaceHolder 2"/>
          <p:cNvSpPr>
            <a:spLocks noGrp="1"/>
          </p:cNvSpPr>
          <p:nvPr>
            <p:ph/>
          </p:nvPr>
        </p:nvSpPr>
        <p:spPr>
          <a:xfrm>
            <a:off x="534600" y="1325520"/>
            <a:ext cx="7675560" cy="4394160"/>
          </a:xfrm>
          <a:prstGeom prst="rect">
            <a:avLst/>
          </a:prstGeom>
          <a:noFill/>
          <a:ln w="0">
            <a:noFill/>
          </a:ln>
        </p:spPr>
        <p:txBody>
          <a:bodyPr anchor="t">
            <a:normAutofit/>
          </a:bodyPr>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ercentage of HIV+ pregnant women in care are actually delivering in health facilities?</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ercentage of clients starting ART are lost to follow-up?</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 number of family planning clients decreasing?  </a:t>
            </a: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ercentage of pregnant patients who are HIV+ are actually receiving ART?</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155" name=""/>
          <p:cNvGraphicFramePr/>
          <p:nvPr/>
        </p:nvGraphicFramePr>
        <p:xfrm>
          <a:off x="297000" y="1550880"/>
          <a:ext cx="8658000" cy="5396040"/>
        </p:xfrm>
        <a:graphic>
          <a:graphicData uri="http://schemas.openxmlformats.org/drawingml/2006/table">
            <a:tbl>
              <a:tblPr/>
              <a:tblGrid>
                <a:gridCol w="1220760"/>
                <a:gridCol w="1220760"/>
                <a:gridCol w="1220760"/>
                <a:gridCol w="1220760"/>
                <a:gridCol w="1103400"/>
                <a:gridCol w="1326960"/>
                <a:gridCol w="13446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
        <p:nvSpPr>
          <p:cNvPr id="156" name="Oval 4"/>
          <p:cNvSpPr/>
          <p:nvPr/>
        </p:nvSpPr>
        <p:spPr>
          <a:xfrm>
            <a:off x="2496960" y="1212840"/>
            <a:ext cx="1530360" cy="288432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158" name=""/>
          <p:cNvGraphicFramePr/>
          <p:nvPr/>
        </p:nvGraphicFramePr>
        <p:xfrm>
          <a:off x="297000" y="1550880"/>
          <a:ext cx="8645400" cy="5396040"/>
        </p:xfrm>
        <a:graphic>
          <a:graphicData uri="http://schemas.openxmlformats.org/drawingml/2006/table">
            <a:tbl>
              <a:tblPr/>
              <a:tblGrid>
                <a:gridCol w="1220760"/>
                <a:gridCol w="1220760"/>
                <a:gridCol w="1288800"/>
                <a:gridCol w="1154160"/>
                <a:gridCol w="1101960"/>
                <a:gridCol w="1368360"/>
                <a:gridCol w="12906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160" name=""/>
          <p:cNvGraphicFramePr/>
          <p:nvPr/>
        </p:nvGraphicFramePr>
        <p:xfrm>
          <a:off x="297000" y="1550880"/>
          <a:ext cx="8618400" cy="5396040"/>
        </p:xfrm>
        <a:graphic>
          <a:graphicData uri="http://schemas.openxmlformats.org/drawingml/2006/table">
            <a:tbl>
              <a:tblPr/>
              <a:tblGrid>
                <a:gridCol w="1220760"/>
                <a:gridCol w="1220760"/>
                <a:gridCol w="1288800"/>
                <a:gridCol w="1154160"/>
                <a:gridCol w="1101960"/>
                <a:gridCol w="1341360"/>
                <a:gridCol w="12906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
        <p:nvSpPr>
          <p:cNvPr id="161" name="Oval 4"/>
          <p:cNvSpPr/>
          <p:nvPr/>
        </p:nvSpPr>
        <p:spPr>
          <a:xfrm>
            <a:off x="3692520" y="1055520"/>
            <a:ext cx="2849400" cy="288324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163" name=""/>
          <p:cNvGraphicFramePr/>
          <p:nvPr/>
        </p:nvGraphicFramePr>
        <p:xfrm>
          <a:off x="297000" y="1550880"/>
          <a:ext cx="8645400" cy="5396040"/>
        </p:xfrm>
        <a:graphic>
          <a:graphicData uri="http://schemas.openxmlformats.org/drawingml/2006/table">
            <a:tbl>
              <a:tblPr/>
              <a:tblGrid>
                <a:gridCol w="1220760"/>
                <a:gridCol w="1220760"/>
                <a:gridCol w="1288800"/>
                <a:gridCol w="1216080"/>
                <a:gridCol w="1111320"/>
                <a:gridCol w="1336680"/>
                <a:gridCol w="12510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165" name=""/>
          <p:cNvGraphicFramePr/>
          <p:nvPr/>
        </p:nvGraphicFramePr>
        <p:xfrm>
          <a:off x="297000" y="1550880"/>
          <a:ext cx="8650080" cy="5396040"/>
        </p:xfrm>
        <a:graphic>
          <a:graphicData uri="http://schemas.openxmlformats.org/drawingml/2006/table">
            <a:tbl>
              <a:tblPr/>
              <a:tblGrid>
                <a:gridCol w="1220760"/>
                <a:gridCol w="1220760"/>
                <a:gridCol w="1288800"/>
                <a:gridCol w="1216080"/>
                <a:gridCol w="1133640"/>
                <a:gridCol w="1320840"/>
                <a:gridCol w="12492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
        <p:nvSpPr>
          <p:cNvPr id="166" name="Oval 4"/>
          <p:cNvSpPr/>
          <p:nvPr/>
        </p:nvSpPr>
        <p:spPr>
          <a:xfrm>
            <a:off x="6119640" y="966960"/>
            <a:ext cx="1528920" cy="288432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168" name=""/>
          <p:cNvGraphicFramePr/>
          <p:nvPr/>
        </p:nvGraphicFramePr>
        <p:xfrm>
          <a:off x="297000" y="1550880"/>
          <a:ext cx="8673840" cy="5396040"/>
        </p:xfrm>
        <a:graphic>
          <a:graphicData uri="http://schemas.openxmlformats.org/drawingml/2006/table">
            <a:tbl>
              <a:tblPr/>
              <a:tblGrid>
                <a:gridCol w="1220760"/>
                <a:gridCol w="1220760"/>
                <a:gridCol w="1288800"/>
                <a:gridCol w="1170000"/>
                <a:gridCol w="1135080"/>
                <a:gridCol w="1376640"/>
                <a:gridCol w="12618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 201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March 20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June 2011, </a:t>
                      </a:r>
                      <a:r>
                        <a:rPr b="1" lang="en-US" sz="1800" spc="-1" strike="noStrike">
                          <a:solidFill>
                            <a:srgbClr val="005a58"/>
                          </a:solidFill>
                          <a:latin typeface="Arial"/>
                        </a:rPr>
                        <a:t>September 2011</a:t>
                      </a:r>
                      <a:r>
                        <a:rPr b="0" lang="en-US" sz="1800" spc="-1" strike="noStrike">
                          <a:solidFill>
                            <a:srgbClr val="005a58"/>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ember 201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dule 6: Learning objectives</a:t>
            </a:r>
            <a:endParaRPr b="1" lang="en-US" sz="3600" spc="-1" strike="noStrike">
              <a:solidFill>
                <a:srgbClr val="ffffff"/>
              </a:solidFill>
              <a:latin typeface="Arial"/>
            </a:endParaRPr>
          </a:p>
        </p:txBody>
      </p:sp>
      <p:sp>
        <p:nvSpPr>
          <p:cNvPr id="131"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iew role of M&amp;E in program improve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y priority decisions and programmatic ques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nk decisions/questions with potential data sourc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a time-bound plan for using data in decision making</a:t>
            </a:r>
            <a:endParaRPr b="0" lang="en-US" sz="2600" spc="-1" strike="noStrike">
              <a:solidFill>
                <a:srgbClr val="ffffff"/>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170" name=""/>
          <p:cNvGraphicFramePr/>
          <p:nvPr/>
        </p:nvGraphicFramePr>
        <p:xfrm>
          <a:off x="297000" y="1550880"/>
          <a:ext cx="8618400" cy="5396040"/>
        </p:xfrm>
        <a:graphic>
          <a:graphicData uri="http://schemas.openxmlformats.org/drawingml/2006/table">
            <a:tbl>
              <a:tblPr/>
              <a:tblGrid>
                <a:gridCol w="1220760"/>
                <a:gridCol w="1220760"/>
                <a:gridCol w="1288800"/>
                <a:gridCol w="1181160"/>
                <a:gridCol w="1104840"/>
                <a:gridCol w="1395720"/>
                <a:gridCol w="120636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cation Chann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br>
                        <a:rPr sz="1800"/>
                      </a:b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 201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March 20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June 2011, </a:t>
                      </a:r>
                      <a:r>
                        <a:rPr b="1" lang="en-US" sz="1800" spc="-1" strike="noStrike">
                          <a:solidFill>
                            <a:srgbClr val="005a58"/>
                          </a:solidFill>
                          <a:latin typeface="Arial"/>
                        </a:rPr>
                        <a:t>September 2011</a:t>
                      </a:r>
                      <a:r>
                        <a:rPr b="0" lang="en-US" sz="1800" spc="-1" strike="noStrike">
                          <a:solidFill>
                            <a:srgbClr val="005a58"/>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ember 20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
        <p:nvSpPr>
          <p:cNvPr id="171" name="Oval 4"/>
          <p:cNvSpPr/>
          <p:nvPr/>
        </p:nvSpPr>
        <p:spPr>
          <a:xfrm>
            <a:off x="7535880" y="966960"/>
            <a:ext cx="1530360" cy="288432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173" name=""/>
          <p:cNvGraphicFramePr/>
          <p:nvPr/>
        </p:nvGraphicFramePr>
        <p:xfrm>
          <a:off x="239760" y="1550880"/>
          <a:ext cx="8683560" cy="5396040"/>
        </p:xfrm>
        <a:graphic>
          <a:graphicData uri="http://schemas.openxmlformats.org/drawingml/2006/table">
            <a:tbl>
              <a:tblPr/>
              <a:tblGrid>
                <a:gridCol w="1220760"/>
                <a:gridCol w="1220760"/>
                <a:gridCol w="1289160"/>
                <a:gridCol w="1179360"/>
                <a:gridCol w="1089000"/>
                <a:gridCol w="1435320"/>
                <a:gridCol w="124920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br>
                        <a:rPr sz="1800"/>
                      </a:b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 201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March 20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June 2011, </a:t>
                      </a:r>
                      <a:r>
                        <a:rPr b="1" lang="en-US" sz="1800" spc="-1" strike="noStrike">
                          <a:solidFill>
                            <a:srgbClr val="005a58"/>
                          </a:solidFill>
                          <a:latin typeface="Arial"/>
                        </a:rPr>
                        <a:t>September 2011</a:t>
                      </a:r>
                      <a:r>
                        <a:rPr b="0" lang="en-US" sz="1800" spc="-1" strike="noStrike">
                          <a:solidFill>
                            <a:srgbClr val="005a58"/>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ember 20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hort summary presented to facility manager at weekly clinic meet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175" name=""/>
          <p:cNvGraphicFramePr/>
          <p:nvPr/>
        </p:nvGraphicFramePr>
        <p:xfrm>
          <a:off x="250920" y="1550880"/>
          <a:ext cx="8672400" cy="5396040"/>
        </p:xfrm>
        <a:graphic>
          <a:graphicData uri="http://schemas.openxmlformats.org/drawingml/2006/table">
            <a:tbl>
              <a:tblPr/>
              <a:tblGrid>
                <a:gridCol w="1220760"/>
                <a:gridCol w="1220760"/>
                <a:gridCol w="1289160"/>
                <a:gridCol w="1170000"/>
                <a:gridCol w="1110960"/>
                <a:gridCol w="1376640"/>
                <a:gridCol w="1284120"/>
              </a:tblGrid>
              <a:tr h="173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 (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cation Chann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a:t>
                      </a:r>
                      <a:br>
                        <a:rPr sz="1800"/>
                      </a:br>
                      <a:r>
                        <a:rPr b="1" lang="en-US" sz="1800" spc="-1" strike="noStrike">
                          <a:solidFill>
                            <a:srgbClr val="ffffff"/>
                          </a:solidFill>
                          <a:latin typeface="Arial"/>
                        </a:rPr>
                        <a:t>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657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Hire more PMTCT counsel-or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re we reaching testing targets in PMT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o we have sufficient test ki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What is nu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ratio?</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M – Head of Regional Health Committee OS – Other providers, Division of Clinical Train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11 form indicators K41, B7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B 9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ervice statistics Logistics manage-ment system</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 201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March 20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June 2011, </a:t>
                      </a:r>
                      <a:r>
                        <a:rPr b="1" lang="en-US" sz="1800" spc="-1" strike="noStrike">
                          <a:solidFill>
                            <a:srgbClr val="005a58"/>
                          </a:solidFill>
                          <a:latin typeface="Arial"/>
                        </a:rPr>
                        <a:t>September 2011</a:t>
                      </a:r>
                      <a:r>
                        <a:rPr b="0" lang="en-US" sz="1800" spc="-1" strike="noStrike">
                          <a:solidFill>
                            <a:srgbClr val="005a58"/>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ecember 20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Short summary presented to facility manager at weekly clinic meeting</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bl>
          </a:graphicData>
        </a:graphic>
      </p:graphicFrame>
      <p:sp>
        <p:nvSpPr>
          <p:cNvPr id="176" name="Oval 4"/>
          <p:cNvSpPr/>
          <p:nvPr/>
        </p:nvSpPr>
        <p:spPr>
          <a:xfrm>
            <a:off x="0" y="1249200"/>
            <a:ext cx="1530360" cy="162900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sp>
        <p:nvSpPr>
          <p:cNvPr id="178" name=""/>
          <p:cNvSpPr txBox="1"/>
          <p:nvPr/>
        </p:nvSpPr>
        <p:spPr>
          <a:xfrm>
            <a:off x="923760" y="1773360"/>
            <a:ext cx="7763040" cy="3962160"/>
          </a:xfrm>
          <a:prstGeom prst="rect">
            <a:avLst/>
          </a:prstGeom>
          <a:noFill/>
          <a:ln w="0">
            <a:noFill/>
          </a:ln>
        </p:spPr>
        <p:txBody>
          <a:bodyPr anchor="t">
            <a:normAutofit fontScale="96000"/>
          </a:bodyPr>
          <a:p>
            <a:pPr marL="329040" indent="-3290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s a time-bound plan for information-informed decision making</a:t>
            </a:r>
            <a:endParaRPr b="0" lang="en-US" sz="2800" spc="-1" strike="noStrike">
              <a:solidFill>
                <a:srgbClr val="ffffff"/>
              </a:solidFill>
              <a:latin typeface="Arial"/>
            </a:endParaRPr>
          </a:p>
          <a:p>
            <a:pPr marL="329040" indent="-3290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es greater use of existing information</a:t>
            </a:r>
            <a:endParaRPr b="0" lang="en-US" sz="2800" spc="-1" strike="noStrike">
              <a:solidFill>
                <a:srgbClr val="ffffff"/>
              </a:solidFill>
              <a:latin typeface="Arial"/>
            </a:endParaRPr>
          </a:p>
          <a:p>
            <a:pPr marL="329040" indent="-3290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s the use of information in decision making</a:t>
            </a:r>
            <a:endParaRPr b="0" lang="en-US" sz="2800" spc="-1" strike="noStrike">
              <a:solidFill>
                <a:srgbClr val="ffffff"/>
              </a:solidFill>
              <a:latin typeface="Arial"/>
            </a:endParaRPr>
          </a:p>
          <a:p>
            <a:pPr marL="329040" indent="-32904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29040" indent="-32904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29040" indent="-3290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ilding data use into your work takes planning and dedicated tim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Framework for Linking Data with Action can be used to create an actionable plan for using data in decision mak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oup Work 3 – Instructions</a:t>
            </a:r>
            <a:endParaRPr b="1" lang="en-US" sz="3600" spc="-1" strike="noStrike">
              <a:solidFill>
                <a:srgbClr val="ffffff"/>
              </a:solidFill>
              <a:latin typeface="Arial"/>
            </a:endParaRPr>
          </a:p>
        </p:txBody>
      </p:sp>
      <p:sp>
        <p:nvSpPr>
          <p:cNvPr id="18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a note taker</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 flip chart paper, create the Framework tabl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ainstorm three decisions or questions in columns 1 &amp; 2</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lete the remaining colum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 1 hou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oup Work 3 – Report Back</a:t>
            </a:r>
            <a:endParaRPr b="1" lang="en-US" sz="3600" spc="-1" strike="noStrike">
              <a:solidFill>
                <a:srgbClr val="ffffff"/>
              </a:solidFill>
              <a:latin typeface="Arial"/>
            </a:endParaRPr>
          </a:p>
        </p:txBody>
      </p:sp>
      <p:sp>
        <p:nvSpPr>
          <p:cNvPr id="184" name=""/>
          <p:cNvSpPr txBox="1"/>
          <p:nvPr/>
        </p:nvSpPr>
        <p:spPr>
          <a:xfrm>
            <a:off x="923760" y="1599840"/>
            <a:ext cx="7763040" cy="42908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group will have 10 minutes to present its completed Framework</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oup discussion – Are there other data sources that might have been used in this decision? Were there other stakeholders that should have been considered? (10 minu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5080" y="375840"/>
            <a:ext cx="853596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ing data assists us to</a:t>
            </a:r>
            <a:endParaRPr b="1" lang="en-US" sz="3600" spc="-1" strike="noStrike">
              <a:solidFill>
                <a:srgbClr val="ffffff"/>
              </a:solidFill>
              <a:latin typeface="Arial"/>
            </a:endParaRPr>
          </a:p>
        </p:txBody>
      </p:sp>
      <p:sp>
        <p:nvSpPr>
          <p:cNvPr id="133" name="PlaceHolder 2"/>
          <p:cNvSpPr>
            <a:spLocks noGrp="1"/>
          </p:cNvSpPr>
          <p:nvPr>
            <p:ph/>
          </p:nvPr>
        </p:nvSpPr>
        <p:spPr>
          <a:xfrm>
            <a:off x="639720" y="1454040"/>
            <a:ext cx="7848720" cy="4935600"/>
          </a:xfrm>
          <a:prstGeom prst="rect">
            <a:avLst/>
          </a:prstGeom>
          <a:noFill/>
          <a:ln w="0">
            <a:noFill/>
          </a:ln>
        </p:spPr>
        <p:txBody>
          <a:bodyPr anchor="t">
            <a:normAutofit/>
          </a:bodyPr>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700"/>
              </a:spcBef>
              <a:spcAft>
                <a:spcPts val="876"/>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whether a plan or program is on schedule with planned activities</a:t>
            </a:r>
            <a:endParaRPr b="0" lang="en-US" sz="2800" spc="-1" strike="noStrike">
              <a:solidFill>
                <a:srgbClr val="ffffff"/>
              </a:solidFill>
              <a:latin typeface="Arial"/>
            </a:endParaRPr>
          </a:p>
          <a:p>
            <a:pPr marL="343080" indent="-343080">
              <a:lnSpc>
                <a:spcPct val="90000"/>
              </a:lnSpc>
              <a:spcBef>
                <a:spcPts val="700"/>
              </a:spcBef>
              <a:spcAft>
                <a:spcPts val="876"/>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problems and successes</a:t>
            </a:r>
            <a:endParaRPr b="0" lang="en-US" sz="2800" spc="-1" strike="noStrike">
              <a:solidFill>
                <a:srgbClr val="ffffff"/>
              </a:solidFill>
              <a:latin typeface="Arial"/>
            </a:endParaRPr>
          </a:p>
          <a:p>
            <a:pPr marL="343080" indent="-343080">
              <a:lnSpc>
                <a:spcPct val="90000"/>
              </a:lnSpc>
              <a:spcBef>
                <a:spcPts val="700"/>
              </a:spcBef>
              <a:spcAft>
                <a:spcPts val="70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 clinic policy, planning, or program decision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uilding data use into your work</a:t>
            </a:r>
            <a:endParaRPr b="1" lang="en-US" sz="3600" spc="-1" strike="noStrike">
              <a:solidFill>
                <a:srgbClr val="ffffff"/>
              </a:solidFill>
              <a:latin typeface="Arial"/>
            </a:endParaRPr>
          </a:p>
        </p:txBody>
      </p:sp>
      <p:sp>
        <p:nvSpPr>
          <p:cNvPr id="135"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N   PLAN   PLAN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ularly review your data – schedule tim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Framework for Linking Data with Action</a:t>
            </a:r>
            <a:endParaRPr b="0" lang="en-US" sz="2600" spc="-1" strike="noStrike">
              <a:solidFill>
                <a:srgbClr val="ffffff"/>
              </a:solidFill>
              <a:latin typeface="Arial"/>
            </a:endParaRPr>
          </a:p>
          <a:p>
            <a:pPr marL="343080" indent="-343080">
              <a:lnSpc>
                <a:spcPct val="90000"/>
              </a:lnSpc>
              <a:spcBef>
                <a:spcPts val="975"/>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gage in dialogue with stakeholders to fully understand the </a:t>
            </a:r>
            <a:endParaRPr b="0" lang="en-US" sz="2600" spc="-1" strike="noStrike">
              <a:solidFill>
                <a:srgbClr val="ffffff"/>
              </a:solidFill>
              <a:latin typeface="Arial"/>
            </a:endParaRPr>
          </a:p>
          <a:p>
            <a:pPr lvl="1" marL="399960">
              <a:lnSpc>
                <a:spcPct val="90000"/>
              </a:lnSpc>
              <a:spcBef>
                <a:spcPts val="1349"/>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cisions they make, information they need, &amp; best    way to present that information</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 presetSubtype="2">
                                  <p:stCondLst>
                                    <p:cond delay="0"/>
                                  </p:stCondLst>
                                  <p:childTnLst>
                                    <p:animClr clrSpc="rgb">
                                      <p:cBhvr>
                                        <p:cTn id="6" dur="2000" fill="hold"/>
                                        <p:tgtEl>
                                          <p:spTgt spid="135">
                                            <p:txEl>
                                              <p:pRg st="2" end="2"/>
                                            </p:txEl>
                                          </p:spTgt>
                                        </p:tgtEl>
                                        <p:attrNameLst>
                                          <p:attrName>style.color</p:attrName>
                                        </p:attrNameLst>
                                      </p:cBhvr>
                                      <p:to>
                                        <a:srgbClr val="ffc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lements of the Framework</a:t>
            </a:r>
            <a:endParaRPr b="1" lang="en-US" sz="3600" spc="-1" strike="noStrike">
              <a:solidFill>
                <a:srgbClr val="ffffff"/>
              </a:solidFill>
              <a:latin typeface="Arial"/>
            </a:endParaRPr>
          </a:p>
        </p:txBody>
      </p:sp>
      <p:sp>
        <p:nvSpPr>
          <p:cNvPr id="137" name=""/>
          <p:cNvSpPr txBox="1"/>
          <p:nvPr/>
        </p:nvSpPr>
        <p:spPr>
          <a:xfrm>
            <a:off x="593640" y="1503000"/>
            <a:ext cx="818208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 makers and stakeholders with potential interest in your data</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s / actions the stakeholder makes (possible uses of data)</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to which the stakeholder requires answers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decision will be made</a:t>
            </a:r>
            <a:endParaRPr b="0" lang="en-US" sz="2800" spc="-1" strike="noStrike">
              <a:solidFill>
                <a:srgbClr val="ffffff"/>
              </a:solidFill>
              <a:latin typeface="Arial"/>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lements of the Framework (cont’d)</a:t>
            </a:r>
            <a:endParaRPr b="1" lang="en-US" sz="3600" spc="-1" strike="noStrike">
              <a:solidFill>
                <a:srgbClr val="ffffff"/>
              </a:solidFill>
              <a:latin typeface="Arial"/>
            </a:endParaRPr>
          </a:p>
        </p:txBody>
      </p:sp>
      <p:sp>
        <p:nvSpPr>
          <p:cNvPr id="139" name=""/>
          <p:cNvSpPr txBox="1"/>
          <p:nvPr/>
        </p:nvSpPr>
        <p:spPr>
          <a:xfrm>
            <a:off x="577440" y="1471680"/>
            <a:ext cx="8180280" cy="396216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ors and/or data of interest (to respond to stakeholder need)</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rce of data</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ata will be presented (what types of analyses, graphs, formats)?</a:t>
            </a:r>
            <a:endParaRPr b="0" lang="en-US" sz="2800" spc="-1" strike="noStrike">
              <a:solidFill>
                <a:srgbClr val="ffffff"/>
              </a:solidFill>
              <a:latin typeface="Arial"/>
            </a:endParaRPr>
          </a:p>
          <a:p>
            <a:pPr marL="343080" indent="-343080">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57160" y="172044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a:t>
            </a:r>
            <a:br>
              <a:rPr sz="3600"/>
            </a:br>
            <a:r>
              <a:rPr b="1" lang="en-US" sz="3600" spc="-1" strike="noStrike">
                <a:solidFill>
                  <a:srgbClr val="ffffff"/>
                </a:solidFill>
                <a:latin typeface="Arial"/>
              </a:rPr>
              <a:t>with Action</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142" name=""/>
          <p:cNvGraphicFramePr/>
          <p:nvPr/>
        </p:nvGraphicFramePr>
        <p:xfrm>
          <a:off x="244440" y="1673280"/>
          <a:ext cx="8545680" cy="4151160"/>
        </p:xfrm>
        <a:graphic>
          <a:graphicData uri="http://schemas.openxmlformats.org/drawingml/2006/table">
            <a:tbl>
              <a:tblPr/>
              <a:tblGrid>
                <a:gridCol w="1143000"/>
                <a:gridCol w="1247760"/>
                <a:gridCol w="1381320"/>
                <a:gridCol w="1168200"/>
                <a:gridCol w="974880"/>
                <a:gridCol w="1357200"/>
                <a:gridCol w="1273320"/>
              </a:tblGrid>
              <a:tr h="1738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 Other Stakehold-ers (O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 (Decis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51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486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54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496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amework for Linking Data with Action</a:t>
            </a:r>
            <a:endParaRPr b="1" lang="en-US" sz="3600" spc="-1" strike="noStrike">
              <a:solidFill>
                <a:srgbClr val="ffffff"/>
              </a:solidFill>
              <a:latin typeface="Arial"/>
            </a:endParaRPr>
          </a:p>
        </p:txBody>
      </p:sp>
      <p:graphicFrame>
        <p:nvGraphicFramePr>
          <p:cNvPr id="144" name=""/>
          <p:cNvGraphicFramePr/>
          <p:nvPr/>
        </p:nvGraphicFramePr>
        <p:xfrm>
          <a:off x="244440" y="1673280"/>
          <a:ext cx="8643960" cy="3865680"/>
        </p:xfrm>
        <a:graphic>
          <a:graphicData uri="http://schemas.openxmlformats.org/drawingml/2006/table">
            <a:tbl>
              <a:tblPr/>
              <a:tblGrid>
                <a:gridCol w="1220760"/>
                <a:gridCol w="1184400"/>
                <a:gridCol w="1371600"/>
                <a:gridCol w="1155600"/>
                <a:gridCol w="1119240"/>
                <a:gridCol w="1355760"/>
                <a:gridCol w="1236600"/>
              </a:tblGrid>
              <a:tr h="201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Ac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Policy  Ques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Mak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M), Other Stakehold-ers (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Dat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Sour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lysis) (Dec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cation Channel</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0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bl>
          </a:graphicData>
        </a:graphic>
      </p:graphicFrame>
      <p:sp>
        <p:nvSpPr>
          <p:cNvPr id="145" name="Oval 2"/>
          <p:cNvSpPr/>
          <p:nvPr/>
        </p:nvSpPr>
        <p:spPr>
          <a:xfrm rot="5400000">
            <a:off x="434520" y="848880"/>
            <a:ext cx="1987560" cy="2575080"/>
          </a:xfrm>
          <a:prstGeom prst="ellipse">
            <a:avLst/>
          </a:prstGeom>
          <a:noFill/>
          <a:ln w="414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25:38Z</dcterms:created>
  <dc:creator>Carolina Population Center</dc:creator>
  <dc:description/>
  <dc:language>en-US</dc:language>
  <cp:lastModifiedBy>FGUser</cp:lastModifiedBy>
  <dcterms:modified xsi:type="dcterms:W3CDTF">2011-04-29T16:50:43Z</dcterms:modified>
  <cp:revision>351</cp:revision>
  <dc:subject/>
  <dc:title>Slide 1</dc:title>
</cp:coreProperties>
</file>