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A6CC-159C-43FE-93F7-A5FCADA3F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185F-1E62-4864-84CC-AB8D53AA2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65BC-D030-4935-9B9C-8A17A9F54E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F2E0-2B36-400A-853A-83FE9EEE94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B08B-3700-45C0-83B5-8EF1A45ACA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3560"/>
            <a:ext cx="2971800" cy="4590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BB91-C4E8-4BD1-8A53-ED58133D7920}"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6240" y="685800"/>
            <a:ext cx="4567320" cy="342756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cilitator:</a:t>
            </a:r>
            <a:r>
              <a:rPr b="0" lang="en-US" sz="1000" spc="-1" strike="noStrike">
                <a:solidFill>
                  <a:srgbClr val="000000"/>
                </a:solidFill>
                <a:latin typeface="Arial"/>
                <a:ea typeface="Arial"/>
              </a:rPr>
              <a:t>  If participants created a list of decisions/issues and stakeholders during previous sessions, ask them to draw upon the lists and choose from these lists to complete the matrix.</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s should split up into groups of three to complete the matrix. Give teams approximately 20 minutes in their small grou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n, each group will present an example of their entries during plenary – give approximately 3 minutes per group for the report out. During report out, note additional considerations or comments to insert during the discussion perio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llowing report out, ask participants if they have any comments or suggestions for other teams. Then, provide a few words of feedback based on the report-out present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 sure to note breadth and depth of types of stakehold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e additional considerations for the teams – ask question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here is sufficient time, ask groups at this point to develop an engagement plan for each of the stakeholders. Give groups 15 minutes for the plan. Ask participants to discuss their ideas for engaging stakeholders in plen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exercise with the following com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portance of considering a broad group of stakeholders to ensure that the activity or decision is fully informe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ost cases, a full set of stakeholders either are not considered or are considered and engaged in an ad hoc or informal way. Formally analyzing stakeholders and developing concrete strategies for engaging them ensures that stakeholders are taken into consideration at different stages of the activity/research or decis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9C6704-A57F-4060-B2C8-834E9DCA7D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23D04D-1A23-4107-B550-ECAC80C91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FD735B-9F9D-4A2E-AAB7-F99D3132A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BE88ECD-B638-45AB-B49C-F5C197842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850C56-49F0-4C80-B37F-DA01C9F66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DFB5CD-2DC8-4350-981D-208ADD2F09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95CA67-8139-42E7-8855-915B34D057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CD1D95-23FD-4640-9F03-5B2D847D5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4AFDAE-6C57-474D-8EC7-22F35B5101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F9DDFF-937C-40E3-B835-DD48A25552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4E7F74-F921-43DA-9DEC-23071C2A39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B0373B-F69D-4B2E-857A-EC7BAC357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CEA9-AD03-486E-8AFF-05890C2D6F4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wanda Case Study</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lides on Stakeholder Invol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B289-ACCD-4438-8424-F9CE126DEEE2}" type="slidenum">
              <a:rPr b="1" i="1" lang="ru-RU"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147" name="Picture 2" descr="tcc3[1]"/>
          <p:cNvPicPr/>
          <p:nvPr/>
        </p:nvPicPr>
        <p:blipFill>
          <a:blip r:embed="rId1"/>
          <a:stretch/>
        </p:blipFill>
        <p:spPr>
          <a:xfrm>
            <a:off x="152280" y="152280"/>
            <a:ext cx="8839440" cy="670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87360" y="591840"/>
            <a:ext cx="8510400" cy="4647960"/>
          </a:xfrm>
          <a:prstGeom prst="rect">
            <a:avLst/>
          </a:prstGeom>
          <a:noFill/>
          <a:ln w="0">
            <a:noFill/>
          </a:ln>
        </p:spPr>
        <p:txBody>
          <a:bodyPr anchor="t">
            <a:normAutofit/>
          </a:bodyPr>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a MEASURE project funded by th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Agency for International Development and implemented by</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arolina Population Center at the University of North Carolina</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Chapel Hill in partnership with Futures Group International,</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CF Macro, John Snow, Inc., Management Sciences for Health, </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ulane University. Views expressed in this presentation do no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cessarily reflect the views of USAID or the U.S. Governmen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the USAID Global Health Bureau's</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mary vehicle for supporting improvements in monitoring and</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ion in population, health and nutrition worldwid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73200" y="15480"/>
            <a:ext cx="84708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to Make Stakeholder Participation Happen</a:t>
            </a:r>
            <a:endParaRPr b="1" lang="en-US" sz="3200" spc="-1" strike="noStrike">
              <a:solidFill>
                <a:srgbClr val="ffffff"/>
              </a:solidFill>
              <a:latin typeface="Arial"/>
            </a:endParaRPr>
          </a:p>
        </p:txBody>
      </p:sp>
      <p:sp>
        <p:nvSpPr>
          <p:cNvPr id="131" name=""/>
          <p:cNvSpPr txBox="1"/>
          <p:nvPr/>
        </p:nvSpPr>
        <p:spPr>
          <a:xfrm>
            <a:off x="277920" y="1033200"/>
            <a:ext cx="8408880" cy="477684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Defining the purpose of M&amp;E in the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articipation in defining the purpose is important, as the whole design should flow from this. This will result in high empowerment of stakehold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a:t>
            </a:r>
            <a:r>
              <a:rPr b="1" lang="en-GB" sz="2600" spc="-1" strike="noStrike">
                <a:solidFill>
                  <a:srgbClr val="ffff00"/>
                </a:solidFill>
                <a:latin typeface="Arial"/>
              </a:rPr>
              <a:t>Rol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vite them to negotiations of purpose of M&amp;E activiti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ow them to feed into the definition of purpose and/or critique what is already propo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37600" y="15840"/>
            <a:ext cx="8906040" cy="977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33" name=""/>
          <p:cNvSpPr txBox="1"/>
          <p:nvPr/>
        </p:nvSpPr>
        <p:spPr>
          <a:xfrm>
            <a:off x="277920" y="1033200"/>
            <a:ext cx="8866080" cy="477684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Focus the design on stakeholder needs </a:t>
            </a:r>
            <a:endParaRPr b="0" lang="en-US" sz="2600" spc="-1" strike="noStrike">
              <a:solidFill>
                <a:srgbClr val="ffffff"/>
              </a:solidFill>
              <a:latin typeface="Arial"/>
            </a:endParaRPr>
          </a:p>
          <a:p>
            <a:pPr marL="343080" indent="-34308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Where stakeholders are not involved in design, the M&amp;E activity could be biased, missing important issues for the stakeholders  </a:t>
            </a:r>
            <a:endParaRPr b="0" lang="en-US" sz="2300" spc="-1" strike="noStrike">
              <a:solidFill>
                <a:srgbClr val="ffffff"/>
              </a:solidFill>
              <a:latin typeface="Arial"/>
            </a:endParaRPr>
          </a:p>
          <a:p>
            <a:pPr marL="343080" indent="-34308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Arial"/>
              </a:rPr>
              <a:t>Perspectives of primary stakeholders can challenge other stakeholders’ more “established” analytical frameworks, bringing new perspectives on the interrelationship of different issues</a:t>
            </a:r>
            <a:endParaRPr b="0" lang="en-US" sz="23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a:t>
            </a:r>
            <a:r>
              <a:rPr b="1" lang="en-GB" sz="2600" spc="-1" strike="noStrike">
                <a:solidFill>
                  <a:srgbClr val="ffff00"/>
                </a:solidFill>
                <a:latin typeface="Arial"/>
              </a:rPr>
              <a:t>Roles</a:t>
            </a:r>
            <a:endParaRPr b="0" lang="en-US" sz="26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vite them to negotiations of the program design</a:t>
            </a: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low them to feed into the program design and/or critique what is already propos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7600" y="15480"/>
            <a:ext cx="890604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35" name=""/>
          <p:cNvSpPr txBox="1"/>
          <p:nvPr/>
        </p:nvSpPr>
        <p:spPr>
          <a:xfrm>
            <a:off x="258840" y="715680"/>
            <a:ext cx="8407440" cy="4776840"/>
          </a:xfrm>
          <a:prstGeom prst="rect">
            <a:avLst/>
          </a:prstGeom>
          <a:noFill/>
          <a:ln w="0">
            <a:noFill/>
          </a:ln>
        </p:spPr>
        <p:txBody>
          <a:bodyPr anchor="t">
            <a:normAutofit fontScale="96000"/>
          </a:bodyPr>
          <a:p>
            <a:pPr marL="329040" indent="-329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Involve them in collecting evidence</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For most M&amp;E activities, greater participation of stakeholders in collecting data ensures accuracy, completeness, and fair results </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akeholders (especially primary) may apply tools differently based on their translation of tools for local realities (e.g., perspectives on how family and household are defined)  </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akeholders may have different perspectives in interpreting responses or suggest different directions for further probing and data colle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7600" y="15480"/>
            <a:ext cx="890604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37" name=""/>
          <p:cNvSpPr txBox="1"/>
          <p:nvPr/>
        </p:nvSpPr>
        <p:spPr>
          <a:xfrm>
            <a:off x="258840" y="715680"/>
            <a:ext cx="8407440" cy="477684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Involve them in validating eviden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articipation of stakeholders in the stage of validating findings allows an opportunity to correct and clarify perspectives, as well as provide contextual analysis from their perspectiv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volve them in discussing finding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volve them in cross-checking finding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37600" y="15480"/>
            <a:ext cx="890604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39" name=""/>
          <p:cNvSpPr txBox="1"/>
          <p:nvPr/>
        </p:nvSpPr>
        <p:spPr>
          <a:xfrm>
            <a:off x="258840" y="517680"/>
            <a:ext cx="8626320" cy="552600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Involve them in analysis, conclusions, and recommenda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articipation in analysis, conclusions, and recommendations can be an extension of the validation proces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nvolvement of stakeholders becomes more important and necessary when they will have a role in actually implementing changes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e biggest challenge is how local-level validation, analysis, conclusions, and recommendations can be brought into a wider process with other stakeholders without losing the specificity of the local inpu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37600" y="15480"/>
            <a:ext cx="890604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41" name=""/>
          <p:cNvSpPr txBox="1"/>
          <p:nvPr/>
        </p:nvSpPr>
        <p:spPr>
          <a:xfrm>
            <a:off x="258840" y="715680"/>
            <a:ext cx="8407440" cy="4776840"/>
          </a:xfrm>
          <a:prstGeom prst="rect">
            <a:avLst/>
          </a:prstGeom>
          <a:noFill/>
          <a:ln w="0">
            <a:noFill/>
          </a:ln>
        </p:spPr>
        <p:txBody>
          <a:bodyPr anchor="t">
            <a:normAutofit fontScale="96000"/>
          </a:bodyPr>
          <a:p>
            <a:pPr marL="329040" indent="-329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Using M&amp;E results – dissemination process</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articipation of stakeholders can be a further means of building ownership of results, particularly where these relate to locally visible follow-up, such as adjustments to existing programs</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Roles</a:t>
            </a:r>
            <a:r>
              <a:rPr b="0" lang="en-GB" sz="2600" spc="-1" strike="noStrike">
                <a:solidFill>
                  <a:srgbClr val="ffffff"/>
                </a:solidFill>
                <a:latin typeface="Arial"/>
              </a:rPr>
              <a:t>: </a:t>
            </a:r>
            <a:endParaRPr b="0" lang="en-US" sz="26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developing dissemination strategy</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designing messages</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a vehicle for dissemination messages</a:t>
            </a:r>
            <a:endParaRPr b="0" lang="en-US" sz="24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7600" y="15480"/>
            <a:ext cx="890604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ahoma"/>
              </a:rPr>
              <a:t>Cont.</a:t>
            </a:r>
            <a:endParaRPr b="1" lang="en-US" sz="3200" spc="-1" strike="noStrike">
              <a:solidFill>
                <a:srgbClr val="ffffff"/>
              </a:solidFill>
              <a:latin typeface="Arial"/>
            </a:endParaRPr>
          </a:p>
        </p:txBody>
      </p:sp>
      <p:sp>
        <p:nvSpPr>
          <p:cNvPr id="143" name=""/>
          <p:cNvSpPr txBox="1"/>
          <p:nvPr/>
        </p:nvSpPr>
        <p:spPr>
          <a:xfrm>
            <a:off x="258840" y="715680"/>
            <a:ext cx="8407440" cy="477684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Using M&amp;E results – translation into action pla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Participation in the use of M&amp;E results can be the ultimate participation in M&amp;E and typically requires some participation in early stag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Roles</a:t>
            </a:r>
            <a:r>
              <a:rPr b="0" lang="en-GB" sz="2600" spc="-1" strike="noStrike">
                <a:solidFill>
                  <a:srgbClr val="ffffff"/>
                </a:solidFill>
                <a:latin typeface="Arial"/>
              </a:rPr>
              <a:t>: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developing action pla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validating deci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a:t>
            </a:r>
            <a:br>
              <a:rPr sz="3200"/>
            </a:br>
            <a:r>
              <a:rPr b="1" lang="en-US" sz="3200" spc="-1" strike="noStrike">
                <a:solidFill>
                  <a:srgbClr val="ffffff"/>
                </a:solidFill>
                <a:latin typeface="Arial"/>
              </a:rPr>
              <a:t>Stakeholder Analysis</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45" name="PlaceHolder 2"/>
          <p:cNvSpPr>
            <a:spLocks noGrp="1"/>
          </p:cNvSpPr>
          <p:nvPr>
            <p:ph/>
          </p:nvPr>
        </p:nvSpPr>
        <p:spPr>
          <a:xfrm>
            <a:off x="779400" y="1978200"/>
            <a:ext cx="8151840" cy="44431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list of stakeholders on flipchart (5 mi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ck three stakeholders from your list and complete the analysis matrix (20 mi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s present one example of their entries in plenar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 </cp:lastModifiedBy>
  <dcterms:modified xsi:type="dcterms:W3CDTF">2011-05-05T14:45:46Z</dcterms:modified>
  <cp:revision>13</cp:revision>
  <dc:subject/>
  <dc:title>Slide 1</dc:title>
</cp:coreProperties>
</file>