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64C1-436B-4AEC-A248-72F65B961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some concepts of basic analysis and their supporting calculations, we will move on to discussing two basic analyses that can facilitate the monitoring of service delivery.</a:t>
            </a: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A2CE-E7A8-47A7-82A4-267DED89F7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termine your overall target, you’ll want to set annual targets to ensure that you can monitor program progress. To do this, you need to know two th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 you are trying to achieve for the indic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years in which you are trying to achieve the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rograms even consider breaking yearly targets down further into quarterly or bi-annual targets, depending on management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walk through an example for setting an annual target. Let’s say the current ITN household ownership in your catchment area (population of 200,000) is 25%, or 50,000 ITNs (0.25 x 200,000 = 50,000). Given the resources you have available for your program, you think it’s reasonable to set the overall target for your five-year program at 50%, or 100,000 ITNs (0.5 x 200,000 = 100,000). That means that you need to increase your target by 25% (50%-25% = 25%), or an additional 50,000 nets (0.25 x 200,000 = 5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are five years in the program, divide the target increase (25%) by 5 years (0.25/5 = 0.05 x 100 = 5%) and you see that you need a 5% increase every year, or 10,000 nets per year (50,000/5 = 10,000). So, if your current ITN ownership is 25%, you would add 5%, for a 30% annual target – or 60,000 ITNs – for 2012. And then add 5% for each additional y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30% = 6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35% = 7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40% = 8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5, 45% = 9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6, 50% = 100,000</a:t>
            </a:r>
            <a:endParaRPr b="0" lang="en-US" sz="12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18F1-E6AE-401D-8D18-6C852BC78A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CA47-521B-4970-83CC-3BAE941A4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se Example adapted from Enhancing Information Use for Managing Health Services, National Epidemiolog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nd Local Enhancement and Development (LEAD) for Health Project.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lk participants through the slide bullets. At this clinic, they set an annual target in 2010 for 372 children to be immunized for polio. At the end of the year, however, they had fully immunized 488 children, which was 131% of their target, nearly 1/3 higher than their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how the clinic could have surpassed the target by so much – what might have led to them fully immunizing so many more children than they initially planned? Give participants time to respond and think about how this might have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we find out that they used the census estimates to calculate the denominator (the population in need). When the staff discussed this further, others thought they were using census projections, and some thought the mast list kept by midwives should have been used, since that really was the most accurate counting. As you can see, the accuracy of defining your population in need will affect the usefulness of your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9A37-BBCE-4381-BD12-297D00357B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title slide and let participants identify the answers. After they have finished identifying the implications of target setting, click on the mouse to reveal other possible implications as found in the case example.</a:t>
            </a: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BE89-4C46-4EF1-B0D5-8523CA870A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can help answer questions pertaining to many aspects of a program. Here, we do not address all possible analyses that can be conducted at the program level – as there are many. We are looking at some that MEASURE Evaluation staff have noted as common to the projects we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cover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retention of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questions related to coverage and retention requires information about the number and type of people being reached or covered with specific services, and the program’s efforts to operate effic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informed answers to these questions can be used to extend the reach of the program or service or enhance the ability of a program to deliver all phases of its range of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CD3C-E50A-44AC-ACED-12FFD7117D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E353-E4B1-4F3E-BE94-8825DA68B2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talk about coverage indicators – Why are coverage indicator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is a measure of a program’s efforts or activities. The pertinent question is whether the program is reaching its intended targets. That is, is it reaching clients in need, delivering the necessary commodities, or keeping clients on their treatment regim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bining coverage indicators, you can investigate if one target group is being reached more effectively than another and if there are underserved geographic areas or subpopulations that need more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may be expressed as cumulative numbers of people receiving a health service or product, the relative population served or reached by program activities, or the total amount and type of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communication program might be interested in the areas or groups of people reached by a mass media campaign. While coverage indicators do not address the quality of the interventions, they can be used to evaluate how program activities relate to local, national, or global health priorit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0EAA-C360-42F6-AA83-3AE38692A0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en talking about program coverage in terms of reaching a specific programmatic target – or the desired number of clients utiliz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y important aspect of coverage is service availability. This answers the question: Are there services available where there is a need? To fully understand the utilization of services, you need to know if they are available for clients to access. Together, these two measures comprise program cove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bout utilization fir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D21B-6D28-42B1-A71B-C0EBEB0A85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utilization can be measured by calculating the percentage of the target population that is using services. We talked about calculating percentages earlier in the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coverage requires defining your target population and having an accurate count of that population to use as the denominator. We also will need to define the number of individuals in the target population using the service. This is the num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then is multiplied by 100 to get a percent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To determine the utilization of an education program that is teaching the risk factors for HIV, you would look at the number of individuals educated during a specific time period compared to the program’s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y June 12, 2009, the program had educated 300 people and the goal for December 31, 2009 was 900, you would divide the goal by the number of people reached (or 300/900). This equals 0.33. You multiply this by 100 to get a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reached 33% of your target group with HIV education.</a:t>
            </a: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2C8F-D6C6-4E24-84A2-5271B45548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alculated the utilization rate for your service, you can compare that rate with other rates to see the changes between time periods (between quarters, years, months) and between sites (facilities in your area or between districts and provinces). Looking at these differences can help you to evaluate your program’s progress over time or in comparison to similar programs in your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comparing time periods, it also can be helpful to calculate the rate of increase for your program. Using the example from the previous slide, if you wanted to know the rate of increase of your education program from Jan to June, you would use the calculation we discussed in Part 1. You would subtract the number educated in January from the number educated in June (300 – 70 = 230). Then you would divide the number of new clients by the number of months it took to educate them (230 ÷ 6 = 38.3). So you see that you have educated 38.3 people per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is figure can help you to determine how many more clients you will need to educate per month to reach your target of 900 by December.  </a:t>
            </a: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92B2-F466-41D4-A459-1B2B4EB518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8A46-28A6-43EA-8B13-1F570BD15F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A931-663E-4668-B51F-9B967A4620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415440" y="4343400"/>
            <a:ext cx="6077160" cy="4292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look at another example, the utilization of PMTC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re you see a flowchart depicting the utilization of PMTCT services. The red box shows the number of all pregnant women estimated in the catchment area – the population in need of services (2,000). The red arrow shows the target number of women the PMTCT program wants to reach with their services (1,000). The yellow box shows the number of women that actually accessed services (</a:t>
            </a:r>
            <a:r>
              <a:rPr b="1" i="1" lang="es-ES" sz="1200" spc="-1" strike="noStrike">
                <a:solidFill>
                  <a:srgbClr val="000000"/>
                </a:solidFill>
                <a:latin typeface="Arial"/>
              </a:rPr>
              <a:t>600</a:t>
            </a:r>
            <a:r>
              <a:rPr b="0" lang="es-ES" sz="1200" spc="-1" strike="noStrike">
                <a:solidFill>
                  <a:srgbClr val="000000"/>
                </a:solidFill>
                <a:latin typeface="Arial"/>
              </a:rPr>
              <a:t>), and the light green box shows the number of women tested and counseled </a:t>
            </a:r>
            <a:r>
              <a:rPr b="1" i="1" lang="es-ES" sz="1200" spc="-1" strike="noStrike">
                <a:solidFill>
                  <a:srgbClr val="000000"/>
                </a:solidFill>
                <a:latin typeface="Arial"/>
              </a:rPr>
              <a:t>(50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this example, the utilization of services is measured by how many women access prenatal care – not by how many women are counseled – because in many high prevalence countries where the HIV epidemic is generalized, the standard of PMTCT care is to test and counsel ALL women coming in for A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 calculate the utilization of PMTCT services, what would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a:t>
            </a:r>
            <a:r>
              <a:rPr b="0" lang="es-ES" sz="1200" spc="-1" strike="noStrike">
                <a:solidFill>
                  <a:srgbClr val="000000"/>
                </a:solidFill>
                <a:latin typeface="Arial"/>
              </a:rPr>
              <a: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vide the service users (600) by the target population (1,000) to determine that PMTCT utilization is at 60%. That is: 600 </a:t>
            </a:r>
            <a:r>
              <a:rPr b="0" lang="en-US" sz="1200" spc="-1" strike="noStrike">
                <a:solidFill>
                  <a:srgbClr val="000000"/>
                </a:solidFill>
                <a:latin typeface="Arial"/>
              </a:rPr>
              <a:t>÷ 1,000 = 0.6 = 60%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D229-AF68-46B0-8A7B-1A7FC1C931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first element of program coverage – utilization, or reaching a specific programmatic target – let’s talk about the second element of programmatic coverage – service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is expressed as a ratio. In this case, we’re looking at the availability of service outlets within a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ould calculate the number of PMTCT clinics per the number of pregnant women in a specific catchment area.</a:t>
            </a: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58CD-6BEA-4F38-809B-1489FE47F1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PMTCT clinic availability to assess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of clinics to pregnant women 8:10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duce this by dividing by both the numerator and the denominator by 8. The answer is 1:12,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1 clinic per 12,500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recommendation is 1 clinic with PMTCT services per 10,000 pregnant women, so </a:t>
            </a:r>
            <a:r>
              <a:rPr b="0" i="1" lang="en-US" sz="1200" spc="-1" strike="noStrike">
                <a:solidFill>
                  <a:srgbClr val="000000"/>
                </a:solidFill>
                <a:latin typeface="Arial"/>
              </a:rPr>
              <a:t>clinic availability is not reaching the target.</a:t>
            </a: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226C-3240-4507-977F-413504EA23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and wait for participants to respond before showing the last bul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ch this calculation by determining the ratio of the difference between service availability and availability target (this is the numerator) to the target, 10,000 (the denominator). The calculation is 12,500 – 10,000 = 2,500 (numerator) ÷ 10,000 = 0.25. If we multiply this by 100, we get a percentage. Service availability is 25% over the availability goal.</a:t>
            </a: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BDD7-2633-47DB-835D-CEFFD6A86D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60ED-5C9D-4274-913D-D3AD8B9920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w let’s talk about program reten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retention is important because an efficient program minimizes losses in clientele. Reviewing indicators for each step in service delivery is critical for programmatic improvemen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immunization program to discuss an example of program retention. With certain immunizations, an individual needs multiple doses of a vaccine to be fully immunized. You see that the child enters the immunization service with his or her first dose – in this case, polio vaccine. At this time, you can measure the coverage of your immunization program by determining how many children access polio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you stopped here, you would not be assessing the full effectiveness of your program. You need to measure how many of those children return two more times to complete the full range of immunizations to be fully protected from polio. By calculating the difference between utilization and coverage at each step of service provision, you can determine where you are losing your patients. </a:t>
            </a: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3A44-A36E-4C09-9C46-5C97D8FA77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F08A-539B-4D18-B4A2-ECAEF056DE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go back to our PMTCT service utilization example. </a:t>
            </a:r>
            <a:r>
              <a:rPr b="0" lang="en-US" sz="1200" spc="-1" strike="noStrike">
                <a:solidFill>
                  <a:srgbClr val="000000"/>
                </a:solidFill>
                <a:latin typeface="Arial"/>
              </a:rPr>
              <a:t>In our discussion about coverage, we talked about women utilizing the PMTCT services and measured coverage by the target number of women seeking prenatal care. If we want to look at program retention, we need to assess not only the number of women entering services, but also those who are tested for HIV, receive their results and, of those who are positive, receive prophylaxis for themselves and their b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t is important to look at each phase of the program and examine whether performance in that phase is adequate. If not, we need to ask ourselves why this might be? And what can we do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roving on program retention involves ensuring that your project or facility’s services are reaching individual clients fully. In other words, we want to make sure that the client has received the full range of services required. In this PMTCT scenario, where would we start investigating to determine if clients are receiving the full range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ually we start our investigation where clients ENTER services – the number of women seeking prenatal care. In this training, we are going to encourage you to work backward. We want to look first at the clients who have actually succeeded in receiving the full complement of services and identify those clients who also should have received these services but did not. This will help us to identify why we are losing cl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A9DB-3711-48F1-BBB1-EDA7F87391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e start by looking at the percentage of positive women who received prophylaxis for themselves and their babies. Many programs also track the mother’s breastfeeding practices and the numbers of positive babies and their related health outcomes, but we did not include those elements in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 the program performing adequately in this area? What percentage of HIV+ women received prophyl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ll positive women are not receiving prophylaxis for themselves and their babies. What could be causing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here adequate prophylaxis stocks on h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FB35-F1A1-4424-A863-27832E45C8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22480" y="655560"/>
            <a:ext cx="4572000" cy="3429000"/>
          </a:xfrm>
          <a:prstGeom prst="rect">
            <a:avLst/>
          </a:prstGeom>
          <a:ln w="0">
            <a:noFill/>
          </a:ln>
        </p:spPr>
      </p:sp>
      <p:sp>
        <p:nvSpPr>
          <p:cNvPr id="396" name="PlaceHolder 2"/>
          <p:cNvSpPr>
            <a:spLocks noGrp="1"/>
          </p:cNvSpPr>
          <p:nvPr>
            <p:ph type="body"/>
          </p:nvPr>
        </p:nvSpPr>
        <p:spPr>
          <a:xfrm>
            <a:off x="665280" y="4302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xt, we would look at the numbers of women receiving their HIV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 the program performing sufficiently in this area? What percentage of women tested for HIV are not actually receiving thei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50 people who were tested did not receive their results (500 tested minus the 450 who received either a positive or negativ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hat could be caus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est results not being re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women refusing to be informed of the status of their resu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d here are the monitoring and evaluation (M&amp;E) terms that we will cover during this session.</a:t>
            </a: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CCD4-1C0B-41DE-873E-37C627D690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5319-286F-4182-8FD5-C79A835F52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xt, we look at the numbers of women in prenatal care who were tested for HIV. Is performance here adeq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only 500 of </a:t>
            </a:r>
            <a:r>
              <a:rPr b="0" lang="en-US" sz="1200" spc="-1" strike="noStrike">
                <a:solidFill>
                  <a:srgbClr val="000000"/>
                </a:solidFill>
                <a:latin typeface="Arial"/>
              </a:rPr>
              <a:t>the</a:t>
            </a:r>
            <a:r>
              <a:rPr b="0" lang="es-ES" sz="1200" spc="-1" strike="noStrike">
                <a:solidFill>
                  <a:srgbClr val="000000"/>
                </a:solidFill>
                <a:latin typeface="Arial"/>
              </a:rPr>
              <a:t> 600 women who accessed PMTCT are being tested. The next step is to ask why this is happening. We need to determine the factors that could account for the loss of 100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all women being counse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some women opting out of testing after counseling? (This could be true if the PMTCT program is an opt-out program – if this is the case, it would be helpful to track women counseled as well as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here appropriate stocks of HIV test k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ve some women already been tested and know their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Some of these questions</a:t>
            </a:r>
            <a:r>
              <a:rPr b="1" i="1" lang="es-ES" sz="1200" spc="-1" strike="noStrike">
                <a:solidFill>
                  <a:srgbClr val="000000"/>
                </a:solidFill>
                <a:latin typeface="Arial"/>
              </a:rPr>
              <a:t> </a:t>
            </a:r>
            <a:r>
              <a:rPr b="0" lang="es-ES" sz="1200" spc="-1" strike="noStrike">
                <a:solidFill>
                  <a:srgbClr val="000000"/>
                </a:solidFill>
                <a:latin typeface="Arial"/>
              </a:rPr>
              <a:t>can be answered with existing service delivery data. Some require more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8CF7-B51F-41A4-BDBE-16D82829D3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ly, when measuring retention, it is important to consider the target number and the actual number of pregnant women seeking antenatal care, which is dependent upon adequate availability of antenatal car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y looking at the full range of services, we can better determine if our program is truly meeting its intended goals. And if not, we can question why this is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 some of the key themes we discussed before we proceed to the next module.</a:t>
            </a: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2863-D7E4-445C-9BDB-7FB272A6D8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or measures one aspect of a program and shows how close it is to the programmatic goal. An indicator is often expressed as a number or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cator could be any element of the program that needs tr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ment to go over each piece of this definition. The purpose of indicators typically is to show that program activities are carried out as planned or that a program activity has caused a change or difference in something else. Therefore, the value of an indicator will change from a given or baseline level at the time the program begins to another value after the program and its activities have had time to make their impact felt, when the variable, or indicator, is calculated agai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an indicator is a measurement. It measures the value of the change in meaningful units for program management – a measurement that can be compared to past and future units and val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an indicator focuses on a single aspect of a program or project. Objectives will include at least one indicator for each significant aspect of program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AB2D-6B8F-4B70-A4B2-FC2E9CDE62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take a look at this definition of a target. Essentially, a target is a number that you set (specified level of performance) for a given indicator by a certain period of time. There are two types of targets.</a:t>
            </a: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verall target measures expected performance for the life of the program – whether it is one year, three years, or five years. It defines what you want to accomplish for an indicator by the end of the program. For example, the government of Namibia may want the percentage of males who have comprehensive knowledge of HIV, 2005–2009, to reach 76% in three years – by 2014).</a:t>
            </a: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targets measure the expected performance for each year of the program. For example, in the above scenario, let’s say the indicator was at 62% at the start of the program – getting to 76% in three years would be a large increase (14 percentage points). Setting annual targets will help to break it down. The program might set the annual </a:t>
            </a:r>
            <a:r>
              <a:rPr b="0" lang="en-US" sz="2400" spc="-1" strike="noStrike">
                <a:solidFill>
                  <a:srgbClr val="ff0000"/>
                </a:solidFill>
                <a:latin typeface="Arial"/>
              </a:rPr>
              <a:t>targets at 66% by 2012, up to 71% by 2013, and up to 76% by 2014</a:t>
            </a:r>
            <a:r>
              <a:rPr b="0" lang="en-US" sz="2400" spc="-1" strike="noStrike">
                <a:solidFill>
                  <a:srgbClr val="000000"/>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69DC-30AE-4A27-9B7B-703467B701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arget setting relates back to a specific number of individuals/households/etc. who are in need of some type of service or commodity. For example, in the previous slide, we discussed an example of increasing the percentage of males who have comprehensive knowledge of HIV, 2005–2009 from 62% to 76% over a three-year period. Those percentages represent individual males. In this made-up example, let’s say there is a population of 2,000,000 men who need to be educated, and your current target is 62%. To find out how many men 62% covers, you multiply 0.62 by 2,000,000, which equals 1,240,000 men. To check your math, you divide the numerator (1,240,000 men) by the denominator (2,000,000 men) to get 0.62 x 100 = 62%.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o increase the number of men to 76%, you would multiply 0.76 by 2,000,000. So, 76% = 1,520,000 men.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o determine how many more men that change in target would cover in three years, you subtract the 62% figure from the 76% figure.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1,520,000-1,240,000 = 280,000 men. This means that, to achieve your target of 76%, you would need to educate an additional 280,000 men. Given that number, program staff need to be sure they have enough staff to work with those additional 280,000 men and enough educational materials and other commodities to meet that demand.</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argets play an important role in ensuring you’re on track with your program. In the example we’ve been discussing, it may be a lot of work to increase the number of men knowledgeable about HIV by 280,000. It’s important to break down that goal into manageable pieces – for example, by year, so staff can check in on their progress. In our example – increasing the percentage of men by 14% over three years – setting an annual target of a 4–5% increase per year allows program staff to assess progress on an annual basis and make corrections to the program, the targets, etc. if the annual targets are not being met.</a:t>
            </a: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FC5D-B6AD-45EC-8DFF-F9DCC1F07B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847800" y="4272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o indicator is the % of children ages 12 to 23 months who received the OPV3 vaccine before their 1</a:t>
            </a:r>
            <a:r>
              <a:rPr b="0" lang="en-US" sz="1200" spc="-1" strike="noStrike" baseline="30000">
                <a:solidFill>
                  <a:srgbClr val="000000"/>
                </a:solidFill>
                <a:latin typeface="Arial"/>
              </a:rPr>
              <a:t>st</a:t>
            </a:r>
            <a:r>
              <a:rPr b="0" lang="en-US" sz="1200" spc="-1" strike="noStrike">
                <a:solidFill>
                  <a:srgbClr val="000000"/>
                </a:solidFill>
                <a:latin typeface="Arial"/>
              </a:rPr>
              <a:t> birth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After reading the question on the slide, pause and let individuals toss out ideas about whether or not it’s appropriate to set the Polio indicator target at 100%. It’s often not feasible to have an indicator reach the full 100% because it is not possible to reach everyone. In the example of the polio vaccine, not all parents will bring their children to be vaccinated – in some cases, parents or caregivers may not be able to bring their child for a vaccination, perhaps your program does not have the funding to reach a target of 100%, or your program may not have enough time to reach the 100% target, so you want to set the target at a reasonable numb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F6C1-439D-4042-B592-BFC0375BC6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aceptive Prevalence Rate (CPR) indicator is the % of women ages 15 to 49 currently married or in union who are (or their partner is) using a contraceptive method (modern or tradition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fter reading the question on the slide, pause and let individuals toss out ideas about whether or not it’s appropriate to set the CPR target at 7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likely that you could increase CPR from 15% to 70% in one year – reaching 70% might be a long-term goal, but in one year is not likely to be at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FC2E-7FED-44B7-AD38-BE58B867E9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setting should be an informed process – based on contextual factors and the target popul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untries set national targets for key public health indicators. You can contact your country, region, state, or district ’s specific program office to determine what the targets are for the indicator(s) of interest. While these can be helpful to see where the country/region is heading, they may be unrealistic for your program, depending on what the current indicator is for your coverage area, how new the program is, and other factors. In this case, you may want to keep the national target as an overall goal but set another target that may be more realistic for your specific area (e.g., district) by using another approach if a target is not already available for that indic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is to set your target based on historical data. If your program has been running for a few years, you likely know what the performance for a given indicator already is in terms of number of individuals reached (for example, maybe you have 500 women who are now using a contraceptive). In this case, to set the target, you could apply a general rule of thumb of increasing that number by 10% (but no more), so you would multiply 0.10 x 500 to get 50. With this method of setting targets, your target would now be 550 women (that is, the original 500 plus the increase of 5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way to set the target would be to find a successful program in a similar population and set a target similar to theirs, assuming it is reasonable and feasible for your progra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approach you use to set your target, the target needs to be set based on the number of clients you can realistically expect to serve in your program. This number may depend on agency, personnel, and resource constraints. </a:t>
            </a: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E9C4-A142-432F-8CDC-D1E89501D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797B498-4809-4920-8BFC-B67A7998D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A0BDCEA-F29F-40AF-979A-20BD397BE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550D088-281C-4468-8E7B-D64200EE8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5D6599-B40B-45ED-9B11-1280071BC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67BE9A-6319-4A5E-8E7A-CC5DF6C73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148D933-DF50-4279-BC07-0887A1753C6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956816-DCF0-489D-8291-6F3512483C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FACF6C-D8CF-40B9-985B-57095C1CD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9C0B2CC-FB22-4AEF-826D-156BC893E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E2F939-C728-4707-B94E-2053D64D3B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D9A679E-5215-4714-92FA-8C03EDB455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66F319-86A5-472B-BF90-73DC7F584B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07E5-B655-4E04-B428-FCF417B58AD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Picture 8" descr="Vertical_RGB_600"/>
          <p:cNvPicPr/>
          <p:nvPr/>
        </p:nvPicPr>
        <p:blipFill>
          <a:blip r:embed="rId2"/>
          <a:stretch/>
        </p:blipFill>
        <p:spPr>
          <a:xfrm>
            <a:off x="6580080" y="5829480"/>
            <a:ext cx="1116000" cy="914400"/>
          </a:xfrm>
          <a:prstGeom prst="rect">
            <a:avLst/>
          </a:prstGeom>
          <a:ln w="0">
            <a:noFill/>
          </a:ln>
        </p:spPr>
      </p:pic>
      <p:pic>
        <p:nvPicPr>
          <p:cNvPr id="124" name="Picture 9" descr="logo_2004"/>
          <p:cNvPicPr/>
          <p:nvPr/>
        </p:nvPicPr>
        <p:blipFill>
          <a:blip r:embed="rId3"/>
          <a:stretch/>
        </p:blipFill>
        <p:spPr>
          <a:xfrm>
            <a:off x="7950240" y="5829480"/>
            <a:ext cx="965160" cy="914400"/>
          </a:xfrm>
          <a:prstGeom prst="rect">
            <a:avLst/>
          </a:prstGeom>
          <a:ln w="0">
            <a:noFill/>
          </a:ln>
        </p:spPr>
      </p:pic>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2:</a:t>
            </a:r>
            <a:br>
              <a:rPr sz="4000"/>
            </a:br>
            <a:r>
              <a:rPr b="1" lang="en-US" sz="4000" spc="-1" strike="noStrike">
                <a:solidFill>
                  <a:srgbClr val="ffffff"/>
                </a:solidFill>
                <a:latin typeface="Arial"/>
              </a:rPr>
              <a:t>Basic analyse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nual Target Setting</a:t>
            </a:r>
            <a:endParaRPr b="1" lang="en-US" sz="3600" spc="-1" strike="noStrike">
              <a:solidFill>
                <a:srgbClr val="ffffff"/>
              </a:solidFill>
              <a:latin typeface="Arial"/>
            </a:endParaRPr>
          </a:p>
        </p:txBody>
      </p:sp>
      <p:sp>
        <p:nvSpPr>
          <p:cNvPr id="188" name=""/>
          <p:cNvSpPr txBox="1"/>
          <p:nvPr/>
        </p:nvSpPr>
        <p:spPr>
          <a:xfrm>
            <a:off x="355320" y="1347840"/>
            <a:ext cx="8078760" cy="453240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increase your program needs to gain to reach your overall target</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that number by the number of years in which you would like to achieve the target</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number to your baseline indicator for each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for Target Setting</a:t>
            </a:r>
            <a:endParaRPr b="1" lang="en-US" sz="3600" spc="-1" strike="noStrike">
              <a:solidFill>
                <a:srgbClr val="ffffff"/>
              </a:solidFill>
              <a:latin typeface="Arial"/>
            </a:endParaRPr>
          </a:p>
        </p:txBody>
      </p:sp>
      <p:sp>
        <p:nvSpPr>
          <p:cNvPr id="19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 you have an agreed-upon and realistic definition of target popul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t a realistic target to achieve in the long term and short ter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60240" y="274320"/>
            <a:ext cx="673236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ortance of Defining the Target Population: Case Example</a:t>
            </a:r>
            <a:endParaRPr b="1" lang="en-US" sz="3200" spc="-1" strike="noStrike">
              <a:solidFill>
                <a:srgbClr val="ffffff"/>
              </a:solidFill>
              <a:latin typeface="Arial"/>
            </a:endParaRPr>
          </a:p>
        </p:txBody>
      </p:sp>
      <p:sp>
        <p:nvSpPr>
          <p:cNvPr id="192" name=""/>
          <p:cNvSpPr txBox="1"/>
          <p:nvPr/>
        </p:nvSpPr>
        <p:spPr>
          <a:xfrm>
            <a:off x="1025280" y="1599840"/>
            <a:ext cx="766116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was 372 children to be immuniz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was 488 children immuniz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alculate the % target achieved, use (Actual/Target) * 100</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8/372 = 1.31*100 = 131%</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the clinic have surpassed its target by so mu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98080" y="274680"/>
            <a:ext cx="7488360" cy="119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ications of Incorrect Target Setting: Case Example</a:t>
            </a:r>
            <a:endParaRPr b="1" lang="en-US" sz="3600" spc="-1" strike="noStrike">
              <a:solidFill>
                <a:srgbClr val="ffffff"/>
              </a:solidFill>
              <a:latin typeface="Arial"/>
            </a:endParaRPr>
          </a:p>
        </p:txBody>
      </p:sp>
      <p:sp>
        <p:nvSpPr>
          <p:cNvPr id="19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don’t really know to what extent you’re fully immunizing the children in your setting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r program purchases commodities (e.g., vaccines) based on the target set, supply could run ou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set your target too low, you may not have enough vaccines, leading to disease outbreak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on Analyses </a:t>
            </a:r>
            <a:endParaRPr b="1" lang="en-US" sz="3600" spc="-1" strike="noStrike">
              <a:solidFill>
                <a:srgbClr val="ffffff"/>
              </a:solidFill>
              <a:latin typeface="Arial"/>
            </a:endParaRPr>
          </a:p>
        </p:txBody>
      </p:sp>
      <p:sp>
        <p:nvSpPr>
          <p:cNvPr id="196" name=""/>
          <p:cNvSpPr txBox="1"/>
          <p:nvPr/>
        </p:nvSpPr>
        <p:spPr>
          <a:xfrm>
            <a:off x="693360" y="1424160"/>
            <a:ext cx="7993080" cy="413856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Coverage</a:t>
            </a:r>
            <a:endParaRPr b="0" lang="en-US" sz="26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a program reaches its intended target population, institution, or geographic area</a:t>
            </a:r>
            <a:endParaRPr b="0" lang="en-US" sz="24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urrent performance to prior year/quarter</a:t>
            </a:r>
            <a:endParaRPr b="0" lang="en-US" sz="24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performance between sites</a:t>
            </a:r>
            <a:endParaRPr b="0" lang="en-US" sz="24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Retention</a:t>
            </a:r>
            <a:endParaRPr b="0" lang="en-US" sz="26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the range of services is being delivered as initially intended so that client drop-outs are minimal</a:t>
            </a:r>
            <a:endParaRPr b="0" lang="en-US" sz="2400" spc="-1" strike="noStrike">
              <a:solidFill>
                <a:srgbClr val="ffffff"/>
              </a:solidFill>
              <a:latin typeface="Arial"/>
            </a:endParaRPr>
          </a:p>
          <a:p>
            <a:pPr lvl="1" marL="720720" indent="-27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xit" presetID="1">
                                  <p:stCondLst>
                                    <p:cond delay="0"/>
                                  </p:stCondLst>
                                  <p:childTnLst>
                                    <p:set>
                                      <p:cBhvr>
                                        <p:cTn id="20" dur="1" fill="hold">
                                          <p:stCondLst>
                                            <p:cond delay="0"/>
                                          </p:stCondLst>
                                        </p:cTn>
                                        <p:tgtEl>
                                          <p:spTgt spid="196">
                                            <p:txEl>
                                              <p:pRg st="4" end="4"/>
                                            </p:txEl>
                                          </p:spTgt>
                                        </p:tgtEl>
                                        <p:attrNameLst>
                                          <p:attrName>style.visibility</p:attrName>
                                        </p:attrNameLst>
                                      </p:cBhvr>
                                      <p:to>
                                        <p:strVal val="hidden"/>
                                      </p:to>
                                    </p:set>
                                  </p:childTnLst>
                                </p:cTn>
                              </p:par>
                              <p:par>
                                <p:cTn id="21" nodeType="withEffect" fill="hold" presetClass="exit" presetID="1">
                                  <p:stCondLst>
                                    <p:cond delay="0"/>
                                  </p:stCondLst>
                                  <p:childTnLst>
                                    <p:set>
                                      <p:cBhvr>
                                        <p:cTn id="22" dur="1" fill="hold">
                                          <p:stCondLst>
                                            <p:cond delay="0"/>
                                          </p:stCondLst>
                                        </p:cTn>
                                        <p:tgtEl>
                                          <p:spTgt spid="19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3467-8839-4842-B986-3B38EA74B2BF}"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
        <p:nvSpPr>
          <p:cNvPr id="198" name="PlaceHolder 1"/>
          <p:cNvSpPr>
            <a:spLocks noGrp="1"/>
          </p:cNvSpPr>
          <p:nvPr>
            <p:ph type="title"/>
          </p:nvPr>
        </p:nvSpPr>
        <p:spPr>
          <a:xfrm>
            <a:off x="485640" y="457200"/>
            <a:ext cx="825192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do we need to measure coverage?</a:t>
            </a:r>
            <a:endParaRPr b="1" lang="en-US" sz="3600" spc="-1" strike="noStrike">
              <a:solidFill>
                <a:srgbClr val="ffffff"/>
              </a:solidFill>
              <a:latin typeface="Arial"/>
            </a:endParaRPr>
          </a:p>
        </p:txBody>
      </p:sp>
      <p:sp>
        <p:nvSpPr>
          <p:cNvPr id="199" name="PlaceHolder 2"/>
          <p:cNvSpPr>
            <a:spLocks noGrp="1"/>
          </p:cNvSpPr>
          <p:nvPr>
            <p:ph/>
          </p:nvPr>
        </p:nvSpPr>
        <p:spPr>
          <a:xfrm>
            <a:off x="599760" y="1609560"/>
            <a:ext cx="8242200" cy="460080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derstand program progres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the target is reached</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commodities, adherence…</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one target is reached more effectively than another</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underserved area/regions, subpopulations?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9600" y="595440"/>
            <a:ext cx="8107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coverage</a:t>
            </a:r>
            <a:endParaRPr b="1" lang="en-US" sz="3600" spc="-1" strike="noStrike">
              <a:solidFill>
                <a:srgbClr val="ffffff"/>
              </a:solidFill>
              <a:latin typeface="Arial"/>
            </a:endParaRPr>
          </a:p>
        </p:txBody>
      </p:sp>
      <p:sp>
        <p:nvSpPr>
          <p:cNvPr id="201" name="PlaceHolder 2"/>
          <p:cNvSpPr>
            <a:spLocks noGrp="1"/>
          </p:cNvSpPr>
          <p:nvPr>
            <p:ph/>
          </p:nvPr>
        </p:nvSpPr>
        <p:spPr>
          <a:xfrm>
            <a:off x="152280" y="1520640"/>
            <a:ext cx="8910720" cy="518148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t to which a program reaches its intended target population, institution, or geographic are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Utilization:</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Is the target population utilizing services, accessing commodities, being reached with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vailability:</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re the services available where there is a need?</a:t>
            </a:r>
            <a:endParaRPr b="0" lang="en-US" sz="26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1">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1">
                                            <p:txEl>
                                              <p:pRg st="4" end="4"/>
                                            </p:txEl>
                                          </p:spTgt>
                                        </p:tgtEl>
                                        <p:attrNameLst>
                                          <p:attrName>style.visibility</p:attrName>
                                        </p:attrNameLst>
                                      </p:cBhvr>
                                      <p:to>
                                        <p:strVal val="visible"/>
                                      </p:to>
                                    </p:set>
                                  </p:childTnLst>
                                </p:cTn>
                              </p:par>
                              <p:par>
                                <p:cTn id="31" nodeType="withEffect" fill="hold" presetClass="emph" presetID="3" presetSubtype="2">
                                  <p:stCondLst>
                                    <p:cond delay="0"/>
                                  </p:stCondLst>
                                  <p:childTnLst>
                                    <p:animClr clrSpc="rgb">
                                      <p:cBhvr>
                                        <p:cTn id="32" dur="2000" fill="hold"/>
                                        <p:tgtEl>
                                          <p:spTgt spid="201">
                                            <p:txEl>
                                              <p:pRg st="3" end="3"/>
                                            </p:txEl>
                                          </p:spTgt>
                                        </p:tgtEl>
                                        <p:attrNameLst>
                                          <p:attrName>style.color</p:attrName>
                                        </p:attrNameLst>
                                      </p:cBhvr>
                                      <p:to>
                                        <a:srgbClr val="ffff00"/>
                                      </p:to>
                                    </p:animClr>
                                  </p:childTnLst>
                                </p:cTn>
                              </p:par>
                              <p:par>
                                <p:cTn id="33" nodeType="withEffect" fill="hold" presetClass="emph" presetID="3" presetSubtype="2">
                                  <p:stCondLst>
                                    <p:cond delay="0"/>
                                  </p:stCondLst>
                                  <p:childTnLst>
                                    <p:animClr clrSpc="rgb">
                                      <p:cBhvr>
                                        <p:cTn id="34" dur="2000" fill="hold"/>
                                        <p:tgtEl>
                                          <p:spTgt spid="201">
                                            <p:txEl>
                                              <p:pRg st="4" end="4"/>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049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ation calculation</a:t>
            </a:r>
            <a:endParaRPr b="1" lang="en-US" sz="3600" spc="-1" strike="noStrike">
              <a:solidFill>
                <a:srgbClr val="ffffff"/>
              </a:solidFill>
              <a:latin typeface="Arial"/>
            </a:endParaRPr>
          </a:p>
        </p:txBody>
      </p:sp>
      <p:sp>
        <p:nvSpPr>
          <p:cNvPr id="203"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centage of the target population utilizing services</a:t>
            </a:r>
            <a:endParaRPr b="0" lang="en-US" sz="2600" spc="-1" strike="noStrike">
              <a:solidFill>
                <a:srgbClr val="ffffff"/>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f individuals in target population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ing a service</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X 100</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f individuals in target population</a:t>
            </a:r>
            <a:endParaRPr b="0" lang="en-US" sz="24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ation calculation: Example</a:t>
            </a:r>
            <a:endParaRPr b="1" lang="en-US" sz="3600" spc="-1" strike="noStrike">
              <a:solidFill>
                <a:srgbClr val="ffffff"/>
              </a:solidFill>
              <a:latin typeface="Arial"/>
            </a:endParaRPr>
          </a:p>
        </p:txBody>
      </p:sp>
      <p:sp>
        <p:nvSpPr>
          <p:cNvPr id="20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of persons educated as of 6/12/09 = 3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al for 12/31/09 = 900</a:t>
            </a:r>
            <a:endParaRPr b="0" lang="en-US" sz="2600" spc="-1" strike="noStrike">
              <a:solidFill>
                <a:srgbClr val="ffffff"/>
              </a:solidFill>
              <a:latin typeface="Arial"/>
            </a:endParaRPr>
          </a:p>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300</a:t>
            </a:r>
            <a:r>
              <a:rPr b="0" lang="en-US" sz="2400" spc="-1" strike="noStrike">
                <a:solidFill>
                  <a:srgbClr val="ffffff"/>
                </a:solidFill>
                <a:latin typeface="Arial"/>
              </a:rPr>
              <a:t> </a:t>
            </a:r>
            <a:endParaRPr b="0" lang="en-US" sz="2400" spc="-1" strike="noStrike">
              <a:solidFill>
                <a:srgbClr val="ffffff"/>
              </a:solidFill>
              <a:latin typeface="Arial"/>
            </a:endParaRPr>
          </a:p>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900</a:t>
            </a:r>
            <a:endParaRPr b="0" lang="en-US" sz="2400" spc="-1" strike="noStrike">
              <a:solidFill>
                <a:srgbClr val="ffffff"/>
              </a:solidFill>
              <a:latin typeface="Arial"/>
            </a:endParaRPr>
          </a:p>
          <a:p>
            <a:pPr lvl="1" marL="45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reached 33% of your target group with education messages </a:t>
            </a:r>
            <a:endParaRPr b="0" lang="en-US" sz="24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6" name="TextBox 3"/>
          <p:cNvSpPr/>
          <p:nvPr/>
        </p:nvSpPr>
        <p:spPr>
          <a:xfrm>
            <a:off x="2533680" y="2806560"/>
            <a:ext cx="2843280" cy="11912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0.33 x 100 = 3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arison of time periods</a:t>
            </a:r>
            <a:endParaRPr b="1" lang="en-US" sz="3600" spc="-1" strike="noStrike">
              <a:solidFill>
                <a:srgbClr val="ffffff"/>
              </a:solidFill>
              <a:latin typeface="Arial"/>
            </a:endParaRPr>
          </a:p>
        </p:txBody>
      </p:sp>
      <p:sp>
        <p:nvSpPr>
          <p:cNvPr id="20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 percentage achieved toward target for  different time periods, different sites, etc.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e of increase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January, 70 people educated; by June, 300 people</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0 – 70 = 230 increase in people educat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30/6 = 38.3 new people educated per month over the 6 month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2: Learning Objectives</a:t>
            </a:r>
            <a:endParaRPr b="1" lang="en-US" sz="3600" spc="-1" strike="noStrike">
              <a:solidFill>
                <a:srgbClr val="ffffff"/>
              </a:solidFill>
              <a:latin typeface="Arial"/>
            </a:endParaRPr>
          </a:p>
        </p:txBody>
      </p:sp>
      <p:sp>
        <p:nvSpPr>
          <p:cNvPr id="172"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pproaches for setting target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common analyses that calculate program coverage and reten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 program coverage and reten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6"/>
          <p:cNvSpPr/>
          <p:nvPr/>
        </p:nvSpPr>
        <p:spPr>
          <a:xfrm>
            <a:off x="878040" y="3436920"/>
            <a:ext cx="3379680" cy="876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10" name="Rectangle 7"/>
          <p:cNvSpPr/>
          <p:nvPr/>
        </p:nvSpPr>
        <p:spPr>
          <a:xfrm>
            <a:off x="912960" y="1319040"/>
            <a:ext cx="3301920" cy="798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a:t>
            </a:r>
            <a:endParaRPr b="0" lang="en-US" sz="2400" spc="-1" strike="noStrike">
              <a:solidFill>
                <a:srgbClr val="ffffff"/>
              </a:solidFill>
              <a:latin typeface="Arial"/>
            </a:endParaRPr>
          </a:p>
        </p:txBody>
      </p:sp>
      <p:sp>
        <p:nvSpPr>
          <p:cNvPr id="211" name="AutoShape 47"/>
          <p:cNvSpPr/>
          <p:nvPr/>
        </p:nvSpPr>
        <p:spPr>
          <a:xfrm>
            <a:off x="1555920" y="2117880"/>
            <a:ext cx="2114280" cy="131904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rge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12" name="AutoShape 48"/>
          <p:cNvSpPr/>
          <p:nvPr/>
        </p:nvSpPr>
        <p:spPr>
          <a:xfrm>
            <a:off x="1895400" y="4313160"/>
            <a:ext cx="1336680" cy="4906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Text Box 6"/>
          <p:cNvSpPr/>
          <p:nvPr/>
        </p:nvSpPr>
        <p:spPr>
          <a:xfrm>
            <a:off x="5334120" y="1549440"/>
            <a:ext cx="3581280" cy="16333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Utilization </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u="sng">
                <a:solidFill>
                  <a:srgbClr val="ffffff"/>
                </a:solidFill>
                <a:uFillTx/>
                <a:latin typeface="Arial"/>
              </a:rPr>
              <a:t>Service users</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rget population</a:t>
            </a:r>
            <a:endParaRPr b="0" lang="en-US" sz="2500" spc="-1" strike="noStrike">
              <a:solidFill>
                <a:srgbClr val="ffffff"/>
              </a:solidFill>
              <a:latin typeface="Arial"/>
            </a:endParaRPr>
          </a:p>
        </p:txBody>
      </p:sp>
      <p:sp>
        <p:nvSpPr>
          <p:cNvPr id="214" name="AutoShape 5"/>
          <p:cNvSpPr/>
          <p:nvPr/>
        </p:nvSpPr>
        <p:spPr>
          <a:xfrm>
            <a:off x="1031760" y="4803840"/>
            <a:ext cx="3162240" cy="7603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Counseled &amp; Tested for HIV (500)</a:t>
            </a:r>
            <a:endParaRPr b="0" lang="en-US" sz="2400" spc="-1" strike="noStrike">
              <a:solidFill>
                <a:srgbClr val="ffffff"/>
              </a:solidFill>
              <a:latin typeface="Arial"/>
            </a:endParaRPr>
          </a:p>
        </p:txBody>
      </p:sp>
      <p:sp>
        <p:nvSpPr>
          <p:cNvPr id="215" name="Rectangle 4"/>
          <p:cNvSpPr/>
          <p:nvPr/>
        </p:nvSpPr>
        <p:spPr>
          <a:xfrm>
            <a:off x="751680" y="558720"/>
            <a:ext cx="688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Utilization</a:t>
            </a:r>
            <a:r>
              <a:rPr b="1" lang="en-US" sz="3600" spc="-1" strike="noStrike">
                <a:solidFill>
                  <a:srgbClr val="ffffff"/>
                </a:solidFill>
                <a:latin typeface="Arial"/>
              </a:rPr>
              <a:t> of PMTCT Programs</a:t>
            </a:r>
            <a:endParaRPr b="0" lang="en-US" sz="3600" spc="-1" strike="noStrike">
              <a:solidFill>
                <a:srgbClr val="ffffff"/>
              </a:solidFill>
              <a:latin typeface="Arial"/>
            </a:endParaRPr>
          </a:p>
        </p:txBody>
      </p:sp>
      <p:sp>
        <p:nvSpPr>
          <p:cNvPr id="216" name="Text Box 6"/>
          <p:cNvSpPr/>
          <p:nvPr/>
        </p:nvSpPr>
        <p:spPr>
          <a:xfrm>
            <a:off x="6006960" y="3875040"/>
            <a:ext cx="3137040" cy="1656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tilization</a:t>
            </a:r>
            <a:r>
              <a:rPr b="1"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600/1,000 = 0.6 </a:t>
            </a:r>
            <a:endParaRPr b="0" lang="en-US" sz="2500" spc="-1" strike="noStrike">
              <a:solidFill>
                <a:srgbClr val="ffffff"/>
              </a:solidFill>
              <a:latin typeface="Arial"/>
            </a:endParaRPr>
          </a:p>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0.6 x 100 = 60%</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1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9600" y="595440"/>
            <a:ext cx="8107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coverage</a:t>
            </a:r>
            <a:endParaRPr b="1" lang="en-US" sz="3600" spc="-1" strike="noStrike">
              <a:solidFill>
                <a:srgbClr val="ffffff"/>
              </a:solidFill>
              <a:latin typeface="Arial"/>
            </a:endParaRPr>
          </a:p>
        </p:txBody>
      </p:sp>
      <p:sp>
        <p:nvSpPr>
          <p:cNvPr id="218" name="PlaceHolder 2"/>
          <p:cNvSpPr>
            <a:spLocks noGrp="1"/>
          </p:cNvSpPr>
          <p:nvPr>
            <p:ph/>
          </p:nvPr>
        </p:nvSpPr>
        <p:spPr>
          <a:xfrm>
            <a:off x="152280" y="1520640"/>
            <a:ext cx="8910720" cy="518148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t to which a program reaches its intended target population, institution, or geographic are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zation:</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target population utilizing services, accessing commodities, being reached with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Availability:</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Are the services available where there is a need?</a:t>
            </a:r>
            <a:endParaRPr b="0" lang="en-US" sz="26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vailability calculation</a:t>
            </a:r>
            <a:endParaRPr b="1" lang="en-US" sz="3600" spc="-1" strike="noStrike">
              <a:solidFill>
                <a:srgbClr val="ffffff"/>
              </a:solidFill>
              <a:latin typeface="Arial"/>
            </a:endParaRPr>
          </a:p>
        </p:txBody>
      </p:sp>
      <p:sp>
        <p:nvSpPr>
          <p:cNvPr id="22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Number of service outlets available per target popul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of clinics with PMTCT per # of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xpressed as a </a:t>
            </a:r>
            <a:r>
              <a:rPr b="1" lang="en-US" sz="2600" spc="-1" strike="noStrike">
                <a:solidFill>
                  <a:srgbClr val="ffffff"/>
                </a:solidFill>
                <a:latin typeface="Arial"/>
                <a:ea typeface="Times New Roman"/>
              </a:rPr>
              <a:t>ratio</a:t>
            </a:r>
            <a:r>
              <a:rPr b="0" lang="en-US" sz="2600" spc="-1" strike="noStrike">
                <a:solidFill>
                  <a:srgbClr val="ffffff"/>
                </a:solidFill>
                <a:latin typeface="Arial"/>
                <a:ea typeface="Times New Roman"/>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PMTCT clinic availability</a:t>
            </a:r>
            <a:endParaRPr b="1" lang="en-US" sz="4000" spc="-1" strike="noStrike">
              <a:solidFill>
                <a:srgbClr val="ffffff"/>
              </a:solidFill>
              <a:latin typeface="Arial"/>
            </a:endParaRPr>
          </a:p>
        </p:txBody>
      </p:sp>
      <p:sp>
        <p:nvSpPr>
          <p:cNvPr id="22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8 clinics offering PMTCT &amp; 100,000 pregnant women in region X.</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o of clinics to pregnant women 8:100,0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o (1:12,500)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ndard recommendation is 1 clinic with PMTCT services per 10,000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linic availability is not reaching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40880" y="274320"/>
            <a:ext cx="7945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vailability + Utilization = Coverage</a:t>
            </a:r>
            <a:endParaRPr b="1" lang="en-US" sz="3600" spc="-1" strike="noStrike">
              <a:solidFill>
                <a:srgbClr val="ffffff"/>
              </a:solidFill>
              <a:latin typeface="Arial"/>
            </a:endParaRPr>
          </a:p>
        </p:txBody>
      </p:sp>
      <p:sp>
        <p:nvSpPr>
          <p:cNvPr id="22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is 1:12,5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a:t>
            </a:r>
            <a:r>
              <a:rPr b="0" lang="en-US" sz="2600" spc="-1" strike="noStrike" u="sng">
                <a:solidFill>
                  <a:srgbClr val="ffffff"/>
                </a:solidFill>
                <a:uFillTx/>
                <a:latin typeface="Arial"/>
              </a:rPr>
              <a:t>target</a:t>
            </a:r>
            <a:r>
              <a:rPr b="0" lang="en-US" sz="2600" spc="-1" strike="noStrike">
                <a:solidFill>
                  <a:srgbClr val="ffffff"/>
                </a:solidFill>
                <a:latin typeface="Arial"/>
              </a:rPr>
              <a:t> is 1:10,0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MTCT service utilization is 25% off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can we conclud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and utilization are too low; the program is not meeting the needs of pregnant wome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A559-3E07-4540-9351-DE631A4FC14C}"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
        <p:nvSpPr>
          <p:cNvPr id="226" name="PlaceHolder 1"/>
          <p:cNvSpPr>
            <a:spLocks noGrp="1"/>
          </p:cNvSpPr>
          <p:nvPr>
            <p:ph type="title"/>
          </p:nvPr>
        </p:nvSpPr>
        <p:spPr>
          <a:xfrm>
            <a:off x="452160" y="426960"/>
            <a:ext cx="8599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retention</a:t>
            </a:r>
            <a:endParaRPr b="1" lang="en-US" sz="3600" spc="-1" strike="noStrike">
              <a:solidFill>
                <a:srgbClr val="ffffff"/>
              </a:solidFill>
              <a:latin typeface="Arial"/>
            </a:endParaRPr>
          </a:p>
        </p:txBody>
      </p:sp>
      <p:sp>
        <p:nvSpPr>
          <p:cNvPr id="227" name="PlaceHolder 2"/>
          <p:cNvSpPr>
            <a:spLocks noGrp="1"/>
          </p:cNvSpPr>
          <p:nvPr>
            <p:ph/>
          </p:nvPr>
        </p:nvSpPr>
        <p:spPr>
          <a:xfrm>
            <a:off x="469440" y="1822320"/>
            <a:ext cx="8386920" cy="5035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if the range of services are being delivered as initially intended</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termines program retention, i.e., is the project keeping clients through entire package of servic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 in clinical programs where drug adherence is an issue (TB, HIV/AIDS, immunization) and there are multiple steps (PMTCT)</a:t>
            </a:r>
            <a:endParaRPr b="0" lang="en-US" sz="24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Oval 4"/>
          <p:cNvSpPr/>
          <p:nvPr/>
        </p:nvSpPr>
        <p:spPr>
          <a:xfrm>
            <a:off x="531720" y="1203480"/>
            <a:ext cx="2686320" cy="1331640"/>
          </a:xfrm>
          <a:prstGeom prst="ellipse">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a58"/>
                </a:solidFill>
                <a:latin typeface="Arial"/>
              </a:rPr>
              <a:t>Utilization</a:t>
            </a:r>
            <a:endParaRPr b="0" lang="en-US" sz="2600" spc="-1" strike="noStrike">
              <a:solidFill>
                <a:srgbClr val="ffffff"/>
              </a:solidFill>
              <a:latin typeface="Arial"/>
            </a:endParaRPr>
          </a:p>
        </p:txBody>
      </p:sp>
      <p:sp>
        <p:nvSpPr>
          <p:cNvPr id="229" name="PlaceHolder 1"/>
          <p:cNvSpPr>
            <a:spLocks noGrp="1"/>
          </p:cNvSpPr>
          <p:nvPr>
            <p:ph type="title"/>
          </p:nvPr>
        </p:nvSpPr>
        <p:spPr>
          <a:xfrm>
            <a:off x="531720" y="217080"/>
            <a:ext cx="816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tention example: Immunization</a:t>
            </a:r>
            <a:endParaRPr b="1" lang="en-US" sz="3600" spc="-1" strike="noStrike">
              <a:solidFill>
                <a:srgbClr val="ffffff"/>
              </a:solidFill>
              <a:latin typeface="Arial"/>
            </a:endParaRPr>
          </a:p>
        </p:txBody>
      </p:sp>
      <p:pic>
        <p:nvPicPr>
          <p:cNvPr id="230" name="Content Placeholder 3" descr=""/>
          <p:cNvPicPr/>
          <p:nvPr/>
        </p:nvPicPr>
        <p:blipFill>
          <a:blip r:embed="rId1"/>
          <a:stretch/>
        </p:blipFill>
        <p:spPr>
          <a:xfrm>
            <a:off x="847800" y="2170080"/>
            <a:ext cx="7521480" cy="3408480"/>
          </a:xfrm>
          <a:prstGeom prst="rect">
            <a:avLst/>
          </a:prstGeom>
          <a:ln w="0">
            <a:noFill/>
          </a:ln>
        </p:spPr>
      </p:pic>
      <p:sp>
        <p:nvSpPr>
          <p:cNvPr id="231" name="Oval 5"/>
          <p:cNvSpPr/>
          <p:nvPr/>
        </p:nvSpPr>
        <p:spPr>
          <a:xfrm>
            <a:off x="5979960" y="1203480"/>
            <a:ext cx="2927520" cy="1331640"/>
          </a:xfrm>
          <a:prstGeom prst="ellipse">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a58"/>
                </a:solidFill>
                <a:latin typeface="Arial"/>
              </a:rPr>
              <a:t>Completion</a:t>
            </a:r>
            <a:endParaRPr b="0" lang="en-US" sz="2600" spc="-1" strike="noStrike">
              <a:solidFill>
                <a:srgbClr val="ffffff"/>
              </a:solidFill>
              <a:latin typeface="Arial"/>
            </a:endParaRPr>
          </a:p>
        </p:txBody>
      </p:sp>
      <p:cxnSp>
        <p:nvCxnSpPr>
          <p:cNvPr id="232" name="Straight Arrow Connector 7"/>
          <p:cNvCxnSpPr/>
          <p:nvPr/>
        </p:nvCxnSpPr>
        <p:spPr>
          <a:xfrm>
            <a:off x="1874520" y="2534760"/>
            <a:ext cx="1080" cy="624600"/>
          </a:xfrm>
          <a:prstGeom prst="straightConnector1">
            <a:avLst/>
          </a:prstGeom>
          <a:ln w="50760">
            <a:solidFill>
              <a:srgbClr val="ff0000"/>
            </a:solidFill>
            <a:miter/>
            <a:tailEnd len="med" type="arrow" w="med"/>
          </a:ln>
        </p:spPr>
      </p:cxnSp>
      <p:cxnSp>
        <p:nvCxnSpPr>
          <p:cNvPr id="233" name="Straight Arrow Connector 9"/>
          <p:cNvCxnSpPr/>
          <p:nvPr/>
        </p:nvCxnSpPr>
        <p:spPr>
          <a:xfrm>
            <a:off x="7443360" y="2534760"/>
            <a:ext cx="1080" cy="624600"/>
          </a:xfrm>
          <a:prstGeom prst="straightConnector1">
            <a:avLst/>
          </a:prstGeom>
          <a:ln w="507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35"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36"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37"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38"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9" name="Group 5"/>
          <p:cNvGrpSpPr/>
          <p:nvPr/>
        </p:nvGrpSpPr>
        <p:grpSpPr>
          <a:xfrm>
            <a:off x="981000" y="3138480"/>
            <a:ext cx="7813800" cy="2471760"/>
            <a:chOff x="981000" y="3138480"/>
            <a:chExt cx="7813800" cy="2471760"/>
          </a:xfrm>
        </p:grpSpPr>
        <p:cxnSp>
          <p:nvCxnSpPr>
            <p:cNvPr id="240" name="Straight Arrow Connector 11"/>
            <p:cNvCxnSpPr/>
            <p:nvPr/>
          </p:nvCxnSpPr>
          <p:spPr>
            <a:xfrm>
              <a:off x="4898520" y="4897080"/>
              <a:ext cx="950040" cy="1080"/>
            </a:xfrm>
            <a:prstGeom prst="straightConnector1">
              <a:avLst/>
            </a:prstGeom>
            <a:ln w="25560">
              <a:solidFill>
                <a:srgbClr val="d6fffe"/>
              </a:solidFill>
              <a:miter/>
              <a:tailEnd len="med" type="arrow" w="med"/>
            </a:ln>
          </p:spPr>
        </p:cxnSp>
        <p:sp>
          <p:nvSpPr>
            <p:cNvPr id="241"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42"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243"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244"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arrow" w="med"/>
            </a:ln>
          </p:spPr>
        </p:cxnSp>
        <p:sp>
          <p:nvSpPr>
            <p:cNvPr id="245"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46" name="Straight Arrow Connector 18"/>
            <p:cNvCxnSpPr/>
            <p:nvPr/>
          </p:nvCxnSpPr>
          <p:spPr>
            <a:xfrm flipH="1">
              <a:off x="3687840" y="5200560"/>
              <a:ext cx="2161080" cy="1080"/>
            </a:xfrm>
            <a:prstGeom prst="straightConnector1">
              <a:avLst/>
            </a:prstGeom>
            <a:ln w="25560">
              <a:solidFill>
                <a:srgbClr val="ffc000"/>
              </a:solidFill>
              <a:miter/>
              <a:tailEnd len="med" type="arrow" w="med"/>
            </a:ln>
          </p:spPr>
        </p:cxnSp>
      </p:grpSp>
      <p:sp>
        <p:nvSpPr>
          <p:cNvPr id="247" name="Text Box 6"/>
          <p:cNvSpPr/>
          <p:nvPr/>
        </p:nvSpPr>
        <p:spPr>
          <a:xfrm>
            <a:off x="4317840" y="647640"/>
            <a:ext cx="46879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AutoShape 5"/>
          <p:cNvSpPr/>
          <p:nvPr/>
        </p:nvSpPr>
        <p:spPr>
          <a:xfrm>
            <a:off x="873000" y="3689280"/>
            <a:ext cx="3162600" cy="7603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a:t>
            </a:r>
            <a:endParaRPr b="0" lang="en-US" sz="2400" spc="-1" strike="noStrike">
              <a:solidFill>
                <a:srgbClr val="ffffff"/>
              </a:solidFill>
              <a:latin typeface="Arial"/>
            </a:endParaRPr>
          </a:p>
        </p:txBody>
      </p:sp>
      <p:sp>
        <p:nvSpPr>
          <p:cNvPr id="249" name="AutoShape 6"/>
          <p:cNvSpPr/>
          <p:nvPr/>
        </p:nvSpPr>
        <p:spPr>
          <a:xfrm>
            <a:off x="907920" y="2046240"/>
            <a:ext cx="3380040" cy="6876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a:t>
            </a:r>
            <a:endParaRPr b="0" lang="en-US" sz="2400" spc="-1" strike="noStrike">
              <a:solidFill>
                <a:srgbClr val="ffffff"/>
              </a:solidFill>
              <a:latin typeface="Arial"/>
            </a:endParaRPr>
          </a:p>
        </p:txBody>
      </p:sp>
      <p:sp>
        <p:nvSpPr>
          <p:cNvPr id="250" name="Rectangle 7"/>
          <p:cNvSpPr/>
          <p:nvPr/>
        </p:nvSpPr>
        <p:spPr>
          <a:xfrm>
            <a:off x="932040" y="200160"/>
            <a:ext cx="3301920" cy="658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51" name="Rectangle 8"/>
          <p:cNvSpPr/>
          <p:nvPr/>
        </p:nvSpPr>
        <p:spPr>
          <a:xfrm>
            <a:off x="1101600" y="4745160"/>
            <a:ext cx="2706840" cy="81900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52" name="AutoShape 39"/>
          <p:cNvSpPr/>
          <p:nvPr/>
        </p:nvSpPr>
        <p:spPr>
          <a:xfrm>
            <a:off x="5935680" y="28828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a:t>
            </a:r>
            <a:endParaRPr b="0" lang="en-US" sz="2400" spc="-1" strike="noStrike">
              <a:solidFill>
                <a:srgbClr val="ffffff"/>
              </a:solidFill>
              <a:latin typeface="Arial"/>
            </a:endParaRPr>
          </a:p>
        </p:txBody>
      </p:sp>
      <p:sp>
        <p:nvSpPr>
          <p:cNvPr id="253" name="AutoShape 40"/>
          <p:cNvSpPr/>
          <p:nvPr/>
        </p:nvSpPr>
        <p:spPr>
          <a:xfrm>
            <a:off x="5935680" y="4014720"/>
            <a:ext cx="2979720" cy="8701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sp>
        <p:nvSpPr>
          <p:cNvPr id="254" name="AutoShape 47"/>
          <p:cNvSpPr/>
          <p:nvPr/>
        </p:nvSpPr>
        <p:spPr>
          <a:xfrm>
            <a:off x="1679400" y="873000"/>
            <a:ext cx="1785960" cy="114624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55" name="AutoShape 48"/>
          <p:cNvSpPr/>
          <p:nvPr/>
        </p:nvSpPr>
        <p:spPr>
          <a:xfrm>
            <a:off x="1933560" y="2817720"/>
            <a:ext cx="1336680" cy="87156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500</a:t>
            </a:r>
            <a:endParaRPr b="0" lang="en-US" sz="2400" spc="-1" strike="noStrike">
              <a:solidFill>
                <a:srgbClr val="ffffff"/>
              </a:solidFill>
              <a:latin typeface="Arial"/>
            </a:endParaRPr>
          </a:p>
        </p:txBody>
      </p:sp>
      <p:sp>
        <p:nvSpPr>
          <p:cNvPr id="256" name="Text Box 6"/>
          <p:cNvSpPr/>
          <p:nvPr/>
        </p:nvSpPr>
        <p:spPr>
          <a:xfrm>
            <a:off x="4548240" y="34308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cxnSp>
        <p:nvCxnSpPr>
          <p:cNvPr id="257" name="Elbow Connector 2"/>
          <p:cNvCxnSpPr>
            <a:stCxn id="248" idx="3"/>
          </p:cNvCxnSpPr>
          <p:nvPr/>
        </p:nvCxnSpPr>
        <p:spPr>
          <a:xfrm flipV="1">
            <a:off x="4035600" y="3552120"/>
            <a:ext cx="1900800" cy="516600"/>
          </a:xfrm>
          <a:prstGeom prst="bentConnector3">
            <a:avLst>
              <a:gd name="adj1" fmla="val 49990"/>
            </a:avLst>
          </a:prstGeom>
          <a:ln w="25560">
            <a:solidFill>
              <a:srgbClr val="d6fffe"/>
            </a:solidFill>
            <a:miter/>
            <a:tailEnd len="med" type="arrow" w="med"/>
          </a:ln>
        </p:spPr>
      </p:cxnSp>
      <p:sp>
        <p:nvSpPr>
          <p:cNvPr id="258" name="Straight Connector 9"/>
          <p:cNvSpPr/>
          <p:nvPr/>
        </p:nvSpPr>
        <p:spPr>
          <a:xfrm>
            <a:off x="4986360" y="4068720"/>
            <a:ext cx="0" cy="53820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59" name="Straight Arrow Connector 11"/>
          <p:cNvCxnSpPr/>
          <p:nvPr/>
        </p:nvCxnSpPr>
        <p:spPr>
          <a:xfrm>
            <a:off x="4986000" y="4606560"/>
            <a:ext cx="950040" cy="1080"/>
          </a:xfrm>
          <a:prstGeom prst="straightConnector1">
            <a:avLst/>
          </a:prstGeom>
          <a:ln w="25560">
            <a:solidFill>
              <a:srgbClr val="d6fffe"/>
            </a:solidFill>
            <a:miter/>
            <a:tailEnd len="med" type="arrow" w="med"/>
          </a:ln>
        </p:spPr>
      </p:cxnSp>
      <p:sp>
        <p:nvSpPr>
          <p:cNvPr id="260" name="Straight Connector 16"/>
          <p:cNvSpPr/>
          <p:nvPr/>
        </p:nvSpPr>
        <p:spPr>
          <a:xfrm>
            <a:off x="7424640" y="4884840"/>
            <a:ext cx="0" cy="26964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61" name="Straight Arrow Connector 18"/>
          <p:cNvCxnSpPr>
            <a:endCxn id="251" idx="3"/>
          </p:cNvCxnSpPr>
          <p:nvPr/>
        </p:nvCxnSpPr>
        <p:spPr>
          <a:xfrm flipH="1">
            <a:off x="3807720" y="5154120"/>
            <a:ext cx="3616920" cy="1080"/>
          </a:xfrm>
          <a:prstGeom prst="straightConnector1">
            <a:avLst/>
          </a:prstGeom>
          <a:ln w="25560">
            <a:solidFill>
              <a:srgbClr val="ffc000"/>
            </a:solidFill>
            <a:miter/>
            <a:tailEnd len="med" type="arrow" w="med"/>
          </a:ln>
        </p:spPr>
      </p:cxnSp>
      <p:sp>
        <p:nvSpPr>
          <p:cNvPr id="262" name="Oval 1"/>
          <p:cNvSpPr/>
          <p:nvPr/>
        </p:nvSpPr>
        <p:spPr>
          <a:xfrm rot="21184200">
            <a:off x="891720" y="3906360"/>
            <a:ext cx="8088480" cy="1676520"/>
          </a:xfrm>
          <a:prstGeom prst="ellipse">
            <a:avLst/>
          </a:prstGeom>
          <a:noFill/>
          <a:ln w="38160">
            <a:solidFill>
              <a:srgbClr val="e531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64"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65"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66"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67"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5"/>
          <p:cNvGrpSpPr/>
          <p:nvPr/>
        </p:nvGrpSpPr>
        <p:grpSpPr>
          <a:xfrm>
            <a:off x="981000" y="3138480"/>
            <a:ext cx="7813800" cy="2471760"/>
            <a:chOff x="981000" y="3138480"/>
            <a:chExt cx="7813800" cy="2471760"/>
          </a:xfrm>
        </p:grpSpPr>
        <p:cxnSp>
          <p:nvCxnSpPr>
            <p:cNvPr id="269" name="Straight Arrow Connector 11"/>
            <p:cNvCxnSpPr/>
            <p:nvPr/>
          </p:nvCxnSpPr>
          <p:spPr>
            <a:xfrm>
              <a:off x="4898520" y="4897080"/>
              <a:ext cx="950040" cy="1080"/>
            </a:xfrm>
            <a:prstGeom prst="straightConnector1">
              <a:avLst/>
            </a:prstGeom>
            <a:ln w="25560">
              <a:solidFill>
                <a:srgbClr val="d6fffe"/>
              </a:solidFill>
              <a:miter/>
              <a:tailEnd len="med" type="arrow" w="med"/>
            </a:ln>
          </p:spPr>
        </p:cxnSp>
        <p:sp>
          <p:nvSpPr>
            <p:cNvPr id="270"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71"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a:t>
              </a:r>
              <a:endParaRPr b="0" lang="en-US" sz="2400" spc="-1" strike="noStrike">
                <a:solidFill>
                  <a:srgbClr val="ffffff"/>
                </a:solidFill>
                <a:latin typeface="Arial"/>
              </a:endParaRPr>
            </a:p>
          </p:txBody>
        </p:sp>
        <p:sp>
          <p:nvSpPr>
            <p:cNvPr id="272"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273"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arrow" w="med"/>
            </a:ln>
          </p:spPr>
        </p:cxnSp>
        <p:sp>
          <p:nvSpPr>
            <p:cNvPr id="274"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75" name="Straight Arrow Connector 18"/>
            <p:cNvCxnSpPr/>
            <p:nvPr/>
          </p:nvCxnSpPr>
          <p:spPr>
            <a:xfrm flipH="1">
              <a:off x="3687840" y="5200560"/>
              <a:ext cx="2161080" cy="1080"/>
            </a:xfrm>
            <a:prstGeom prst="straightConnector1">
              <a:avLst/>
            </a:prstGeom>
            <a:ln w="25560">
              <a:solidFill>
                <a:srgbClr val="ffc000"/>
              </a:solidFill>
              <a:miter/>
              <a:tailEnd len="med" type="arrow" w="med"/>
            </a:ln>
          </p:spPr>
        </p:cxnSp>
      </p:grpSp>
      <p:sp>
        <p:nvSpPr>
          <p:cNvPr id="276"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
        <p:nvSpPr>
          <p:cNvPr id="277" name="Oval 1"/>
          <p:cNvSpPr/>
          <p:nvPr/>
        </p:nvSpPr>
        <p:spPr>
          <a:xfrm>
            <a:off x="853920" y="3086280"/>
            <a:ext cx="8267760" cy="233496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rminology</a:t>
            </a:r>
            <a:endParaRPr b="1" lang="en-US" sz="3600" spc="-1" strike="noStrike">
              <a:solidFill>
                <a:srgbClr val="ffffff"/>
              </a:solidFill>
              <a:latin typeface="Arial"/>
            </a:endParaRPr>
          </a:p>
        </p:txBody>
      </p:sp>
      <p:sp>
        <p:nvSpPr>
          <p:cNvPr id="174" name=""/>
          <p:cNvSpPr txBox="1"/>
          <p:nvPr/>
        </p:nvSpPr>
        <p:spPr>
          <a:xfrm>
            <a:off x="923760" y="1599840"/>
            <a:ext cx="7763040" cy="396252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or</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coverage</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 availability</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 utilization</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reten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79"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80"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81"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82"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3" name="Group 5"/>
          <p:cNvGrpSpPr/>
          <p:nvPr/>
        </p:nvGrpSpPr>
        <p:grpSpPr>
          <a:xfrm>
            <a:off x="981000" y="3138480"/>
            <a:ext cx="7813800" cy="2471760"/>
            <a:chOff x="981000" y="3138480"/>
            <a:chExt cx="7813800" cy="2471760"/>
          </a:xfrm>
        </p:grpSpPr>
        <p:cxnSp>
          <p:nvCxnSpPr>
            <p:cNvPr id="284" name="Straight Arrow Connector 11"/>
            <p:cNvCxnSpPr/>
            <p:nvPr/>
          </p:nvCxnSpPr>
          <p:spPr>
            <a:xfrm>
              <a:off x="4898520" y="4897080"/>
              <a:ext cx="950040" cy="1080"/>
            </a:xfrm>
            <a:prstGeom prst="straightConnector1">
              <a:avLst/>
            </a:prstGeom>
            <a:ln w="25560">
              <a:solidFill>
                <a:srgbClr val="d6fffe"/>
              </a:solidFill>
              <a:miter/>
              <a:tailEnd len="med" type="arrow" w="med"/>
            </a:ln>
          </p:spPr>
        </p:cxnSp>
        <p:sp>
          <p:nvSpPr>
            <p:cNvPr id="285"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86"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287"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288"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arrow" w="med"/>
            </a:ln>
          </p:spPr>
        </p:cxnSp>
        <p:sp>
          <p:nvSpPr>
            <p:cNvPr id="289"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90" name="Straight Arrow Connector 18"/>
            <p:cNvCxnSpPr/>
            <p:nvPr/>
          </p:nvCxnSpPr>
          <p:spPr>
            <a:xfrm flipH="1">
              <a:off x="3687840" y="5200560"/>
              <a:ext cx="2161080" cy="1080"/>
            </a:xfrm>
            <a:prstGeom prst="straightConnector1">
              <a:avLst/>
            </a:prstGeom>
            <a:ln w="25560">
              <a:solidFill>
                <a:srgbClr val="ffc000"/>
              </a:solidFill>
              <a:miter/>
              <a:tailEnd len="med" type="arrow" w="med"/>
            </a:ln>
          </p:spPr>
        </p:cxnSp>
      </p:grpSp>
      <p:sp>
        <p:nvSpPr>
          <p:cNvPr id="291"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 </a:t>
            </a:r>
            <a:endParaRPr b="0" lang="en-US" sz="2600" spc="-1" strike="noStrike">
              <a:solidFill>
                <a:srgbClr val="ffffff"/>
              </a:solidFill>
              <a:latin typeface="Arial"/>
            </a:endParaRPr>
          </a:p>
        </p:txBody>
      </p:sp>
      <p:sp>
        <p:nvSpPr>
          <p:cNvPr id="292" name="Oval 1"/>
          <p:cNvSpPr/>
          <p:nvPr/>
        </p:nvSpPr>
        <p:spPr>
          <a:xfrm>
            <a:off x="320760" y="2276640"/>
            <a:ext cx="4305240" cy="251460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94"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95"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96"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97"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8" name="Group 5"/>
          <p:cNvGrpSpPr/>
          <p:nvPr/>
        </p:nvGrpSpPr>
        <p:grpSpPr>
          <a:xfrm>
            <a:off x="981000" y="3138480"/>
            <a:ext cx="7813800" cy="2471760"/>
            <a:chOff x="981000" y="3138480"/>
            <a:chExt cx="7813800" cy="2471760"/>
          </a:xfrm>
        </p:grpSpPr>
        <p:cxnSp>
          <p:nvCxnSpPr>
            <p:cNvPr id="299" name="Straight Arrow Connector 11"/>
            <p:cNvCxnSpPr/>
            <p:nvPr/>
          </p:nvCxnSpPr>
          <p:spPr>
            <a:xfrm>
              <a:off x="4898520" y="4897080"/>
              <a:ext cx="950040" cy="1080"/>
            </a:xfrm>
            <a:prstGeom prst="straightConnector1">
              <a:avLst/>
            </a:prstGeom>
            <a:ln w="25560">
              <a:solidFill>
                <a:srgbClr val="d6fffe"/>
              </a:solidFill>
              <a:miter/>
              <a:tailEnd len="med" type="arrow" w="med"/>
            </a:ln>
          </p:spPr>
        </p:cxnSp>
        <p:sp>
          <p:nvSpPr>
            <p:cNvPr id="300"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301"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302"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303"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arrow" w="med"/>
            </a:ln>
          </p:spPr>
        </p:cxnSp>
        <p:sp>
          <p:nvSpPr>
            <p:cNvPr id="304"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05" name="Straight Arrow Connector 18"/>
            <p:cNvCxnSpPr/>
            <p:nvPr/>
          </p:nvCxnSpPr>
          <p:spPr>
            <a:xfrm flipH="1">
              <a:off x="3687840" y="5200560"/>
              <a:ext cx="2161080" cy="1080"/>
            </a:xfrm>
            <a:prstGeom prst="straightConnector1">
              <a:avLst/>
            </a:prstGeom>
            <a:ln w="25560">
              <a:solidFill>
                <a:srgbClr val="ffc000"/>
              </a:solidFill>
              <a:miter/>
              <a:tailEnd len="med" type="arrow" w="med"/>
            </a:ln>
          </p:spPr>
        </p:cxnSp>
      </p:grpSp>
      <p:sp>
        <p:nvSpPr>
          <p:cNvPr id="306"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
        <p:nvSpPr>
          <p:cNvPr id="307" name="Oval 1"/>
          <p:cNvSpPr/>
          <p:nvPr/>
        </p:nvSpPr>
        <p:spPr>
          <a:xfrm>
            <a:off x="336600" y="1308240"/>
            <a:ext cx="4305240" cy="251460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309" name=""/>
          <p:cNvSpPr txBox="1"/>
          <p:nvPr/>
        </p:nvSpPr>
        <p:spPr>
          <a:xfrm>
            <a:off x="955440" y="1459080"/>
            <a:ext cx="7762680" cy="3962160"/>
          </a:xfrm>
          <a:prstGeom prst="rect">
            <a:avLst/>
          </a:prstGeom>
          <a:noFill/>
          <a:ln w="0">
            <a:noFill/>
          </a:ln>
        </p:spPr>
        <p:txBody>
          <a:bodyPr anchor="t">
            <a:normAutofit fontScale="93000"/>
          </a:bodyPr>
          <a:p>
            <a:pPr marL="318960" indent="-318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Target Setting</a:t>
            </a:r>
            <a:r>
              <a:rPr b="0" lang="en-US" sz="2600" spc="-1" strike="noStrike">
                <a:solidFill>
                  <a:srgbClr val="ffffff"/>
                </a:solidFill>
                <a:latin typeface="Arial"/>
              </a:rPr>
              <a:t> – </a:t>
            </a:r>
            <a:r>
              <a:rPr b="0" lang="en-US" sz="2400" spc="-1" strike="noStrike">
                <a:solidFill>
                  <a:srgbClr val="ffffff"/>
                </a:solidFill>
                <a:latin typeface="Arial"/>
              </a:rPr>
              <a:t>A specified level of performance for a measure (indicator) at a predetermined point in time. Both overall and annual targets are set</a:t>
            </a:r>
            <a:endParaRPr b="0" lang="en-US" sz="2400" spc="-1" strike="noStrike">
              <a:solidFill>
                <a:srgbClr val="ffffff"/>
              </a:solidFill>
              <a:latin typeface="Arial"/>
            </a:endParaRPr>
          </a:p>
          <a:p>
            <a:pPr marL="318960" indent="-3189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Coverage</a:t>
            </a:r>
            <a:r>
              <a:rPr b="0" lang="en-US" sz="2600" spc="-1" strike="noStrike">
                <a:solidFill>
                  <a:srgbClr val="ffffff"/>
                </a:solidFill>
                <a:latin typeface="Arial"/>
              </a:rPr>
              <a:t> – extent to which a program reaches its intended target population, institution, or geographic area</a:t>
            </a:r>
            <a:endParaRPr b="0" lang="en-US" sz="2600" spc="-1" strike="noStrike">
              <a:solidFill>
                <a:srgbClr val="ffffff"/>
              </a:solidFill>
              <a:latin typeface="Arial"/>
            </a:endParaRPr>
          </a:p>
          <a:p>
            <a:pPr marL="318960" indent="-3189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Retention</a:t>
            </a:r>
            <a:r>
              <a:rPr b="0" lang="en-US" sz="2600" spc="-1" strike="noStrike">
                <a:solidFill>
                  <a:srgbClr val="ffffff"/>
                </a:solidFill>
                <a:latin typeface="Arial"/>
              </a:rPr>
              <a:t> – the extent to which the range of services are being delivered as initially intended, with clients retained throughout the full package of services</a:t>
            </a:r>
            <a:endParaRPr b="0" lang="en-US" sz="2600" spc="-1" strike="noStrike">
              <a:solidFill>
                <a:srgbClr val="ffffff"/>
              </a:solidFill>
              <a:latin typeface="Arial"/>
            </a:endParaRPr>
          </a:p>
          <a:p>
            <a:pPr marL="318960" indent="-31896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cator</a:t>
            </a:r>
            <a:endParaRPr b="1" lang="en-US" sz="3600" spc="-1" strike="noStrike">
              <a:solidFill>
                <a:srgbClr val="ffffff"/>
              </a:solidFill>
              <a:latin typeface="Arial"/>
            </a:endParaRPr>
          </a:p>
        </p:txBody>
      </p:sp>
      <p:sp>
        <p:nvSpPr>
          <p:cNvPr id="17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element that needs trac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n aspect of a program’s performanc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changes over a period of tim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f new family planning use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f clients currently on ART </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ressed as a number or percenta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rget Definition</a:t>
            </a:r>
            <a:endParaRPr b="1" lang="en-US" sz="3600" spc="-1" strike="noStrike">
              <a:solidFill>
                <a:srgbClr val="ffffff"/>
              </a:solidFill>
              <a:latin typeface="Arial"/>
            </a:endParaRPr>
          </a:p>
        </p:txBody>
      </p:sp>
      <p:sp>
        <p:nvSpPr>
          <p:cNvPr id="178" name=""/>
          <p:cNvSpPr txBox="1"/>
          <p:nvPr/>
        </p:nvSpPr>
        <p:spPr>
          <a:xfrm>
            <a:off x="923760" y="164736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0000"/>
                </a:solidFill>
                <a:latin typeface="Arial"/>
              </a:rPr>
              <a:t>specified level of performance</a:t>
            </a:r>
            <a:r>
              <a:rPr b="0" lang="en-US" sz="3200" spc="-1" strike="noStrike">
                <a:solidFill>
                  <a:srgbClr val="ffffff"/>
                </a:solidFill>
                <a:latin typeface="Arial"/>
              </a:rPr>
              <a:t> for a measure (indicator), at a predetermined point in time (i.e., achieve ‘x’ by ‘y’ date) </a:t>
            </a:r>
            <a:endParaRPr b="0" lang="en-US" sz="3200" spc="-1" strike="noStrike">
              <a:solidFill>
                <a:srgbClr val="ffffff"/>
              </a:solidFill>
              <a:latin typeface="Arial"/>
            </a:endParaRPr>
          </a:p>
          <a:p>
            <a:pPr lvl="1" marL="743040" indent="-28584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arget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targets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Set Targets?</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s help program staff with:</a:t>
            </a:r>
            <a:endParaRPr b="0" lang="en-US" sz="3200" spc="-1" strike="noStrike">
              <a:solidFill>
                <a:srgbClr val="ffffff"/>
              </a:solidFill>
              <a:latin typeface="Arial"/>
            </a:endParaRPr>
          </a:p>
          <a:p>
            <a:pPr lvl="1" marL="743040" indent="-28584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a:t>
            </a:r>
            <a:endParaRPr b="0" lang="en-US" sz="28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ing and service delivery</a:t>
            </a:r>
            <a:endParaRPr b="0" lang="en-US" sz="24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dities</a:t>
            </a:r>
            <a:endParaRPr b="0" lang="en-US" sz="2400" spc="-1" strike="noStrike">
              <a:solidFill>
                <a:srgbClr val="ffffff"/>
              </a:solidFill>
              <a:latin typeface="Arial"/>
            </a:endParaRPr>
          </a:p>
          <a:p>
            <a:pPr lvl="1" marL="743040" indent="-28584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rogress </a:t>
            </a:r>
            <a:endParaRPr b="0" lang="en-US" sz="28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 long-term goals into manageable pieces </a:t>
            </a:r>
            <a:endParaRPr b="0" lang="en-US" sz="24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progress on indicators</a:t>
            </a:r>
            <a:endParaRPr b="0" lang="en-US" sz="24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92080" y="463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tting Reasonable Targets</a:t>
            </a:r>
            <a:br>
              <a:rPr sz="3200"/>
            </a:br>
            <a:endParaRPr b="1" lang="en-US" sz="4000" spc="-1" strike="noStrike">
              <a:solidFill>
                <a:srgbClr val="ffffff"/>
              </a:solidFill>
              <a:latin typeface="Arial"/>
            </a:endParaRPr>
          </a:p>
        </p:txBody>
      </p:sp>
      <p:sp>
        <p:nvSpPr>
          <p:cNvPr id="182" name=""/>
          <p:cNvSpPr txBox="1"/>
          <p:nvPr/>
        </p:nvSpPr>
        <p:spPr>
          <a:xfrm>
            <a:off x="866520" y="1295280"/>
            <a:ext cx="8124840" cy="4525920"/>
          </a:xfrm>
          <a:prstGeom prst="rect">
            <a:avLst/>
          </a:prstGeom>
          <a:noFill/>
          <a:ln w="0">
            <a:noFill/>
          </a:ln>
        </p:spPr>
        <p:txBody>
          <a:bodyPr anchor="t">
            <a:normAutofit/>
          </a:bodyPr>
          <a:p>
            <a:pPr marL="343080" indent="-343080">
              <a:lnSpc>
                <a:spcPct val="9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nge of values for a given indicator can be from 0% to 100%. </a:t>
            </a:r>
            <a:endParaRPr b="0" lang="en-US" sz="3200" spc="-1" strike="noStrike">
              <a:solidFill>
                <a:srgbClr val="ffffff"/>
              </a:solidFill>
              <a:latin typeface="Arial"/>
            </a:endParaRPr>
          </a:p>
          <a:p>
            <a:pPr lvl="1" marL="743040" indent="-285840">
              <a:lnSpc>
                <a:spcPct val="90000"/>
              </a:lnSpc>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he theoretical range for the Polio indicator is between 0% of children immunized (bad) and 100% immunized (ideal)</a:t>
            </a:r>
            <a:endParaRPr b="0" lang="en-US" sz="2800" spc="-1" strike="noStrike">
              <a:solidFill>
                <a:srgbClr val="fffff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appropriate to set the Polio indicator target at 100% for a given program? Why/why no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tting Reasonable Targets</a:t>
            </a:r>
            <a:endParaRPr b="1" lang="en-US" sz="4000" spc="-1" strike="noStrike">
              <a:solidFill>
                <a:srgbClr val="ffffff"/>
              </a:solidFill>
              <a:latin typeface="Arial"/>
            </a:endParaRPr>
          </a:p>
        </p:txBody>
      </p:sp>
      <p:sp>
        <p:nvSpPr>
          <p:cNvPr id="184" name=""/>
          <p:cNvSpPr txBox="1"/>
          <p:nvPr/>
        </p:nvSpPr>
        <p:spPr>
          <a:xfrm>
            <a:off x="923760" y="1599840"/>
            <a:ext cx="7763040" cy="3962520"/>
          </a:xfrm>
          <a:prstGeom prst="rect">
            <a:avLst/>
          </a:prstGeom>
          <a:noFill/>
          <a:ln w="0">
            <a:noFill/>
          </a:ln>
        </p:spPr>
        <p:txBody>
          <a:bodyPr anchor="t">
            <a:normAutofit/>
          </a:bodyPr>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 Somalia, the national CPR from 2007 to 2009 was15%. The following year, a national target was set for 70%.</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appropriate to set the CPR target for Somalia at 70%? Why/why not?</a:t>
            </a:r>
            <a:endParaRPr b="0" lang="en-US" sz="2800" spc="-1" strike="noStrike">
              <a:solidFill>
                <a:srgbClr val="ffffff"/>
              </a:solidFill>
              <a:latin typeface="Arial"/>
            </a:endParaRPr>
          </a:p>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all Target Setting Approaches</a:t>
            </a:r>
            <a:endParaRPr b="1" lang="en-US" sz="3600" spc="-1" strike="noStrike">
              <a:solidFill>
                <a:srgbClr val="ffffff"/>
              </a:solidFill>
              <a:latin typeface="Arial"/>
            </a:endParaRPr>
          </a:p>
        </p:txBody>
      </p:sp>
      <p:sp>
        <p:nvSpPr>
          <p:cNvPr id="186" name=""/>
          <p:cNvSpPr txBox="1"/>
          <p:nvPr/>
        </p:nvSpPr>
        <p:spPr>
          <a:xfrm>
            <a:off x="930240" y="1294920"/>
            <a:ext cx="7756560" cy="483084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hree approaches to set a target :</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long-term goals by contacting that national program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performance (of your program, increasing by no more than 10%)</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high performer (a stellar program nearby)</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sider the number of clients your program can realistically expect to serve during a given period of time</a:t>
            </a:r>
            <a:endParaRPr b="0" lang="en-US" sz="2400" spc="-1" strike="noStrike">
              <a:solidFill>
                <a:srgbClr val="ffffff"/>
              </a:solidFill>
              <a:latin typeface="Arial"/>
            </a:endParaRPr>
          </a:p>
          <a:p>
            <a:pPr lvl="1" marL="743040" indent="-2858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5-03T18:12:05Z</dcterms:modified>
  <cp:revision>496</cp:revision>
  <dc:subject/>
  <dc:title>Slide 1</dc:title>
</cp:coreProperties>
</file>