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0C10-36BA-430B-BCB7-5C8A971EA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5818-3C83-4511-BC3C-74E4E54E75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come to the end of the training on Introduction to Basic Data Analysis and Interpretation for Health Programs. Before we conclude, let’s review the key themes from each modu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te to facilitator: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14FA-E702-449D-8A1A-C3D6B184F8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te to facilitator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E374-2020-443A-9089-F6038CB8FC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te to facilitator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1DDE-4AA6-46F8-8340-4E56A92DD5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52783-F8DF-46D1-9D1A-910B4520D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9C8F-302C-4ADA-9A20-4B25819CE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76D19-E51B-4A3C-9450-7E6BE5B27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852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328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2376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852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328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BAFF5-2C1E-48EE-956F-E9ADBF5F69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23760" y="274320"/>
            <a:ext cx="7763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19994-7397-4CBE-9483-703E9F5B5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4852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7328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2376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4852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7328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61EAB-2219-4242-9159-C329477711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23760" y="274320"/>
            <a:ext cx="7763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4852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7328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2376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4852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7328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B07C-3A5C-4586-A9DF-F730081B5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E2E87-EADF-43C0-98CD-DB8B40C20B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23760" y="274320"/>
            <a:ext cx="7763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C1AB-61A4-4C51-BFBA-75925F849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3BF22-F543-4CC4-97C2-E96F7FEF1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405C-E0F9-4C35-9E29-FBF36E505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529F6-61BB-4C23-A7BA-723DEE188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228240" y="612432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CC25-C20E-4DE6-B0F5-B7E563EAD7D9}" type="slidenum">
              <a:rPr b="1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1270080" y="6477120"/>
            <a:ext cx="756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85800" y="6095520"/>
            <a:ext cx="4191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8" descr="Vertical_RGB_600"/>
          <p:cNvPicPr/>
          <p:nvPr/>
        </p:nvPicPr>
        <p:blipFill>
          <a:blip r:embed="rId2"/>
          <a:stretch/>
        </p:blipFill>
        <p:spPr>
          <a:xfrm>
            <a:off x="6580080" y="5829480"/>
            <a:ext cx="1116000" cy="9144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logo_2004"/>
          <p:cNvPicPr/>
          <p:nvPr/>
        </p:nvPicPr>
        <p:blipFill>
          <a:blip r:embed="rId3"/>
          <a:stretch/>
        </p:blipFill>
        <p:spPr>
          <a:xfrm>
            <a:off x="7950240" y="5829480"/>
            <a:ext cx="96516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5" descr="Vertical_RGB_600"/>
          <p:cNvPicPr/>
          <p:nvPr/>
        </p:nvPicPr>
        <p:blipFill>
          <a:blip r:embed="rId2"/>
          <a:stretch/>
        </p:blipFill>
        <p:spPr>
          <a:xfrm>
            <a:off x="2600280" y="5010120"/>
            <a:ext cx="167328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logo_2004"/>
          <p:cNvPicPr/>
          <p:nvPr/>
        </p:nvPicPr>
        <p:blipFill>
          <a:blip r:embed="rId3"/>
          <a:stretch/>
        </p:blipFill>
        <p:spPr>
          <a:xfrm>
            <a:off x="4809960" y="5010120"/>
            <a:ext cx="1447920" cy="1371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21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view of key them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076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33"/>
                </a:solidFill>
                <a:latin typeface="Arial"/>
              </a:rPr>
              <a:t>Purpose of analysis is to provide answers to programmatic ques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scriptive analyses describe the sample/target popul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scriptive analyses do not define causality – tell you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wha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not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l data analysis does not require computers and soft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7484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dule 1: Data analysis key concep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dule 2: Basic analys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23760" y="135360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33"/>
                </a:solidFill>
                <a:latin typeface="Arial"/>
              </a:rPr>
              <a:t>Target Setting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– A specified level of performance for a measure (indicator) at a predetermined point in time. Both overall and annual targets are s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33"/>
                </a:solidFill>
                <a:latin typeface="Arial"/>
              </a:rPr>
              <a:t>Coverag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– Extent to which a program reaches its intended target population, institution, or geographic are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Retentio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– The extent to which the range of services are being delivered as initially intend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2440" y="27432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dule 3: Data presentation &amp; interpret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23760" y="172836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the right graph for the right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bles – can display a large amount of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phs/charts – visual, easier to detect patte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el the components of your graph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33"/>
                </a:solidFill>
                <a:latin typeface="Arial"/>
              </a:rPr>
              <a:t>Interpreting</a:t>
            </a:r>
            <a:r>
              <a:rPr b="0" i="1" lang="en-US" sz="2600" spc="-1" strike="noStrike">
                <a:solidFill>
                  <a:srgbClr val="ffff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33"/>
                </a:solidFill>
                <a:latin typeface="Arial"/>
              </a:rPr>
              <a:t>data</a:t>
            </a:r>
            <a:r>
              <a:rPr b="0" i="1" lang="en-US" sz="2600" spc="-1" strike="noStrike">
                <a:solidFill>
                  <a:srgbClr val="ffff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33"/>
                </a:solidFill>
                <a:latin typeface="Arial"/>
              </a:rPr>
              <a:t>adds meaning by making connections and comparisons to progr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rvice data are good at tracking progress &amp; identifying concerns – do not show caus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792000" y="108540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ASURE Evaluation is funded by the United States Agency for International Development (USAID) through Cooperative Agreement GHA-A-00-08-00003-00. The views expressed in this publication do not necessarily reflect the views of USAID or the United States government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isit us online at http://www.cpc.unc.edu/meas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21:25:38Z</dcterms:created>
  <dc:creator>Carolina Population Center</dc:creator>
  <dc:description/>
  <dc:language>en-US</dc:language>
  <cp:lastModifiedBy>FGUser</cp:lastModifiedBy>
  <dcterms:modified xsi:type="dcterms:W3CDTF">2011-05-03T18:15:52Z</dcterms:modified>
  <cp:revision>337</cp:revision>
  <dc:subject/>
  <dc:title>Slide 1</dc:title>
</cp:coreProperties>
</file>