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2.wmf" ContentType="image/x-wmf"/>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3"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4" name="PlaceHolder 2"/>
          <p:cNvSpPr>
            <a:spLocks noGrp="1"/>
          </p:cNvSpPr>
          <p:nvPr>
            <p:ph type="dt" idx="27"/>
          </p:nvPr>
        </p:nvSpPr>
        <p:spPr>
          <a:xfrm>
            <a:off x="397188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5"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6"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7" name="PlaceHolder 5"/>
          <p:cNvSpPr>
            <a:spLocks noGrp="1"/>
          </p:cNvSpPr>
          <p:nvPr>
            <p:ph type="ftr" idx="2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8" name="PlaceHolder 6"/>
          <p:cNvSpPr>
            <a:spLocks noGrp="1"/>
          </p:cNvSpPr>
          <p:nvPr>
            <p:ph type="sldNum" idx="29"/>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851E-FFAD-4647-B49E-7D5F43A82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B923-A43D-4141-9C9A-006FA7A8CC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7" name="PlaceHolder 1"/>
          <p:cNvSpPr>
            <a:spLocks noGrp="1"/>
          </p:cNvSpPr>
          <p:nvPr>
            <p:ph type="sldImg"/>
          </p:nvPr>
        </p:nvSpPr>
        <p:spPr>
          <a:xfrm>
            <a:off x="1181160" y="698400"/>
            <a:ext cx="4648320" cy="3486240"/>
          </a:xfrm>
          <a:prstGeom prst="rect">
            <a:avLst/>
          </a:prstGeom>
          <a:ln w="0">
            <a:noFill/>
          </a:ln>
        </p:spPr>
      </p:sp>
      <p:sp>
        <p:nvSpPr>
          <p:cNvPr id="9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art out today by talking about the importance of using data to inform decisions around health policies and program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81160" y="698400"/>
            <a:ext cx="4648320" cy="3486240"/>
          </a:xfrm>
          <a:prstGeom prst="rect">
            <a:avLst/>
          </a:prstGeom>
          <a:ln w="0">
            <a:noFill/>
          </a:ln>
        </p:spPr>
      </p:sp>
      <p:sp>
        <p:nvSpPr>
          <p:cNvPr id="9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is sentiment is reflected in the opinions of our peers, who participated in an international survey conducted by the Overseas Development Institute (Jones et al.) in 2008. The study found that there is a high level of dissatisfaction among policymakers, program implementers, and researchers with the degree to which policy decisions are informed by research evidence.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Y axis =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Specifically, we see that:</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42% of policy makers, </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60% intermediaries, and</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54% of researchers stated that they were dissatisfied that policy is based on evidence.</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y is this? Why are our decision makers not using data and evidence to inform their decisions?</a:t>
            </a: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94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04F2-CA93-4E04-8A24-68641B8F01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D588-BCC5-4D02-A920-55DC1289D7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1" name="PlaceHolder 1"/>
          <p:cNvSpPr>
            <a:spLocks noGrp="1"/>
          </p:cNvSpPr>
          <p:nvPr>
            <p:ph type="sldImg"/>
          </p:nvPr>
        </p:nvSpPr>
        <p:spPr>
          <a:xfrm>
            <a:off x="1181160" y="698400"/>
            <a:ext cx="4648320" cy="3486240"/>
          </a:xfrm>
          <a:prstGeom prst="rect">
            <a:avLst/>
          </a:prstGeom>
          <a:ln w="0">
            <a:noFill/>
          </a:ln>
        </p:spPr>
      </p:sp>
      <p:sp>
        <p:nvSpPr>
          <p:cNvPr id="95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the face of improvements in systems to collect quality information, there is often a disconnect between decision making and available data. Much of the data collected are not used as effectively as they could b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le reasons for this disconnect, many of which will be illuminated during the next two days by all of us in this room. Some of the most common barriers that thwart a functioning cycle of evidence-based decision making include: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or no communication between data users (policymakers, service program managers) and data producers (researches, M&amp;E experts). As a result, data collection efforts don’t address the key needs of the data user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apacity to collect, analyze, and interpret data. Skills are lacking for ensuring that the data being collected are of good quality. The tools and skills needed to analyze and then apply analysis to programmatic needs also are weak in many context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n’t a culture of data use </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value of data in improving the provision of services is not fully recognized, it is therefore not prioritized. As a result, data frequently are not used beyond populating a report to a donor or filling out a form.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DF5D-355C-4F57-9946-632D2F2C66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F38D-8DC6-4948-8F1B-A77A1F6FD1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5" name="PlaceHolder 1"/>
          <p:cNvSpPr>
            <a:spLocks noGrp="1"/>
          </p:cNvSpPr>
          <p:nvPr>
            <p:ph type="sldImg"/>
          </p:nvPr>
        </p:nvSpPr>
        <p:spPr>
          <a:xfrm>
            <a:off x="1181160" y="698400"/>
            <a:ext cx="4648320" cy="3486240"/>
          </a:xfrm>
          <a:prstGeom prst="rect">
            <a:avLst/>
          </a:prstGeom>
          <a:ln w="0">
            <a:noFill/>
          </a:ln>
        </p:spPr>
      </p:sp>
      <p:sp>
        <p:nvSpPr>
          <p:cNvPr id="9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do to address these challenges and improve evidence-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mmit to utilizing data that result from M&amp;E systems in the decision-making process. These data can inform the design of new programs and interventions, planning, and managing programs and facilities which, in the end, contribute to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8400"/>
            <a:ext cx="4648320" cy="3486240"/>
          </a:xfrm>
          <a:prstGeom prst="rect">
            <a:avLst/>
          </a:prstGeom>
          <a:ln w="0">
            <a:noFill/>
          </a:ln>
        </p:spPr>
      </p:sp>
      <p:sp>
        <p:nvSpPr>
          <p:cNvPr id="95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systems underpin the data-informed decision-making process. The data allow us to track progress in the delivery of health services and evaluate the outcome and impact of these services on the health status of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30A8-20D7-4E80-AD21-5A2C06232C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755640"/>
            <a:ext cx="4648320" cy="3486240"/>
          </a:xfrm>
          <a:prstGeom prst="rect">
            <a:avLst/>
          </a:prstGeom>
          <a:ln w="0">
            <a:noFill/>
          </a:ln>
        </p:spPr>
      </p:sp>
      <p:sp>
        <p:nvSpPr>
          <p:cNvPr id="961" name="PlaceHolder 2"/>
          <p:cNvSpPr>
            <a:spLocks noGrp="1"/>
          </p:cNvSpPr>
          <p:nvPr>
            <p:ph type="body"/>
          </p:nvPr>
        </p:nvSpPr>
        <p:spPr>
          <a:xfrm>
            <a:off x="531360" y="4416120"/>
            <a:ext cx="594036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data sources that contribute to the M&amp;E system. Common data source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delivery data – This is a data source that you will all become very familiar with, as you are the primary data collectors. Service delivery data reflect the services you provide in your clinical settings. During this module, most of our discussions will rely on service delivery data as a data 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 – A census is a counting of the people in a specific geographic area. You are all probably familiar with your national census that enumerates the numbers of people in your country. This is also an important data source in the health field because it allows us to calculate the numbers of people in need of specific servi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s, evaluations, research studies – Capture information on specific topics and populations. These data sources help us to answer specific questions and frequently give us information that can help us to improve our progra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illance – Tracks the prevalence of specific diseases in a target population over time. Prevalence refers to the total number of cases of a disease in a given population at a specific time. These data help us to estimate the burden of specific diseas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get – Last, there are other sources of data that we don’t often consider. For example: budget information can help us track our expenditures and illuminate what specific program elements cost.  </a:t>
            </a:r>
            <a:endParaRPr b="0" lang="en-US" sz="10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int of clarification, in this workshop we often refer to both data and information. </a:t>
            </a:r>
            <a:r>
              <a:rPr b="1" lang="en-US" sz="1000" spc="-1" strike="noStrike">
                <a:solidFill>
                  <a:srgbClr val="000000"/>
                </a:solidFill>
                <a:latin typeface="Arial"/>
              </a:rPr>
              <a:t>Data</a:t>
            </a:r>
            <a:r>
              <a:rPr b="0" lang="en-US" sz="1000" spc="-1" strike="noStrike">
                <a:solidFill>
                  <a:srgbClr val="000000"/>
                </a:solidFill>
                <a:latin typeface="Arial"/>
              </a:rPr>
              <a:t> refers to factual information in raw, unsynthesized form—unprocessed data. </a:t>
            </a:r>
            <a:r>
              <a:rPr b="1" lang="en-US" sz="1000" spc="-1" strike="noStrike">
                <a:solidFill>
                  <a:srgbClr val="000000"/>
                </a:solidFill>
                <a:latin typeface="Arial"/>
              </a:rPr>
              <a:t>Information</a:t>
            </a:r>
            <a:r>
              <a:rPr b="0" lang="en-US" sz="1000" spc="-1" strike="noStrike">
                <a:solidFill>
                  <a:srgbClr val="000000"/>
                </a:solidFill>
                <a:latin typeface="Arial"/>
              </a:rPr>
              <a:t> refers to data that have been synthesized, analyzed, or summarized. </a:t>
            </a:r>
            <a:endParaRPr b="0" lang="en-US" sz="10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4B6C-50FE-4AF7-AB0D-111C1F831E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DB4F-6FC3-48B0-BE08-1400AE4CA8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9F1B-E948-4900-A76F-6317D92AF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5" name="PlaceHolder 1"/>
          <p:cNvSpPr>
            <a:spLocks noGrp="1"/>
          </p:cNvSpPr>
          <p:nvPr>
            <p:ph type="sldImg"/>
          </p:nvPr>
        </p:nvSpPr>
        <p:spPr>
          <a:xfrm>
            <a:off x="1181160" y="698400"/>
            <a:ext cx="4648320" cy="3486240"/>
          </a:xfrm>
          <a:prstGeom prst="rect">
            <a:avLst/>
          </a:prstGeom>
          <a:ln w="0">
            <a:noFill/>
          </a:ln>
        </p:spPr>
      </p:sp>
      <p:sp>
        <p:nvSpPr>
          <p:cNvPr id="9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purpose of monitoring and 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is an essential process in providing effective and efficient services and ensuring that programs are relevant and successful. For example, it helps us to make informed decisions about such questions as appropriate staffing and other necessary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know whether a program is being true to its stated goals and objectives. </a:t>
            </a:r>
            <a:r>
              <a:rPr b="0" lang="en-US" sz="1000" spc="-1" strike="noStrike">
                <a:solidFill>
                  <a:srgbClr val="ff0000"/>
                </a:solidFill>
                <a:latin typeface="Arial"/>
              </a:rPr>
              <a:t>For inst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evaluate whether our programs are having their desired impact. If we want to know how a program is performing, we might assess it against targets that have been set for specific indicators by the program or funding agency or government. For instance, we might assess if a breastfeeding program is reaching its goals in providing counseling to pregnant women during antenatal care (ANC) by the percentage of children under six months who are exclusively breastf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mp;E helps us to generate new knowledge about underserved populations or the need for new services around an emerging health issue. We can also discover factors that influence health outcomes, as well as other importan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for M&amp;E to have this desired impact, M&amp;E data and information must be used strategically by programs, service delivery organizations, policymakers, and other stakeh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AD08-EAD1-4475-A218-3484F1764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8" name="PlaceHolder 1"/>
          <p:cNvSpPr>
            <a:spLocks noGrp="1"/>
          </p:cNvSpPr>
          <p:nvPr>
            <p:ph type="sldImg"/>
          </p:nvPr>
        </p:nvSpPr>
        <p:spPr>
          <a:xfrm>
            <a:off x="1181160" y="698400"/>
            <a:ext cx="4648320" cy="3486240"/>
          </a:xfrm>
          <a:prstGeom prst="rect">
            <a:avLst/>
          </a:prstGeom>
          <a:ln w="0">
            <a:noFill/>
          </a:ln>
        </p:spPr>
      </p:sp>
      <p:sp>
        <p:nvSpPr>
          <p:cNvPr id="96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people see M&amp;E as policing or as a process meant to criticize and undermine their work. In other situations, an M&amp;E unit is only established for the purpose of repor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program managers, and M&amp;E specialists can be partners in progress—designing new programs, making improvements to plans and programs, policymaking and, at the facility level, identifying gaps and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decision making and management rely on high-quality M&amp;E or strategic information. Without information, it is difficult to make an effective and successful decision or manage shifts in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ata quality is linked to data use. As increased attention is being paid to data quality, especially at the lower levels, it’s important to know that data quality naturally improves as individuals and organizations understand how useful the data and information can be to th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B23-5674-4EEF-8D36-EF983A8AEF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7363-7F73-4ECB-B4CD-AAA65FAAE2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2" name="PlaceHolder 1"/>
          <p:cNvSpPr>
            <a:spLocks noGrp="1"/>
          </p:cNvSpPr>
          <p:nvPr>
            <p:ph type="sldImg"/>
          </p:nvPr>
        </p:nvSpPr>
        <p:spPr>
          <a:xfrm>
            <a:off x="1181160" y="698400"/>
            <a:ext cx="4648320" cy="3486240"/>
          </a:xfrm>
          <a:prstGeom prst="rect">
            <a:avLst/>
          </a:prstGeom>
          <a:ln w="0">
            <a:noFill/>
          </a:ln>
        </p:spPr>
      </p:sp>
      <p:sp>
        <p:nvSpPr>
          <p:cNvPr id="97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onitoring and evaluation data allows providers to make data-informed decisions to design and manage health programs, which results in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3CBD-85E1-4AD1-9B3B-985A026533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5" name="PlaceHolder 1"/>
          <p:cNvSpPr>
            <a:spLocks noGrp="1"/>
          </p:cNvSpPr>
          <p:nvPr>
            <p:ph type="sldImg"/>
          </p:nvPr>
        </p:nvSpPr>
        <p:spPr>
          <a:xfrm>
            <a:off x="1181160" y="698400"/>
            <a:ext cx="4648320" cy="3486240"/>
          </a:xfrm>
          <a:prstGeom prst="rect">
            <a:avLst/>
          </a:prstGeom>
          <a:ln w="0">
            <a:noFill/>
          </a:ln>
        </p:spPr>
      </p:sp>
      <p:sp>
        <p:nvSpPr>
          <p:cNvPr id="976"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talked about the global importance of using data and information in health decision making, let’s bring the discussion down to a more personal level. Who would like to share with the group how you use data and information in your job?  </a:t>
            </a:r>
            <a:endParaRPr b="0" lang="en-US" sz="1200" spc="-1" strike="noStrike">
              <a:solidFill>
                <a:srgbClr val="000000"/>
              </a:solidFill>
              <a:latin typeface="Arial"/>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Encourage participants to share their experiences with the group. Record the participant responses on a flip chart. Be sure to highlight that organizations can use information beyond reporting or producing reports.</a:t>
            </a:r>
            <a:endParaRPr b="0" lang="en-US" sz="1200" spc="-1" strike="noStrike">
              <a:solidFill>
                <a:srgbClr val="000000"/>
              </a:solidFill>
              <a:latin typeface="Arial"/>
            </a:endParaRPr>
          </a:p>
          <a:p>
            <a:pPr lvl="1" marL="696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F205-BABE-4494-98A3-3655ADD88B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8" name="PlaceHolder 1"/>
          <p:cNvSpPr>
            <a:spLocks noGrp="1"/>
          </p:cNvSpPr>
          <p:nvPr>
            <p:ph type="sldImg"/>
          </p:nvPr>
        </p:nvSpPr>
        <p:spPr>
          <a:xfrm>
            <a:off x="1181160" y="698400"/>
            <a:ext cx="4648320" cy="3486240"/>
          </a:xfrm>
          <a:prstGeom prst="rect">
            <a:avLst/>
          </a:prstGeom>
          <a:ln w="0">
            <a:noFill/>
          </a:ln>
        </p:spPr>
      </p:sp>
      <p:sp>
        <p:nvSpPr>
          <p:cNvPr id="979"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noting your responses and experiences. In summary, we can use information to…?</a:t>
            </a:r>
            <a:br>
              <a:rPr sz="1200"/>
            </a:b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Have the participants suggest responses. After three to four participants speak, show the answers by clicking to reveal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can use data and information to:</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policies and plan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ise additional resource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engthen programs and improve results </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accountability and reporting</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quality of services provided</a:t>
            </a:r>
            <a:endParaRPr b="0" lang="en-US" sz="15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ibute to global lessons learned</a:t>
            </a:r>
            <a:endParaRPr b="0" lang="en-US" sz="15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1160" y="698400"/>
            <a:ext cx="4648320" cy="3486240"/>
          </a:xfrm>
          <a:prstGeom prst="rect">
            <a:avLst/>
          </a:prstGeom>
          <a:ln w="0">
            <a:noFill/>
          </a:ln>
        </p:spPr>
      </p:sp>
      <p:sp>
        <p:nvSpPr>
          <p:cNvPr id="9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a:t>
            </a:r>
            <a:endParaRPr b="0" lang="en-US" sz="1200" spc="-1" strike="noStrike">
              <a:solidFill>
                <a:srgbClr val="000000"/>
              </a:solidFill>
              <a:latin typeface="Arial"/>
            </a:endParaRPr>
          </a:p>
        </p:txBody>
      </p:sp>
      <p:sp>
        <p:nvSpPr>
          <p:cNvPr id="9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FA4B-CC9B-4154-8AE2-D32C57A6DF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F990-5E7F-41AA-B883-63EA45DE5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1" name="PlaceHolder 1"/>
          <p:cNvSpPr>
            <a:spLocks noGrp="1"/>
          </p:cNvSpPr>
          <p:nvPr>
            <p:ph type="sldImg"/>
          </p:nvPr>
        </p:nvSpPr>
        <p:spPr>
          <a:xfrm>
            <a:off x="1181160" y="696960"/>
            <a:ext cx="4649760" cy="348768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ther examples of how data were used at different levels of the health system to improve progra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ailand, the Analysis and Advocacy project (or ‘A squared’) facilitates the use of data and information in advocacy messages to policymakers and decision makers. The project seeks to strengthen the commitment of policymakers to HIV prevention by identifying behavioral and epidemiological data that can be analyzed in different ways to provide insight on what can be done to strengthen the response to HIV.</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and its partners analyzed data with the Asian Epidemic Model and the GOALS model. They determined the responses and resources that would be needed to implement the responses and finally, they communicated these data to stakeholde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se efforts, Thailand successfully emphasized the prevention agenda in the national strategic plan and developed a “UA Operational pla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F858-F242-48F4-B22B-E6600BB2EE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4" name="PlaceHolder 1"/>
          <p:cNvSpPr>
            <a:spLocks noGrp="1"/>
          </p:cNvSpPr>
          <p:nvPr>
            <p:ph type="sldImg"/>
          </p:nvPr>
        </p:nvSpPr>
        <p:spPr>
          <a:xfrm>
            <a:off x="1181160" y="698400"/>
            <a:ext cx="4648320" cy="3486240"/>
          </a:xfrm>
          <a:prstGeom prst="rect">
            <a:avLst/>
          </a:prstGeom>
          <a:ln w="0">
            <a:noFill/>
          </a:ln>
        </p:spPr>
      </p:sp>
      <p:sp>
        <p:nvSpPr>
          <p:cNvPr id="9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nothe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igeria, MEASURE Evaluation has worked with the Nigerian government, international organizations, and other implementing partners in the development of a new routine information system for HIV/AIDS called the Nigerian National Routine Information Management System, or NNR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nd local governments have been trained in the system, and regularly prepare and review quarterly reports. In Nasarawa state in Doma LGA, the local government authority (LGA) Chairman noted that only 53 people in Doma tested HIV positive in the first quarter of 2006. The Chairman was alarmed and also concerned that testing was not yet widespread in the LGA. As a result, the Chairman procured 480 HIV test kits to be distributed to four local health facilities, enabling more people to be tested for HIV in Dom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81160" y="698400"/>
            <a:ext cx="4648320" cy="3486240"/>
          </a:xfrm>
          <a:prstGeom prst="rect">
            <a:avLst/>
          </a:prstGeom>
          <a:ln w="0">
            <a:noFill/>
          </a:ln>
        </p:spPr>
      </p:sp>
      <p:sp>
        <p:nvSpPr>
          <p:cNvPr id="98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BC3F-F8EB-472A-A6E2-1BD9D256A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81160" y="698400"/>
            <a:ext cx="4648320" cy="3486240"/>
          </a:xfrm>
          <a:prstGeom prst="rect">
            <a:avLst/>
          </a:prstGeom>
          <a:ln w="0">
            <a:noFill/>
          </a:ln>
        </p:spPr>
      </p:sp>
      <p:sp>
        <p:nvSpPr>
          <p:cNvPr id="99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spend some time discussing data use concepts in small groups. Within your small groups, please select a reporter, then read the case study and answer the following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20 minutes to read the case study and answer the questions, and then we will ask each group to report back in plenary.</a:t>
            </a:r>
            <a:endParaRPr b="0" lang="en-US" sz="1200" spc="-1" strike="noStrike">
              <a:solidFill>
                <a:srgbClr val="000000"/>
              </a:solidFill>
              <a:latin typeface="Arial"/>
            </a:endParaRPr>
          </a:p>
        </p:txBody>
      </p:sp>
      <p:sp>
        <p:nvSpPr>
          <p:cNvPr id="9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C0D7-1AD8-4315-AB2A-CD685128F9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DEC3-9EF1-431C-9011-C4C8E1395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3" name="PlaceHolder 1"/>
          <p:cNvSpPr>
            <a:spLocks noGrp="1"/>
          </p:cNvSpPr>
          <p:nvPr>
            <p:ph type="sldImg"/>
          </p:nvPr>
        </p:nvSpPr>
        <p:spPr>
          <a:xfrm>
            <a:off x="1181160" y="698400"/>
            <a:ext cx="4648320" cy="3486240"/>
          </a:xfrm>
          <a:prstGeom prst="rect">
            <a:avLst/>
          </a:prstGeom>
          <a:ln w="0">
            <a:noFill/>
          </a:ln>
        </p:spPr>
      </p:sp>
      <p:sp>
        <p:nvSpPr>
          <p:cNvPr id="9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art off by talking about the importance of data-informed decision making in improving health programs and ultimately health outcomes. We will also discuss the challenges faced in data-informed decision making and highlight that the purpose of M&amp;E is to inform action. Last, we will ask you for your experiences using data in your work and provide additional examples of how data were used to improve policies and progra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DA33-79E4-4377-A7AC-4D39EB3DC8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6" name="PlaceHolder 1"/>
          <p:cNvSpPr>
            <a:spLocks noGrp="1"/>
          </p:cNvSpPr>
          <p:nvPr>
            <p:ph type="sldImg"/>
          </p:nvPr>
        </p:nvSpPr>
        <p:spPr>
          <a:xfrm>
            <a:off x="1181160" y="698400"/>
            <a:ext cx="4648320" cy="3486240"/>
          </a:xfrm>
          <a:prstGeom prst="rect">
            <a:avLst/>
          </a:prstGeom>
          <a:ln w="0">
            <a:noFill/>
          </a:ln>
        </p:spPr>
      </p:sp>
      <p:sp>
        <p:nvSpPr>
          <p:cNvPr id="92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importance of data-informed decision making is expressed on this slide by a national-level policymaker in Nigeria who participated in a data use assessment conducted by MEASURE Evaluation. The assessment involved interviews with a range of professionals at the national, regional, and facility levels. The policymaker interviewed, stated…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nicely summarizes why we are here today to discuss the importance of improving data-inform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2111-A1EF-46B6-8621-DF1F89E10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9" name="PlaceHolder 1"/>
          <p:cNvSpPr>
            <a:spLocks noGrp="1"/>
          </p:cNvSpPr>
          <p:nvPr>
            <p:ph type="sldImg"/>
          </p:nvPr>
        </p:nvSpPr>
        <p:spPr>
          <a:xfrm>
            <a:off x="1181160" y="698400"/>
            <a:ext cx="4648320" cy="3486240"/>
          </a:xfrm>
          <a:prstGeom prst="rect">
            <a:avLst/>
          </a:prstGeom>
          <a:ln w="0">
            <a:noFill/>
          </a:ln>
        </p:spPr>
      </p:sp>
      <p:sp>
        <p:nvSpPr>
          <p:cNvPr id="93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for quality health care services is intimately known by all of u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know, there is evidence to suggest that the global HIV epidemic is stabilizing, although at an unacceptably high rate. There were an estimated 33 million people living with HIV at the close of 2008, the majority of whom either need or will soon need treat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one-third of the world‘s population is infected with TB. Moreover, many new cases are resistant to major TB therapeutic drug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year, malaria causes nearly 1 million deaths, mostly among children under 5 years of age, and an additional 190 to 325 million clinical cases that need to be addressed by the health system.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uch of sub-Saharan Africa, the transition from high to low fertility has stalled. In two-thirds of countries in the region, there was no meaningful change in the TFR during the interval between the two most recent Demographic and Health Survey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ny countries, young people—those below the age of 20—account for the largest proportion of the population. In the next few years, we will see larger numbers of people needing health services as this cohort ages. In the face of this demand we are experiencing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adequate numbers and poor distribution of qualified health workers and an inadequate human resources system to support the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B3D1-11D8-4938-8D12-B03F335559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E445-896E-4111-9B6D-7450FC2C3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3" name="PlaceHolder 1"/>
          <p:cNvSpPr>
            <a:spLocks noGrp="1"/>
          </p:cNvSpPr>
          <p:nvPr>
            <p:ph type="sldImg"/>
          </p:nvPr>
        </p:nvSpPr>
        <p:spPr>
          <a:xfrm>
            <a:off x="1181160" y="698400"/>
            <a:ext cx="4648320" cy="3486240"/>
          </a:xfrm>
          <a:prstGeom prst="rect">
            <a:avLst/>
          </a:prstGeom>
          <a:ln w="0">
            <a:noFill/>
          </a:ln>
        </p:spPr>
      </p:sp>
      <p:sp>
        <p:nvSpPr>
          <p:cNvPr id="93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ithin this context of a high disease burden, a growing population, and insufficient health services, that it becomes extremely important for governments to make the best use of their limited resources. The need to develop strategies, policies, and interventions that are based on quality data and information is urgent.</a:t>
            </a:r>
            <a:endParaRPr b="0" lang="en-US" sz="1200" spc="-1" strike="noStrike">
              <a:solidFill>
                <a:srgbClr val="000000"/>
              </a:solidFill>
              <a:latin typeface="Arial"/>
            </a:endParaRPr>
          </a:p>
        </p:txBody>
      </p:sp>
      <p:sp>
        <p:nvSpPr>
          <p:cNvPr id="9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802B-9C0A-4E64-8A9E-0410E275EA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2FC7-17FC-4566-8C68-4D742FDDB0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7" name="PlaceHolder 1"/>
          <p:cNvSpPr>
            <a:spLocks noGrp="1"/>
          </p:cNvSpPr>
          <p:nvPr>
            <p:ph type="sldImg"/>
          </p:nvPr>
        </p:nvSpPr>
        <p:spPr>
          <a:xfrm>
            <a:off x="1181160" y="698400"/>
            <a:ext cx="4648320" cy="3486240"/>
          </a:xfrm>
          <a:prstGeom prst="rect">
            <a:avLst/>
          </a:prstGeom>
          <a:ln w="0">
            <a:noFill/>
          </a:ln>
        </p:spPr>
      </p:sp>
      <p:sp>
        <p:nvSpPr>
          <p:cNvPr id="9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ood news is that as we face a great need to deliver health services, we also have seen increased financial commitments by the international community to provide the necessary programs and services to meet the critical health needs of target populations—although this is largely for HIV services.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d influx of funds and resulting expansion in programs has led to increased accountability requirements by donors, governments, and civil society. As we know, many donors are not only requiring regular reporting on services delivered, but funding for continuation of activities is frequently based on performanc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ccountability requirements have led to strengthened programmatic M&amp;E systems, a commitment for integrated HMIS, and a demand for other types of quality data.</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se commitments and improvement do not always lead to data-informed decision making.</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6AEC-A55F-4DA3-9641-562C51B30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1160" y="698400"/>
            <a:ext cx="4648320" cy="3486240"/>
          </a:xfrm>
          <a:prstGeom prst="rect">
            <a:avLst/>
          </a:prstGeom>
          <a:ln w="0">
            <a:noFill/>
          </a:ln>
        </p:spPr>
      </p:sp>
      <p:sp>
        <p:nvSpPr>
          <p:cNvPr id="94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above may look familiar to many of you. In today’s environment, many health professionals have become overwhelmed with collecting and using data related to services they deliver. In some contexts, data requirements from government and donors have grown exponentially, to the point where some providers and implementing partners have pages and pages of forms to fill in d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are data used to monitor programs and make decisions beyond individual patient care. This is a huge lost opportunity because data are critical to the program improvement and decision-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5B99-A99B-4324-88CD-FA7EA75F8F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606E-56AF-483A-BF9A-1827190D8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4" name="PlaceHolder 1"/>
          <p:cNvSpPr>
            <a:spLocks noGrp="1"/>
          </p:cNvSpPr>
          <p:nvPr>
            <p:ph type="sldImg"/>
          </p:nvPr>
        </p:nvSpPr>
        <p:spPr>
          <a:xfrm>
            <a:off x="1181160" y="698400"/>
            <a:ext cx="4648320" cy="3486240"/>
          </a:xfrm>
          <a:prstGeom prst="rect">
            <a:avLst/>
          </a:prstGeom>
          <a:ln w="0">
            <a:noFill/>
          </a:ln>
        </p:spPr>
      </p:sp>
      <p:sp>
        <p:nvSpPr>
          <p:cNvPr id="94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nderstand the factors that inhibit or encourage data-informed decision making, we need to review the entire process that leads to evidenced-based decisions and eventually to improved health outcomes. There are many other contributing factors that affect data us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presented here illustrates the entire cycle of evidence-based decision making. This approach illustrates the ideal. You will note that in addition to data collection and therefore availability, there are also the considerations of:</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uring the technical and human capacity to manage and analyze the data</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ing that the information is available and in a format that is easily understood by the relevant stakeholder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ostering the interpretation of the information and its ultimate use to improve policies and programs</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 supports the assumption that the more positive experiences a decision maker has in using information to support a decision, the stronger the commitment will be to improving data collection systems and continuing to use the information they generat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ises the question—is this what we are experiencing in our own work environments? Most of us would agree that it is not.</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3FF5-8B19-4562-B016-06EF3DB060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68ED926-7962-4017-8A57-2B7551248E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EE253D-1079-490F-B064-EC22D7BA42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FBE2B43-6231-4B1A-B94A-858B0D5568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F29988-7D8F-4E18-AEF5-C372CCE357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5F80B71-E7C2-49CB-BCB1-2C75AA22F0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5AFE00-2982-4073-AB95-6CE67FB1AF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9E198D-C75D-4217-A220-7B05EF0097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132E18-34E9-4052-8886-806950B530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A3B2590-A3F6-4D6A-A752-6245BD1187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DC1FF6-A18C-4559-935D-2EB23007DC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816381-FD65-4ADC-8179-4AF96502A4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57A573-26CA-4F6F-9B80-3DF843D331D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F7354B-F860-44F5-A492-C7029916F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AB7ADBB-1145-498B-8838-E2556CC8CC8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AF9BFF8-D560-4441-878D-1A47849E73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E21A119-E3A2-4933-8BC7-C746078052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DE92D6D-6E3B-489E-99CD-6CDCC77D517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A6FFE92E-04F7-4319-8D77-CD379955C2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A0DCED49-C6EB-4627-8812-BB7F5D2876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19051AF-B1DB-442C-9E14-2FA97F48F2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A37BBA7E-65E6-4C6D-B99F-1928238FF7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F4BC22A-6DA4-4275-BA8D-D02B74DDDA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B812C74-DD8B-4F78-AF19-0E22C240D4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AE12C3F-02D7-4563-8E05-84BC361A9E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960C03F-7F84-42B9-B2CA-9E0435EC135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C57EFC9-9D62-4580-B199-7E58EF87FC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8369422E-EFC7-4283-A413-2579706397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1A580A4D-FB2F-40B9-A684-14C3E8E86E0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DE01C6-11BA-4826-8972-514B8ED7FC7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362A11-C23A-4C65-B1A5-A45B4A7B485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086313-8479-4A6E-8F37-83B969F5C7A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281CF7-3C97-4B8A-8203-9C0B2ED5E10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9D604D-9885-4F71-B118-076B601099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12CBB8-6AD1-4561-91F6-D605ABBD1E8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96AFAA-FAB9-4182-90DA-3D82AC67AF8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70C32F-3AB6-44CC-A6FA-5379486177E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283239-BF4B-4CC0-A26D-247EACD795D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780851-6898-44F0-957F-488B43D3A2E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742145-B578-4707-8CE3-8B8352D218B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21A3B04-E54D-44BD-A0FB-9B4D4B9025D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0BA721A-0D4D-4224-B1C8-2E86EEDA39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879BD84-478C-4855-9777-9E6E0366C63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6280ED0-9BD3-4778-B49B-079C79EBA9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B6E1907-FAD5-43A8-8531-19C957CA0F7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CCD51F9-828A-4297-A76D-E65C06580E1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AB958EB-10F8-4064-80AB-B5642D23D21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CB7FC7E-2AB5-44D0-ABFA-4BFC30CE4C5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70B6146-E432-40EC-964F-8D3249D4D27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1859710-F05E-4503-ABAB-F7B13E1BB5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FF36AB6-18D9-4A58-AC6B-88AADF954F4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D3523452-88B2-4656-BE17-2D8624D424B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432F403-0D08-4F97-A30F-7FE881BFE13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5DAEEF9D-4B43-4371-98CB-EBCB0C0CE9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C099E0EE-937C-4E8F-A1FB-DE9C07073D2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065C8A7-9166-4E79-9AA5-3524643368D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7D6FBC84-55AA-4FC8-B41E-41F44A949BB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98E87AD-F7FF-4160-8821-0ACAAF928C5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ECDC558-8610-461C-8675-BDE1A89B3EF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8D44FA2-BFE4-4260-BB97-BE25A3D2EBD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5B93018-46C2-4C3A-8D76-D3FDE647E6F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43A9371-E277-47C7-ADC2-978A0C03021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465CD9E-DE93-488E-9832-AB86F6F6324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6D432BC4-A548-4D02-893F-C36C6F8DAF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5A5E57C2-658A-4642-B57A-945B1BE62AF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0EFFFFF-5B5B-4F77-9C7A-354132AB461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CE78E61-5EA9-4607-9B6F-E722205685E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E91D0E0-4FA0-4020-97EA-EC5B3D03E32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66B382-9943-40D9-8BDE-F3799B7221C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5E9110-69EC-477B-A413-D05EF1F2B83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222092-A10A-4B9E-B26C-1D8FDC655E1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97F97D-B7A1-4C0D-8A5E-BDAE6B4976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CB99B8-2969-4415-B89D-243481862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3CEA38-354C-403C-98C3-66D40055E6A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C47275-F06F-4A09-955C-EE8B1370D2E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5B4AEAC-7406-4B29-B778-88329166E19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96F9C7D-C060-4E88-8D1E-4B0759EAB92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F991826-9B67-43DB-A9A5-54AD14FCE56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69DFE1C-1B6F-4457-9975-B44A6558E5F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7CD47C7-4023-44F8-BEC7-D89BECCA07C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D4D411A-6792-4BAA-A03A-FA65B6132FD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4D42C81-017A-4AE2-A21F-C9A42644283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989E9DA-E74C-4CA3-A9E7-F6BE2ABAA9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7522F0E-D01C-4674-BC15-E475FB6B2A4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86E7222-390F-4056-8FFB-FD73ED83232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45FC548-5DCA-424B-B14F-4D1BD582717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EED5D53-2172-4782-834F-F48018AC3CD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A9DEA972-4691-4A42-B489-80C4D089ECA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D9285AED-07C7-45A6-B2E6-4198456BAAC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27294E7A-B307-49DA-99F2-13E500D8CA5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5020A815-3D3F-45A7-A0CE-44C69FC5980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05E243C9-DC02-49B5-B249-E46EBFA6BFC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7CE9C0B3-56BE-48DD-917A-F5C39EBE6C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7866C92B-7251-419E-926A-C2D29FE5583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BA7E0CB2-FD22-43CB-848A-23C81FDBEA7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CA4A5159-2A44-4801-9EB6-2A0CEB637A3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8D4AEE1-03AA-45CB-993C-8ABB4DD174B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92F1A95-95C8-4501-8E22-6121A1D526E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FF87743-7FDB-467F-B045-541F20F7E61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61A33D28-A6DE-42AB-9F84-11083C78C11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66756340-5F30-45D7-BCE8-275B27A4DD4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061867A8-2DC2-420B-9A32-907E5CB53ED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1D19BFC-01F9-436C-AB69-6059A0828E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6587CD3-9A4F-45F0-85D6-B0B31A28631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E7A2262-D79C-4489-BD13-9DE328499B3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3B73B68-5993-4285-9BAD-EF816048980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4CCF952-DE63-4658-B1F8-65B556BF5B0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035B8F7-36B2-4635-8376-42C27F62C71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C16862B-83EC-4796-BA82-813337416A5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E8F781E-E0EE-4EAC-80D9-BABF54AAC9F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B1263EF-1420-46DB-B5A4-4B8D01B64A8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590EAFD-43F2-412A-9831-009A22C1CEE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2163D09-C7C5-44B1-8840-67BD2EB900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9759CE5-8C88-4BB7-9BC2-981D754A591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510D4285-4264-430C-BD4B-6B35A681BB2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B6BB821D-454C-41DF-933C-1C8CF9690D8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9A181C5-F71B-430E-AE5E-96A665B8F94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7627F56C-7CA1-49B5-941E-DD79CC6B893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938BFA9E-FEB9-4A5A-BBE6-930D63026AB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A67614CA-BC70-4D30-8F66-FE026638ED3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D01348C-82E1-4CC4-9DDD-05F355446B4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0A1D1FB2-8630-4B12-B27D-ACF07B0E7B3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63DBF5F-C3EC-4EEE-9238-FFCB88C7D1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9B4AAB8-0123-4366-B2EC-3E7DF056372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D1B3C9E1-5CE9-45AB-AFE4-9C6390FEEA1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D5CB2234-9DAF-4091-851D-C097FCC718A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049A726B-4481-40E5-9857-4D81B184FA8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0A79193-FAE5-4246-8883-84A9FE2535E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BD8DAE0-EC46-4D69-87D2-E577AF5175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4118872-80D6-4212-ADC2-A355899D91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3D23C86-55D8-4E66-BC7D-BD9926C3CC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2DF502-32F5-4ED1-B90A-4859E7AE45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ED32B7A-4452-40AC-A936-0A4C950108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A6C129C-E076-4E43-AEC4-540F53444B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C022510-FB31-41DC-947F-9BD5821699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8076726-9050-497C-9024-B743A87AC7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2F04B01-E689-4183-80AD-F98A49A8BE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636D14C-6B56-4FA3-8483-CE7B171470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EAEF27D-7A52-448D-B881-061BB64743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B74609-D507-4F63-95C5-BAA1E9BDAE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058C77-2DB3-48B6-A719-63CCF592F6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79679F-C6DD-4656-8819-58915A15BF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0E3317-1D33-49CE-A27A-B3C36F3038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6FC979-C454-4EAF-B660-54EAA1EA40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09F2EA-7BBA-4DBD-809C-182434D7B9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8A5D1A-D249-414E-BB4D-54CF0852F8F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33AA9C-1E58-468B-A5D2-1699C0CEC4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1CF263-4093-460B-A6C4-06EB3F62C3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2ACEF7-6264-4813-84A4-C578DDEC97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CCA1CB-3E08-4C4A-96D1-32A37B58EA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7F2B3F-B1AE-4475-8F42-D66BC89A857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41EF0B-0A1B-464E-8FE3-EA205821A6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DF3FF4-3628-4D67-B50B-BA52AF01F9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C95C8F-4BF3-4D90-8351-D0C635DF4AF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E3909F-4AA8-41F5-ACF4-B339600ADBA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C1942A-0540-4DED-BCDE-84E14C9AF1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0E164E-9F63-4768-8EDC-AB5F5E7759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5E30-54CB-4071-8D8B-4B56E8627EF7}"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5" descr="Vertical_RGB_600"/>
          <p:cNvPicPr/>
          <p:nvPr/>
        </p:nvPicPr>
        <p:blipFill>
          <a:blip r:embed="rId2"/>
          <a:stretch/>
        </p:blipFill>
        <p:spPr>
          <a:xfrm>
            <a:off x="4465800" y="5005440"/>
            <a:ext cx="1672920" cy="1371600"/>
          </a:xfrm>
          <a:prstGeom prst="rect">
            <a:avLst/>
          </a:prstGeom>
          <a:ln w="0">
            <a:noFill/>
          </a:ln>
        </p:spPr>
      </p:pic>
      <p:pic>
        <p:nvPicPr>
          <p:cNvPr id="347" name="Picture 6" descr="logo_2004"/>
          <p:cNvPicPr/>
          <p:nvPr/>
        </p:nvPicPr>
        <p:blipFill>
          <a:blip r:embed="rId3"/>
          <a:stretch/>
        </p:blipFill>
        <p:spPr>
          <a:xfrm>
            <a:off x="7504200" y="5021280"/>
            <a:ext cx="1447560" cy="1371600"/>
          </a:xfrm>
          <a:prstGeom prst="rect">
            <a:avLst/>
          </a:prstGeom>
          <a:ln w="0">
            <a:noFill/>
          </a:ln>
        </p:spPr>
      </p:pic>
      <p:pic>
        <p:nvPicPr>
          <p:cNvPr id="348" name="Picture 13" descr=""/>
          <p:cNvPicPr/>
          <p:nvPr/>
        </p:nvPicPr>
        <p:blipFill>
          <a:blip r:embed="rId4"/>
          <a:stretch/>
        </p:blipFill>
        <p:spPr>
          <a:xfrm>
            <a:off x="1871640" y="5295960"/>
            <a:ext cx="758880" cy="911160"/>
          </a:xfrm>
          <a:prstGeom prst="rect">
            <a:avLst/>
          </a:prstGeom>
          <a:ln w="0">
            <a:noFill/>
          </a:ln>
        </p:spPr>
      </p:pic>
      <p:sp>
        <p:nvSpPr>
          <p:cNvPr id="349"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3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0CC9-AF9D-4C58-B2DF-A5672A06EC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89" name="PlaceHolder 2"/>
          <p:cNvSpPr>
            <a:spLocks noGrp="1"/>
          </p:cNvSpPr>
          <p:nvPr>
            <p:ph type="ftr" idx="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sldNum" idx="9"/>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F3B3-62A8-4DE7-9203-05FDB3C3E5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27" name="PlaceHolder 2"/>
          <p:cNvSpPr>
            <a:spLocks noGrp="1"/>
          </p:cNvSpPr>
          <p:nvPr>
            <p:ph type="ftr" idx="1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sldNum" idx="11"/>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04D2-018F-4B95-B5A6-224F0C8A07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65" name="PlaceHolder 2"/>
          <p:cNvSpPr>
            <a:spLocks noGrp="1"/>
          </p:cNvSpPr>
          <p:nvPr>
            <p:ph type="ftr" idx="1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sldNum" idx="13"/>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9A60-9C99-49D2-86DF-BF65610075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03" name="PlaceHolder 2"/>
          <p:cNvSpPr>
            <a:spLocks noGrp="1"/>
          </p:cNvSpPr>
          <p:nvPr>
            <p:ph type="ftr" idx="1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sldNum" idx="15"/>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CB99-6BC2-4318-B3C6-2892598CBC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1" name="PlaceHolder 2"/>
          <p:cNvSpPr>
            <a:spLocks noGrp="1"/>
          </p:cNvSpPr>
          <p:nvPr>
            <p:ph type="ftr" idx="1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7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9" name="Picture 5" descr="Vertical_RGB_600"/>
          <p:cNvPicPr/>
          <p:nvPr/>
        </p:nvPicPr>
        <p:blipFill>
          <a:blip r:embed="rId2"/>
          <a:stretch/>
        </p:blipFill>
        <p:spPr>
          <a:xfrm>
            <a:off x="2600280" y="5010120"/>
            <a:ext cx="1673280" cy="1371600"/>
          </a:xfrm>
          <a:prstGeom prst="rect">
            <a:avLst/>
          </a:prstGeom>
          <a:ln w="0">
            <a:noFill/>
          </a:ln>
        </p:spPr>
      </p:pic>
      <p:pic>
        <p:nvPicPr>
          <p:cNvPr id="580" name="Picture 6" descr="logo_2004"/>
          <p:cNvPicPr/>
          <p:nvPr/>
        </p:nvPicPr>
        <p:blipFill>
          <a:blip r:embed="rId3"/>
          <a:stretch/>
        </p:blipFill>
        <p:spPr>
          <a:xfrm>
            <a:off x="4809960" y="5010120"/>
            <a:ext cx="1447920" cy="1371600"/>
          </a:xfrm>
          <a:prstGeom prst="rect">
            <a:avLst/>
          </a:prstGeom>
          <a:ln w="0">
            <a:noFill/>
          </a:ln>
        </p:spPr>
      </p:pic>
      <p:pic>
        <p:nvPicPr>
          <p:cNvPr id="581" name="Picture 13" descr=""/>
          <p:cNvPicPr/>
          <p:nvPr/>
        </p:nvPicPr>
        <p:blipFill>
          <a:blip r:embed="rId4"/>
          <a:stretch/>
        </p:blipFill>
        <p:spPr>
          <a:xfrm>
            <a:off x="1871640" y="5295960"/>
            <a:ext cx="758880" cy="911160"/>
          </a:xfrm>
          <a:prstGeom prst="rect">
            <a:avLst/>
          </a:prstGeom>
          <a:ln w="0">
            <a:noFill/>
          </a:ln>
        </p:spPr>
      </p:pic>
      <p:sp>
        <p:nvSpPr>
          <p:cNvPr id="582" name="Text Box 14"/>
          <p:cNvSpPr/>
          <p:nvPr/>
        </p:nvSpPr>
        <p:spPr>
          <a:xfrm>
            <a:off x="276120" y="5335560"/>
            <a:ext cx="110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3585"/>
                </a:solidFill>
                <a:latin typeface="Arial"/>
              </a:rPr>
              <a:t>Add gov’t logo</a:t>
            </a:r>
            <a:endParaRPr b="0" lang="en-US" sz="1800" spc="-1" strike="noStrike">
              <a:solidFill>
                <a:srgbClr val="ffffff"/>
              </a:solidFill>
              <a:latin typeface="Arial"/>
            </a:endParaRPr>
          </a:p>
        </p:txBody>
      </p:sp>
      <p:sp>
        <p:nvSpPr>
          <p:cNvPr id="5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sldNum" idx="17"/>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FEF2-6EBF-4F12-9CA3-F2E1580EE8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22" name="PlaceHolder 2"/>
          <p:cNvSpPr>
            <a:spLocks noGrp="1"/>
          </p:cNvSpPr>
          <p:nvPr>
            <p:ph type="ftr" idx="18"/>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sldNum" idx="19"/>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208C-78FE-4442-8C32-6FA6D1FA27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60" name="PlaceHolder 2"/>
          <p:cNvSpPr>
            <a:spLocks noGrp="1"/>
          </p:cNvSpPr>
          <p:nvPr>
            <p:ph type="ftr" idx="20"/>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sldNum" idx="21"/>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A8DA-9B48-4207-BDE6-CF39021E1A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98" name="PlaceHolder 2"/>
          <p:cNvSpPr>
            <a:spLocks noGrp="1"/>
          </p:cNvSpPr>
          <p:nvPr>
            <p:ph type="ftr" idx="2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sldNum" idx="23"/>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5B6B-4B4C-4B39-BA98-9634FF0C7B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36" name="PlaceHolder 2"/>
          <p:cNvSpPr>
            <a:spLocks noGrp="1"/>
          </p:cNvSpPr>
          <p:nvPr>
            <p:ph type="ftr" idx="2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sldNum" idx="25"/>
          </p:nvPr>
        </p:nvSpPr>
        <p:spPr>
          <a:xfrm>
            <a:off x="228240" y="6124320"/>
            <a:ext cx="10666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89CF-355C-435D-8FF3-6B82DED88E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74" name="PlaceHolder 2"/>
          <p:cNvSpPr>
            <a:spLocks noGrp="1"/>
          </p:cNvSpPr>
          <p:nvPr>
            <p:ph type="ftr" idx="2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1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2" name="Picture 5" descr="Vertical_RGB_600"/>
          <p:cNvPicPr/>
          <p:nvPr/>
        </p:nvPicPr>
        <p:blipFill>
          <a:blip r:embed="rId2"/>
          <a:stretch/>
        </p:blipFill>
        <p:spPr>
          <a:xfrm>
            <a:off x="2600280" y="5010120"/>
            <a:ext cx="1673280" cy="1371600"/>
          </a:xfrm>
          <a:prstGeom prst="rect">
            <a:avLst/>
          </a:prstGeom>
          <a:ln w="0">
            <a:noFill/>
          </a:ln>
        </p:spPr>
      </p:pic>
      <p:pic>
        <p:nvPicPr>
          <p:cNvPr id="813" name="Picture 6" descr="logo_2004"/>
          <p:cNvPicPr/>
          <p:nvPr/>
        </p:nvPicPr>
        <p:blipFill>
          <a:blip r:embed="rId3"/>
          <a:stretch/>
        </p:blipFill>
        <p:spPr>
          <a:xfrm>
            <a:off x="4809960" y="5010120"/>
            <a:ext cx="1447920" cy="1371600"/>
          </a:xfrm>
          <a:prstGeom prst="rect">
            <a:avLst/>
          </a:prstGeom>
          <a:ln w="0">
            <a:noFill/>
          </a:ln>
        </p:spPr>
      </p:pic>
      <p:sp>
        <p:nvSpPr>
          <p:cNvPr id="8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77"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9"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0"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053D-27CA-43F1-AAA1-5142489C262F}"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81"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8" descr="Vertical_RGB_600"/>
          <p:cNvPicPr/>
          <p:nvPr/>
        </p:nvPicPr>
        <p:blipFill>
          <a:blip r:embed="rId2"/>
          <a:stretch/>
        </p:blipFill>
        <p:spPr>
          <a:xfrm>
            <a:off x="6580080" y="5829480"/>
            <a:ext cx="1116000" cy="914400"/>
          </a:xfrm>
          <a:prstGeom prst="rect">
            <a:avLst/>
          </a:prstGeom>
          <a:ln w="0">
            <a:noFill/>
          </a:ln>
        </p:spPr>
      </p:pic>
      <p:pic>
        <p:nvPicPr>
          <p:cNvPr id="84"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5"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67"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8" name="PlaceHolder 3"/>
          <p:cNvSpPr>
            <a:spLocks noGrp="1"/>
          </p:cNvSpPr>
          <p:nvPr>
            <p:ph type="sldNum" idx="5"/>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0A7A-BA70-4B1D-81C3-ABCBB7AC1E2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269"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8" descr="Vertical_RGB_600"/>
          <p:cNvPicPr/>
          <p:nvPr/>
        </p:nvPicPr>
        <p:blipFill>
          <a:blip r:embed="rId2"/>
          <a:stretch/>
        </p:blipFill>
        <p:spPr>
          <a:xfrm>
            <a:off x="6580080" y="5829480"/>
            <a:ext cx="1116000" cy="914400"/>
          </a:xfrm>
          <a:prstGeom prst="rect">
            <a:avLst/>
          </a:prstGeom>
          <a:ln w="0">
            <a:noFill/>
          </a:ln>
        </p:spPr>
      </p:pic>
      <p:pic>
        <p:nvPicPr>
          <p:cNvPr id="272"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0" y="301680"/>
            <a:ext cx="91440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DATA TO INFORM </a:t>
            </a:r>
            <a:br>
              <a:rPr sz="4000"/>
            </a:br>
            <a:r>
              <a:rPr b="1" lang="en-US" sz="4000" spc="-1" strike="noStrike">
                <a:solidFill>
                  <a:srgbClr val="ffffff"/>
                </a:solidFill>
                <a:latin typeface="Arial"/>
              </a:rPr>
              <a:t>POLICIES AND PROGRAMS</a:t>
            </a:r>
            <a:endParaRPr b="1" lang="en-US" sz="4000" spc="-1" strike="noStrike">
              <a:solidFill>
                <a:srgbClr val="ffffff"/>
              </a:solidFill>
              <a:latin typeface="Arial"/>
            </a:endParaRPr>
          </a:p>
        </p:txBody>
      </p:sp>
      <p:pic>
        <p:nvPicPr>
          <p:cNvPr id="860" name="Picture 4" descr="L1DSCF0017"/>
          <p:cNvPicPr/>
          <p:nvPr/>
        </p:nvPicPr>
        <p:blipFill>
          <a:blip r:embed="rId1"/>
          <a:stretch/>
        </p:blipFill>
        <p:spPr>
          <a:xfrm>
            <a:off x="2835360" y="2239920"/>
            <a:ext cx="3446280" cy="2584440"/>
          </a:xfrm>
          <a:prstGeom prst="rect">
            <a:avLst/>
          </a:prstGeom>
          <a:ln w="9360">
            <a:solidFill>
              <a:srgbClr val="ffffff"/>
            </a:solidFill>
            <a:miter/>
          </a:ln>
        </p:spPr>
      </p:pic>
      <p:sp>
        <p:nvSpPr>
          <p:cNvPr id="861" name="Text Box 6"/>
          <p:cNvSpPr/>
          <p:nvPr/>
        </p:nvSpPr>
        <p:spPr>
          <a:xfrm>
            <a:off x="6645240" y="4179960"/>
            <a:ext cx="232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ession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of Dissatisfaction that Policy Is Based on Scientific Evidence</a:t>
            </a:r>
            <a:endParaRPr b="1" lang="en-US" sz="3600" spc="-1" strike="noStrike">
              <a:solidFill>
                <a:srgbClr val="ffffff"/>
              </a:solidFill>
              <a:latin typeface="Arial"/>
            </a:endParaRPr>
          </a:p>
        </p:txBody>
      </p:sp>
      <p:pic>
        <p:nvPicPr>
          <p:cNvPr id="880" name="Content Placeholder 3" descr=""/>
          <p:cNvPicPr/>
          <p:nvPr/>
        </p:nvPicPr>
        <p:blipFill>
          <a:blip r:embed="rId1"/>
          <a:stretch/>
        </p:blipFill>
        <p:spPr>
          <a:xfrm>
            <a:off x="873000" y="1549440"/>
            <a:ext cx="7864560" cy="4064040"/>
          </a:xfrm>
          <a:prstGeom prst="rect">
            <a:avLst/>
          </a:prstGeom>
          <a:ln w="0">
            <a:noFill/>
          </a:ln>
        </p:spPr>
      </p:pic>
      <p:pic>
        <p:nvPicPr>
          <p:cNvPr id="881" name="TextBox 5" descr=""/>
          <p:cNvPicPr/>
          <p:nvPr/>
        </p:nvPicPr>
        <p:blipFill>
          <a:blip r:embed="rId2"/>
          <a:stretch/>
        </p:blipFill>
        <p:spPr>
          <a:xfrm>
            <a:off x="407880" y="1773360"/>
            <a:ext cx="652680" cy="3219480"/>
          </a:xfrm>
          <a:prstGeom prst="rect">
            <a:avLst/>
          </a:prstGeom>
          <a:ln w="0">
            <a:noFill/>
          </a:ln>
        </p:spPr>
      </p:pic>
      <p:sp>
        <p:nvSpPr>
          <p:cNvPr id="882" name="TextBox 4"/>
          <p:cNvSpPr/>
          <p:nvPr/>
        </p:nvSpPr>
        <p:spPr>
          <a:xfrm>
            <a:off x="0" y="5979960"/>
            <a:ext cx="538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seas Development Institute, Jones et al., 2008.</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85520" y="2599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llenges</a:t>
            </a:r>
            <a:endParaRPr b="1" lang="en-US" sz="3600" spc="-1" strike="noStrike">
              <a:solidFill>
                <a:srgbClr val="ffffff"/>
              </a:solidFill>
              <a:latin typeface="Arial"/>
            </a:endParaRPr>
          </a:p>
        </p:txBody>
      </p:sp>
      <p:sp>
        <p:nvSpPr>
          <p:cNvPr id="884" name=""/>
          <p:cNvSpPr txBox="1"/>
          <p:nvPr/>
        </p:nvSpPr>
        <p:spPr>
          <a:xfrm>
            <a:off x="946080" y="1585440"/>
            <a:ext cx="7763040" cy="3962520"/>
          </a:xfrm>
          <a:prstGeom prst="rect">
            <a:avLst/>
          </a:prstGeom>
          <a:noFill/>
          <a:ln w="0">
            <a:noFill/>
          </a:ln>
        </p:spPr>
        <p:txBody>
          <a:bodyPr anchor="t">
            <a:normAutofit/>
          </a:bodyPr>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egrated HMIS still not fully functioning</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ttle or no communication between data producers and data users</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capacity to collect, analyze, &amp; interpret data</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mited or no culture of data use </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ata collection and use not a pri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60080" y="632880"/>
            <a:ext cx="822636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Response</a:t>
            </a:r>
            <a:endParaRPr b="1" lang="en-US" sz="3600" spc="-1" strike="noStrike">
              <a:solidFill>
                <a:srgbClr val="ffffff"/>
              </a:solidFill>
              <a:latin typeface="Arial"/>
            </a:endParaRPr>
          </a:p>
        </p:txBody>
      </p:sp>
      <p:pic>
        <p:nvPicPr>
          <p:cNvPr id="886" name="Diagram 3" descr=""/>
          <p:cNvPicPr/>
          <p:nvPr/>
        </p:nvPicPr>
        <p:blipFill>
          <a:blip r:embed="rId1"/>
          <a:stretch/>
        </p:blipFill>
        <p:spPr>
          <a:xfrm>
            <a:off x="487440" y="2146320"/>
            <a:ext cx="8156520" cy="3778200"/>
          </a:xfrm>
          <a:prstGeom prst="rect">
            <a:avLst/>
          </a:prstGeom>
          <a:ln w="0">
            <a:noFill/>
          </a:ln>
        </p:spPr>
      </p:pic>
      <p:sp>
        <p:nvSpPr>
          <p:cNvPr id="887" name="TextBox 4"/>
          <p:cNvSpPr/>
          <p:nvPr/>
        </p:nvSpPr>
        <p:spPr>
          <a:xfrm>
            <a:off x="673200" y="3295800"/>
            <a:ext cx="2863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Monitoring &amp; Evaluation Systems</a:t>
            </a:r>
            <a:endParaRPr b="0" lang="en-US" sz="3200" spc="-1" strike="noStrike">
              <a:solidFill>
                <a:srgbClr val="ffffff"/>
              </a:solidFill>
              <a:latin typeface="Arial"/>
            </a:endParaRPr>
          </a:p>
        </p:txBody>
      </p:sp>
      <p:sp>
        <p:nvSpPr>
          <p:cNvPr id="888" name="TextBox 5"/>
          <p:cNvSpPr/>
          <p:nvPr/>
        </p:nvSpPr>
        <p:spPr>
          <a:xfrm>
            <a:off x="3381480" y="3243240"/>
            <a:ext cx="2225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Better Health Outcomes</a:t>
            </a:r>
            <a:endParaRPr b="0" lang="en-US" sz="3200" spc="-1" strike="noStrike">
              <a:solidFill>
                <a:srgbClr val="ffffff"/>
              </a:solidFill>
              <a:latin typeface="Arial"/>
            </a:endParaRPr>
          </a:p>
        </p:txBody>
      </p:sp>
      <p:sp>
        <p:nvSpPr>
          <p:cNvPr id="889" name="TextBox 6"/>
          <p:cNvSpPr/>
          <p:nvPr/>
        </p:nvSpPr>
        <p:spPr>
          <a:xfrm>
            <a:off x="5951520" y="3278160"/>
            <a:ext cx="2313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Data-informed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 and Evaluation</a:t>
            </a:r>
            <a:endParaRPr b="1" lang="en-US" sz="3600" spc="-1" strike="noStrike">
              <a:solidFill>
                <a:srgbClr val="ffffff"/>
              </a:solidFill>
              <a:latin typeface="Arial"/>
            </a:endParaRPr>
          </a:p>
        </p:txBody>
      </p:sp>
      <p:sp>
        <p:nvSpPr>
          <p:cNvPr id="891" name=""/>
          <p:cNvSpPr txBox="1"/>
          <p:nvPr/>
        </p:nvSpPr>
        <p:spPr>
          <a:xfrm>
            <a:off x="604800" y="1526760"/>
            <a:ext cx="8220240" cy="3962520"/>
          </a:xfrm>
          <a:prstGeom prst="rect">
            <a:avLst/>
          </a:prstGeom>
          <a:noFill/>
          <a:ln w="0">
            <a:noFill/>
          </a:ln>
        </p:spPr>
        <p:txBody>
          <a:bodyPr anchor="t">
            <a:normAutofit/>
          </a:bodyPr>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 changes in program performance over time</a:t>
            </a:r>
            <a:endParaRPr b="0" lang="en-US" sz="2800" spc="-1" strike="noStrike">
              <a:solidFill>
                <a:srgbClr val="ffffff"/>
              </a:solidFill>
              <a:latin typeface="Arial"/>
            </a:endParaRPr>
          </a:p>
          <a:p>
            <a:pPr lvl="1" marL="343080" indent="-343080">
              <a:spcBef>
                <a:spcPts val="201"/>
              </a:spcBef>
              <a:spcAft>
                <a:spcPts val="2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nitoring</a:t>
            </a:r>
            <a:endParaRPr b="0" lang="en-US" sz="2800" spc="-1" strike="noStrike">
              <a:solidFill>
                <a:srgbClr val="ffffff"/>
              </a:solidFill>
              <a:latin typeface="Arial"/>
            </a:endParaRPr>
          </a:p>
          <a:p>
            <a:pPr lvl="1"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program outcomes to their causes</a:t>
            </a:r>
            <a:endParaRPr b="0" lang="en-US" sz="2800" spc="-1" strike="noStrike">
              <a:solidFill>
                <a:srgbClr val="ffffff"/>
              </a:solidFill>
              <a:latin typeface="Arial"/>
            </a:endParaRPr>
          </a:p>
          <a:p>
            <a:pPr lvl="3" marL="1200240" indent="-34308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200240" indent="-343080">
              <a:spcBef>
                <a:spcPts val="700"/>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a:t>
            </a:r>
            <a:endParaRPr b="0" lang="en-US" sz="2800" spc="-1" strike="noStrike">
              <a:solidFill>
                <a:srgbClr val="ffffff"/>
              </a:solidFill>
              <a:latin typeface="Arial"/>
            </a:endParaRPr>
          </a:p>
          <a:p>
            <a:pPr lvl="1"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2" name="Curved Right Arrow 3"/>
          <p:cNvSpPr/>
          <p:nvPr/>
        </p:nvSpPr>
        <p:spPr>
          <a:xfrm>
            <a:off x="1030320" y="2496960"/>
            <a:ext cx="365040" cy="517680"/>
          </a:xfrm>
          <a:custGeom>
            <a:avLst/>
            <a:gdLst>
              <a:gd name="textAreaLeft" fmla="*/ 48600 w 365040"/>
              <a:gd name="textAreaRight" fmla="*/ 316440 w 365040"/>
              <a:gd name="textAreaTop" fmla="*/ 95040 h 517680"/>
              <a:gd name="textAreaBottom" fmla="*/ 376920 h 517680"/>
            </a:gdLst>
            <a:ahLst/>
            <a:rect l="textAreaLeft" t="textAreaTop" r="textAreaRight" b="textAreaBottom"/>
            <a:pathLst>
              <a:path w="21600" h="21600">
                <a:moveTo>
                  <a:pt x="21600" y="0"/>
                </a:moveTo>
                <a:arcTo wR="21600" hR="7943" stAng="-5400000" swAng="-5400000"/>
                <a:lnTo>
                  <a:pt x="0" y="11753"/>
                </a:lnTo>
                <a:arcTo wR="21600" hR="7943" stAng="10800000" swAng="-3295445"/>
                <a:lnTo>
                  <a:pt x="16200" y="21348"/>
                </a:lnTo>
                <a:lnTo>
                  <a:pt x="21600" y="17790"/>
                </a:lnTo>
                <a:lnTo>
                  <a:pt x="16200" y="13728"/>
                </a:lnTo>
                <a:lnTo>
                  <a:pt x="16200" y="15633"/>
                </a:lnTo>
                <a:arcTo wR="21600" hR="7943" stAng="7504555" swAng="2983994"/>
                <a:lnTo>
                  <a:pt x="630" y="9848"/>
                </a:lnTo>
                <a:arcTo wR="21600" hR="7943" stAng="-10488549" swAng="5088549"/>
                <a:close/>
              </a:path>
              <a:path fill="darkenLess" w="21600" h="21600">
                <a:moveTo>
                  <a:pt x="21600" y="0"/>
                </a:moveTo>
                <a:arcTo wR="21600" hR="7943" stAng="-5400000" swAng="-5400000"/>
                <a:lnTo>
                  <a:pt x="0" y="7943"/>
                </a:lnTo>
                <a:arcTo wR="21600" hR="7943" stAng="10800000" swAng="-311451"/>
                <a:lnTo>
                  <a:pt x="630" y="9848"/>
                </a:lnTo>
                <a:arcTo wR="21600" hR="7943" stAng="-10488549" swAng="5088549"/>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Curved Right Arrow 4"/>
          <p:cNvSpPr/>
          <p:nvPr/>
        </p:nvSpPr>
        <p:spPr>
          <a:xfrm>
            <a:off x="990720" y="4363920"/>
            <a:ext cx="366480" cy="517680"/>
          </a:xfrm>
          <a:custGeom>
            <a:avLst/>
            <a:gdLst>
              <a:gd name="textAreaLeft" fmla="*/ 48960 w 366480"/>
              <a:gd name="textAreaRight" fmla="*/ 317520 w 366480"/>
              <a:gd name="textAreaTop" fmla="*/ 95040 h 517680"/>
              <a:gd name="textAreaBottom" fmla="*/ 376920 h 517680"/>
            </a:gdLst>
            <a:ahLst/>
            <a:rect l="textAreaLeft" t="textAreaTop" r="textAreaRight" b="textAreaBottom"/>
            <a:pathLst>
              <a:path w="21600" h="21600">
                <a:moveTo>
                  <a:pt x="21600" y="0"/>
                </a:moveTo>
                <a:arcTo wR="21600" hR="7930" stAng="-5400000" swAng="-5400000"/>
                <a:lnTo>
                  <a:pt x="0" y="11757"/>
                </a:lnTo>
                <a:arcTo wR="21600" hR="7930" stAng="10800000" swAng="-3292898"/>
                <a:lnTo>
                  <a:pt x="16200" y="21348"/>
                </a:lnTo>
                <a:lnTo>
                  <a:pt x="21600" y="17774"/>
                </a:lnTo>
                <a:lnTo>
                  <a:pt x="16200" y="13695"/>
                </a:lnTo>
                <a:lnTo>
                  <a:pt x="16200" y="15608"/>
                </a:lnTo>
                <a:arcTo wR="21600" hR="7930" stAng="7507102" swAng="2979949"/>
                <a:lnTo>
                  <a:pt x="638" y="9844"/>
                </a:lnTo>
                <a:arcTo wR="21600" hR="7930" stAng="-10487051" swAng="5087051"/>
                <a:close/>
              </a:path>
              <a:path fill="darkenLess" w="21600" h="21600">
                <a:moveTo>
                  <a:pt x="21600" y="0"/>
                </a:moveTo>
                <a:arcTo wR="21600" hR="7930" stAng="-5400000" swAng="-5400000"/>
                <a:lnTo>
                  <a:pt x="0" y="7930"/>
                </a:lnTo>
                <a:arcTo wR="21600" hR="7930" stAng="10800000" swAng="-312949"/>
                <a:lnTo>
                  <a:pt x="638" y="9844"/>
                </a:lnTo>
                <a:arcTo wR="21600" hR="7930" stAng="-10487051" swAng="5087051"/>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923760" y="274320"/>
            <a:ext cx="7763040" cy="101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a:t>
            </a:r>
            <a:endParaRPr b="1" lang="en-US" sz="3600" spc="-1" strike="noStrike">
              <a:solidFill>
                <a:srgbClr val="ffffff"/>
              </a:solidFill>
              <a:latin typeface="Arial"/>
            </a:endParaRPr>
          </a:p>
        </p:txBody>
      </p:sp>
      <p:sp>
        <p:nvSpPr>
          <p:cNvPr id="895" name=""/>
          <p:cNvSpPr txBox="1"/>
          <p:nvPr/>
        </p:nvSpPr>
        <p:spPr>
          <a:xfrm>
            <a:off x="874440" y="1306080"/>
            <a:ext cx="7762680" cy="412740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ourc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elivery statistic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nsu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rveys, evaluations, research studies</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tinel surveillance</a:t>
            </a:r>
            <a:endParaRPr b="0" lang="en-US" sz="2600" spc="-1" strike="noStrike">
              <a:solidFill>
                <a:srgbClr val="ffffff"/>
              </a:solidFill>
              <a:latin typeface="Arial"/>
            </a:endParaRPr>
          </a:p>
          <a:p>
            <a:pPr lvl="1" marL="743040" indent="-2858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dget 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vs. information =</a:t>
            </a:r>
            <a:endParaRPr b="0" lang="en-US" sz="2600" spc="-1" strike="noStrike">
              <a:solidFill>
                <a:srgbClr val="ffffff"/>
              </a:solidFill>
              <a:latin typeface="Arial"/>
            </a:endParaRPr>
          </a:p>
          <a:p>
            <a:pPr marL="343080" indent="-34308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unsynthesized vs. synthesiz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569880" y="375840"/>
            <a:ext cx="8291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s of Monitoring and Evaluation</a:t>
            </a:r>
            <a:endParaRPr b="1" lang="en-US" sz="3600" spc="-1" strike="noStrike">
              <a:solidFill>
                <a:srgbClr val="ffffff"/>
              </a:solidFill>
              <a:latin typeface="Arial"/>
            </a:endParaRPr>
          </a:p>
        </p:txBody>
      </p:sp>
      <p:sp>
        <p:nvSpPr>
          <p:cNvPr id="897" name=""/>
          <p:cNvSpPr txBox="1"/>
          <p:nvPr/>
        </p:nvSpPr>
        <p:spPr>
          <a:xfrm>
            <a:off x="839880" y="1453680"/>
            <a:ext cx="7648560" cy="426420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ether a plan or program is on schedule with planned activities</a:t>
            </a:r>
            <a:endParaRPr b="0" lang="en-US" sz="28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whether a policy, plan, or program has produced desired impac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knowledge: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programmatic gaps, factors that influence health outcomes, etc.</a:t>
            </a:r>
            <a:endParaRPr b="0" lang="en-US" sz="24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y, planning, or program decisions</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Is Not an Enemy</a:t>
            </a:r>
            <a:endParaRPr b="1" lang="en-US" sz="3600" spc="-1" strike="noStrike">
              <a:solidFill>
                <a:srgbClr val="ffffff"/>
              </a:solidFill>
              <a:latin typeface="Arial"/>
            </a:endParaRPr>
          </a:p>
        </p:txBody>
      </p:sp>
      <p:sp>
        <p:nvSpPr>
          <p:cNvPr id="899" name=""/>
          <p:cNvSpPr txBox="1"/>
          <p:nvPr/>
        </p:nvSpPr>
        <p:spPr>
          <a:xfrm>
            <a:off x="923760" y="1599840"/>
            <a:ext cx="7763040" cy="3962520"/>
          </a:xfrm>
          <a:prstGeom prst="rect">
            <a:avLst/>
          </a:prstGeom>
          <a:noFill/>
          <a:ln w="0">
            <a:noFill/>
          </a:ln>
        </p:spPr>
        <p:txBody>
          <a:bodyPr anchor="t">
            <a:normAutofit fontScale="99000"/>
          </a:bodyPr>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makers, program managers, and M&amp;E/strategic information specialists can be partners</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decision making and management rely on high-quality M&amp;E / strategic information</a:t>
            </a:r>
            <a:endParaRPr b="0" lang="en-US" sz="2800" spc="-1" strike="noStrike">
              <a:solidFill>
                <a:srgbClr val="ffffff"/>
              </a:solidFill>
              <a:latin typeface="Arial"/>
            </a:endParaRPr>
          </a:p>
          <a:p>
            <a:pPr marL="339480" indent="-339480">
              <a:lnSpc>
                <a:spcPct val="12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quality is linked to data use</a:t>
            </a:r>
            <a:endParaRPr b="0" lang="en-US" sz="2800" spc="-1" strike="noStrike">
              <a:solidFill>
                <a:srgbClr val="ffffff"/>
              </a:solidFill>
              <a:latin typeface="Arial"/>
            </a:endParaRPr>
          </a:p>
          <a:p>
            <a:pPr marL="339480" indent="-3394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73040" y="1314360"/>
            <a:ext cx="8153280" cy="3170160"/>
          </a:xfrm>
          <a:prstGeom prst="rect">
            <a:avLst/>
          </a:prstGeom>
          <a:noFill/>
          <a:ln w="0">
            <a:noFill/>
          </a:ln>
        </p:spPr>
        <p:txBody>
          <a:bodyPr anchor="t">
            <a:normAutofit fontScale="75000"/>
          </a:bodyPr>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based decision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ch lead to…</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programs and</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outcomes</a:t>
            </a:r>
            <a:endParaRPr b="0" lang="en-US" sz="4000" spc="-1" strike="noStrike">
              <a:solidFill>
                <a:srgbClr val="ffffff"/>
              </a:solidFill>
              <a:latin typeface="Arial"/>
            </a:endParaRPr>
          </a:p>
          <a:p>
            <a:pPr marL="257040" indent="-257040" algn="ct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1" name="TextBox 3"/>
          <p:cNvSpPr/>
          <p:nvPr/>
        </p:nvSpPr>
        <p:spPr>
          <a:xfrm>
            <a:off x="593640" y="652320"/>
            <a:ext cx="803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itoring and Evaluation allow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00">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90480" y="638280"/>
            <a:ext cx="6330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 Participation</a:t>
            </a:r>
            <a:endParaRPr b="1" lang="en-US" sz="4400" spc="-1" strike="noStrike">
              <a:solidFill>
                <a:srgbClr val="ffffff"/>
              </a:solidFill>
              <a:latin typeface="Arial"/>
            </a:endParaRPr>
          </a:p>
        </p:txBody>
      </p:sp>
      <p:sp>
        <p:nvSpPr>
          <p:cNvPr id="903" name=""/>
          <p:cNvSpPr txBox="1"/>
          <p:nvPr/>
        </p:nvSpPr>
        <p:spPr>
          <a:xfrm>
            <a:off x="723960" y="2522520"/>
            <a:ext cx="7215120" cy="2379600"/>
          </a:xfrm>
          <a:prstGeom prst="rect">
            <a:avLst/>
          </a:prstGeom>
          <a:noFill/>
          <a:ln w="0">
            <a:noFill/>
          </a:ln>
        </p:spPr>
        <p:txBody>
          <a:bodyPr anchor="t">
            <a:normAutofit/>
          </a:bodyPr>
          <a:p>
            <a:pPr marL="343080" indent="-343080">
              <a:lnSpc>
                <a:spcPts val="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endParaRPr b="0" lang="en-US" sz="2600" spc="-1" strike="noStrike">
              <a:solidFill>
                <a:srgbClr val="ffffff"/>
              </a:solidFill>
              <a:latin typeface="Arial"/>
            </a:endParaRPr>
          </a:p>
          <a:p>
            <a:pPr lvl="1" marL="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ow do you and your organization use data and information?</a:t>
            </a:r>
            <a:r>
              <a:rPr b="1" lang="en-US" sz="2400" spc="-1" strike="noStrike">
                <a:solidFill>
                  <a:srgbClr val="ffff99"/>
                </a:solidFill>
                <a:latin typeface="Arial"/>
              </a:rPr>
              <a:t> </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904" name="Picture 4" descr=""/>
          <p:cNvPicPr/>
          <p:nvPr/>
        </p:nvPicPr>
        <p:blipFill>
          <a:blip r:embed="rId1"/>
          <a:stretch/>
        </p:blipFill>
        <p:spPr>
          <a:xfrm>
            <a:off x="6905520" y="366840"/>
            <a:ext cx="1919520" cy="223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6800" y="471240"/>
            <a:ext cx="864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 can use information to…</a:t>
            </a:r>
            <a:endParaRPr b="1" lang="en-US" sz="3600" spc="-1" strike="noStrike">
              <a:solidFill>
                <a:srgbClr val="ffffff"/>
              </a:solidFill>
              <a:latin typeface="Arial"/>
            </a:endParaRPr>
          </a:p>
        </p:txBody>
      </p:sp>
      <p:sp>
        <p:nvSpPr>
          <p:cNvPr id="906" name=""/>
          <p:cNvSpPr txBox="1"/>
          <p:nvPr/>
        </p:nvSpPr>
        <p:spPr>
          <a:xfrm>
            <a:off x="872640" y="1587600"/>
            <a:ext cx="8045640" cy="37447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ies and plan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 additional resource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programs and improve result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accountability and reporting</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quality of services provid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 to global lessons learned</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6">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06">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6">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06">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6">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bjectives</a:t>
            </a:r>
            <a:endParaRPr b="1" lang="en-US" sz="3600" spc="-1" strike="noStrike">
              <a:solidFill>
                <a:srgbClr val="ffffff"/>
              </a:solidFill>
              <a:latin typeface="Arial"/>
            </a:endParaRPr>
          </a:p>
        </p:txBody>
      </p:sp>
      <p:sp>
        <p:nvSpPr>
          <p:cNvPr id="863"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importance of improving data-informed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role of monitoring and evaluation (M&amp;E) data in decision 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757080" y="2869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Making Data Speak” in Thailand</a:t>
            </a:r>
            <a:endParaRPr b="1" lang="en-US" sz="3600" spc="-1" strike="noStrike">
              <a:solidFill>
                <a:srgbClr val="ffffff"/>
              </a:solidFill>
              <a:latin typeface="Arial"/>
            </a:endParaRPr>
          </a:p>
        </p:txBody>
      </p:sp>
      <p:sp>
        <p:nvSpPr>
          <p:cNvPr id="908" name=""/>
          <p:cNvSpPr txBox="1"/>
          <p:nvPr/>
        </p:nvSpPr>
        <p:spPr>
          <a:xfrm>
            <a:off x="480600" y="1389240"/>
            <a:ext cx="8394840" cy="4178160"/>
          </a:xfrm>
          <a:prstGeom prst="rect">
            <a:avLst/>
          </a:prstGeom>
          <a:noFill/>
          <a:ln w="0">
            <a:noFill/>
          </a:ln>
        </p:spPr>
        <p:txBody>
          <a:bodyPr anchor="t">
            <a:normAutofit/>
          </a:bodyPr>
          <a:p>
            <a:pPr marL="343080" indent="-343080">
              <a:lnSpc>
                <a:spcPct val="8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Need</a:t>
            </a:r>
            <a:r>
              <a:rPr b="0" lang="en-US" sz="2600" spc="-1" strike="noStrike">
                <a:solidFill>
                  <a:srgbClr val="ffffff"/>
                </a:solidFill>
                <a:latin typeface="Arial"/>
              </a:rPr>
              <a:t>:  Strengthen commitment of policymakers to HIV prevention</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ata</a:t>
            </a:r>
            <a:r>
              <a:rPr b="0" lang="en-US" sz="2600" spc="-1" strike="noStrike">
                <a:solidFill>
                  <a:srgbClr val="ffffff"/>
                </a:solidFill>
                <a:latin typeface="Arial"/>
              </a:rPr>
              <a:t>:  Behavioral and epidemiological data</a:t>
            </a:r>
            <a:endParaRPr b="0" lang="en-US" sz="26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Response</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zed data with Asian Epidemic Model and GOALS model</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responses and resources needed</a:t>
            </a:r>
            <a:endParaRPr b="0" lang="en-US" sz="20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ed data to stakeholders</a:t>
            </a:r>
            <a:endParaRPr b="0" lang="en-US" sz="2000" spc="-1" strike="noStrike">
              <a:solidFill>
                <a:srgbClr val="ffffff"/>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Decision/Action:</a:t>
            </a:r>
            <a:endParaRPr b="0" lang="en-US" sz="2600" spc="-1" strike="noStrike">
              <a:solidFill>
                <a:srgbClr val="ffffff"/>
              </a:solidFill>
              <a:latin typeface="Arial"/>
            </a:endParaRPr>
          </a:p>
          <a:p>
            <a:pPr lvl="1" marL="743040" indent="-285840">
              <a:lnSpc>
                <a:spcPct val="7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fully emphasized prevention agenda in national strategic plan and developed an operational plan to guide prevention programm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84000" y="3344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NNRIMS Data to Inform Resource Allocation</a:t>
            </a:r>
            <a:endParaRPr b="1" lang="en-US" sz="3600" spc="-1" strike="noStrike">
              <a:solidFill>
                <a:srgbClr val="ffffff"/>
              </a:solidFill>
              <a:latin typeface="Arial"/>
            </a:endParaRPr>
          </a:p>
        </p:txBody>
      </p:sp>
      <p:sp>
        <p:nvSpPr>
          <p:cNvPr id="910" name=""/>
          <p:cNvSpPr txBox="1"/>
          <p:nvPr/>
        </p:nvSpPr>
        <p:spPr>
          <a:xfrm>
            <a:off x="744480" y="1630080"/>
            <a:ext cx="7763040" cy="385596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ed</a:t>
            </a:r>
            <a:r>
              <a:rPr b="0" lang="en-US" sz="2400" spc="-1" strike="noStrike">
                <a:solidFill>
                  <a:srgbClr val="ffffff"/>
                </a:solidFill>
                <a:latin typeface="Arial"/>
              </a:rPr>
              <a:t>: Strengthen monitoring of HIV/AIDS service delivery</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a</a:t>
            </a:r>
            <a:r>
              <a:rPr b="0" lang="en-US" sz="2400" spc="-1" strike="noStrike">
                <a:solidFill>
                  <a:srgbClr val="ffffff"/>
                </a:solidFill>
                <a:latin typeface="Arial"/>
              </a:rPr>
              <a:t>: HIV service delivery indicators</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pons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NRIMS, a routine information system</a:t>
            </a:r>
            <a:endParaRPr b="0" lang="en-US" sz="20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rterly reports summarizing data prepared for and reviewed by LGA managers &amp; decision makers  </a:t>
            </a:r>
            <a:endParaRPr b="0" lang="en-US" sz="20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cision/Ac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man procured 480 HIV test kits, enabling more people to get tested in Do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912"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isions based on evidence lead to better health outcomes </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all have a role in M&amp;E – partners in progres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quality information is needed for decision making at policy, planning, and program level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M&amp;E is not just to produce more information but to inform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06400" y="30456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Small Group Activity 1: Instructions</a:t>
            </a:r>
            <a:endParaRPr b="1" lang="en-US" sz="3500" spc="-1" strike="noStrike">
              <a:solidFill>
                <a:srgbClr val="ffffff"/>
              </a:solidFill>
              <a:latin typeface="Arial"/>
            </a:endParaRPr>
          </a:p>
        </p:txBody>
      </p:sp>
      <p:sp>
        <p:nvSpPr>
          <p:cNvPr id="914" name=""/>
          <p:cNvSpPr txBox="1"/>
          <p:nvPr/>
        </p:nvSpPr>
        <p:spPr>
          <a:xfrm>
            <a:off x="936360" y="1336320"/>
            <a:ext cx="7762680" cy="3962520"/>
          </a:xfrm>
          <a:prstGeom prst="rect">
            <a:avLst/>
          </a:prstGeom>
          <a:noFill/>
          <a:ln w="0">
            <a:noFill/>
          </a:ln>
        </p:spPr>
        <p:txBody>
          <a:bodyPr anchor="t">
            <a:normAutofit fontScale="96000"/>
          </a:bodyPr>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reporter</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d the case study and answer the following questions (45 min):</a:t>
            </a:r>
            <a:endParaRPr b="0" lang="en-US" sz="26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mpted the data use undertaking?</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decision take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data were used to make the decisio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outcome of the decisio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back (10 min per gro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101520" y="903240"/>
            <a:ext cx="8810640" cy="43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ANK YOU!</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Evaluation is a MEASURE project funded by the U.S. Agency for International Development and implemented by the Carolina Population Center at the University of North Carolina at Chapel Hill in partnership with Futures Group International, ICF Macro, John Snow, Inc., Management Sciences for Health, and Tulane University. Views expressed in this presentation do not necessarily reflect the views of USAID or the U.S. Government. MEASURE Evaluation is the USAID Global Health Bureau's primary vehicle for supporting improvements in monitoring and evaluation in population, health and nutrition worldwi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 us online at http://www.cpc.unc.edu/measure</a:t>
            </a:r>
            <a:r>
              <a:rPr b="0" i="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verview</a:t>
            </a:r>
            <a:endParaRPr b="1" lang="en-US" sz="3600" spc="-1" strike="noStrike">
              <a:solidFill>
                <a:srgbClr val="ffffff"/>
              </a:solidFill>
              <a:latin typeface="Arial"/>
            </a:endParaRPr>
          </a:p>
        </p:txBody>
      </p:sp>
      <p:sp>
        <p:nvSpPr>
          <p:cNvPr id="865" name=""/>
          <p:cNvSpPr txBox="1"/>
          <p:nvPr/>
        </p:nvSpPr>
        <p:spPr>
          <a:xfrm>
            <a:off x="923760" y="1599840"/>
            <a:ext cx="7763040" cy="3962520"/>
          </a:xfrm>
          <a:prstGeom prst="rect">
            <a:avLst/>
          </a:prstGeom>
          <a:noFill/>
          <a:ln w="0">
            <a:noFill/>
          </a:ln>
        </p:spPr>
        <p:txBody>
          <a:bodyPr anchor="t">
            <a:normAutofit/>
          </a:bodyPr>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data in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allenges to using data in decision making</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s of M&amp;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data u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Activity 1: Case Studies</a:t>
            </a:r>
            <a:endParaRPr b="0" lang="en-US" sz="2800" spc="-1" strike="noStrike">
              <a:solidFill>
                <a:srgbClr val="ffffff"/>
              </a:solidFill>
              <a:latin typeface="Arial"/>
            </a:endParaRPr>
          </a:p>
          <a:p>
            <a:pPr marL="343080" indent="-34308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434880" y="1436760"/>
            <a:ext cx="8439120" cy="396216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without information, things are done arbitrarily and one becomes unsure of whether a policy or program will fail or succeed. If we allow our policies to be guided by empirical facts and data, there will be a noticeable change in the impact of what we do.” </a:t>
            </a:r>
            <a:endParaRPr b="0" lang="en-US" sz="28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ional-level Policymaker, Nigeria</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69600" y="24588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informed Decision Making?</a:t>
            </a:r>
            <a:endParaRPr b="1" lang="en-US" sz="3600" spc="-1" strike="noStrike">
              <a:solidFill>
                <a:srgbClr val="ffffff"/>
              </a:solidFill>
              <a:latin typeface="Arial"/>
            </a:endParaRPr>
          </a:p>
        </p:txBody>
      </p:sp>
      <p:sp>
        <p:nvSpPr>
          <p:cNvPr id="868" name=""/>
          <p:cNvSpPr txBox="1"/>
          <p:nvPr/>
        </p:nvSpPr>
        <p:spPr>
          <a:xfrm>
            <a:off x="830160" y="151236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V epidemi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gence of TB</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evalence of malari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ckets of stalled fertility declin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burde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age of health care worke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14160" y="28872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a:t>
            </a:r>
            <a:endParaRPr b="1" lang="en-US" sz="3600" spc="-1" strike="noStrike">
              <a:solidFill>
                <a:srgbClr val="ffffff"/>
              </a:solidFill>
              <a:latin typeface="Arial"/>
            </a:endParaRPr>
          </a:p>
        </p:txBody>
      </p:sp>
      <p:pic>
        <p:nvPicPr>
          <p:cNvPr id="870" name="Picture 4" descr=""/>
          <p:cNvPicPr/>
          <p:nvPr/>
        </p:nvPicPr>
        <p:blipFill>
          <a:blip r:embed="rId1"/>
          <a:stretch/>
        </p:blipFill>
        <p:spPr>
          <a:xfrm>
            <a:off x="1828800" y="1449360"/>
            <a:ext cx="5719680" cy="4267080"/>
          </a:xfrm>
          <a:prstGeom prst="rect">
            <a:avLst/>
          </a:prstGeom>
          <a:ln w="0">
            <a:noFill/>
          </a:ln>
        </p:spPr>
      </p:pic>
      <p:sp>
        <p:nvSpPr>
          <p:cNvPr id="871" name="TextBox 4"/>
          <p:cNvSpPr/>
          <p:nvPr/>
        </p:nvSpPr>
        <p:spPr>
          <a:xfrm>
            <a:off x="1649520" y="1773360"/>
            <a:ext cx="5692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TextBox 5"/>
          <p:cNvSpPr/>
          <p:nvPr/>
        </p:nvSpPr>
        <p:spPr>
          <a:xfrm>
            <a:off x="1828800" y="1550880"/>
            <a:ext cx="5805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sing need to develop health policies, strategies, and 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57080" y="2887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mprove Data-informed Decision Making? </a:t>
            </a:r>
            <a:endParaRPr b="1" lang="en-US" sz="3600" spc="-1" strike="noStrike">
              <a:solidFill>
                <a:srgbClr val="ffffff"/>
              </a:solidFill>
              <a:latin typeface="Arial"/>
            </a:endParaRPr>
          </a:p>
        </p:txBody>
      </p:sp>
      <p:sp>
        <p:nvSpPr>
          <p:cNvPr id="874" name=""/>
          <p:cNvSpPr txBox="1"/>
          <p:nvPr/>
        </p:nvSpPr>
        <p:spPr>
          <a:xfrm>
            <a:off x="742680" y="162828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inancial investments for service delivery</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accountability requiremen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national HMI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demand for evaluation and other researc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address data demand &amp; use?</a:t>
            </a:r>
            <a:endParaRPr b="1" lang="en-US" sz="3600" spc="-1" strike="noStrike">
              <a:solidFill>
                <a:srgbClr val="ffffff"/>
              </a:solidFill>
              <a:latin typeface="Arial"/>
            </a:endParaRPr>
          </a:p>
        </p:txBody>
      </p:sp>
      <p:pic>
        <p:nvPicPr>
          <p:cNvPr id="876" name="Picture 2" descr=""/>
          <p:cNvPicPr/>
          <p:nvPr/>
        </p:nvPicPr>
        <p:blipFill>
          <a:blip r:embed="rId1"/>
          <a:stretch/>
        </p:blipFill>
        <p:spPr>
          <a:xfrm>
            <a:off x="1165320" y="1652760"/>
            <a:ext cx="7137360" cy="42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41160" y="2948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idence-based Decision-making Process</a:t>
            </a:r>
            <a:endParaRPr b="1" lang="en-US" sz="3600" spc="-1" strike="noStrike">
              <a:solidFill>
                <a:srgbClr val="ffffff"/>
              </a:solidFill>
              <a:latin typeface="Arial"/>
            </a:endParaRPr>
          </a:p>
        </p:txBody>
      </p:sp>
      <p:pic>
        <p:nvPicPr>
          <p:cNvPr id="878" name="Picture 3" descr="measure flowchart"/>
          <p:cNvPicPr/>
          <p:nvPr/>
        </p:nvPicPr>
        <p:blipFill>
          <a:blip r:embed="rId1"/>
          <a:stretch/>
        </p:blipFill>
        <p:spPr>
          <a:xfrm>
            <a:off x="1509840" y="1627200"/>
            <a:ext cx="6124320" cy="387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25:38Z</dcterms:created>
  <dc:creator>Carolina Population Center</dc:creator>
  <dc:description/>
  <dc:language>en-US</dc:language>
  <cp:lastModifiedBy>Molly's laptop</cp:lastModifiedBy>
  <dcterms:modified xsi:type="dcterms:W3CDTF">2011-04-14T16:56:15Z</dcterms:modified>
  <cp:revision>146</cp:revision>
  <dc:subject/>
  <dc:title>Slide 1</dc:title>
</cp:coreProperties>
</file>