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61"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2" name="PlaceHolder 2"/>
          <p:cNvSpPr>
            <a:spLocks noGrp="1"/>
          </p:cNvSpPr>
          <p:nvPr>
            <p:ph type="dt" idx="49"/>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3"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64"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5" name="PlaceHolder 5"/>
          <p:cNvSpPr>
            <a:spLocks noGrp="1"/>
          </p:cNvSpPr>
          <p:nvPr>
            <p:ph type="ftr" idx="50"/>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66" name="PlaceHolder 6"/>
          <p:cNvSpPr>
            <a:spLocks noGrp="1"/>
          </p:cNvSpPr>
          <p:nvPr>
            <p:ph type="sldNum" idx="51"/>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9880-5BC9-48E6-92E4-0E2E234B5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70A5-5AA9-4CAF-8C66-A9712A0D47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7" name="PlaceHolder 1"/>
          <p:cNvSpPr>
            <a:spLocks noGrp="1"/>
          </p:cNvSpPr>
          <p:nvPr>
            <p:ph type="sldImg"/>
          </p:nvPr>
        </p:nvSpPr>
        <p:spPr>
          <a:xfrm>
            <a:off x="1181160" y="698400"/>
            <a:ext cx="4648320" cy="3486240"/>
          </a:xfrm>
          <a:prstGeom prst="rect">
            <a:avLst/>
          </a:prstGeom>
          <a:ln w="0">
            <a:noFill/>
          </a:ln>
        </p:spPr>
      </p:sp>
      <p:sp>
        <p:nvSpPr>
          <p:cNvPr id="133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steps in facilitating the use of data is to understand how data and information flow from data collectors to users, including all steps of analysis, storage, and dissemination in betwe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FA8F-BE58-4869-A870-5D86C3B190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4" name="PlaceHolder 1"/>
          <p:cNvSpPr>
            <a:spLocks noGrp="1"/>
          </p:cNvSpPr>
          <p:nvPr>
            <p:ph type="sldImg"/>
          </p:nvPr>
        </p:nvSpPr>
        <p:spPr>
          <a:xfrm>
            <a:off x="1181160" y="698400"/>
            <a:ext cx="4648320" cy="3486240"/>
          </a:xfrm>
          <a:prstGeom prst="rect">
            <a:avLst/>
          </a:prstGeom>
          <a:ln w="0">
            <a:noFill/>
          </a:ln>
        </p:spPr>
      </p:sp>
      <p:sp>
        <p:nvSpPr>
          <p:cNvPr id="136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had some experience in discussing how information flows in your work settings, let’s review the Information Use Map tool—this can be used to map information flow formally and ultimately link available data with decisions that need to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CE16-4A81-49A2-997A-B3A9CF2DDC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7" name="PlaceHolder 1"/>
          <p:cNvSpPr>
            <a:spLocks noGrp="1"/>
          </p:cNvSpPr>
          <p:nvPr>
            <p:ph type="sldImg"/>
          </p:nvPr>
        </p:nvSpPr>
        <p:spPr>
          <a:xfrm>
            <a:off x="1181160" y="698400"/>
            <a:ext cx="4648320" cy="3486240"/>
          </a:xfrm>
          <a:prstGeom prst="rect">
            <a:avLst/>
          </a:prstGeom>
          <a:ln w="0">
            <a:noFill/>
          </a:ln>
        </p:spPr>
      </p:sp>
      <p:sp>
        <p:nvSpPr>
          <p:cNvPr id="136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Use Map is a flowchart framework that allows the us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eate a schematic representation of the existing state of a health information system or subsystem.</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rough this visual representation, quickly identify gaps and deficiencies in that information flow.</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opportunities for new feedback mechanisms to share high-level analysis and reports with lower levels of the information hierarch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points in the process at which additional analysis and use of data could lead to improved program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oritize recommendations and formulate an action plan to implement them.</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Use Map can be developed and applied at the international, regional, national, or local levels. The map can be an ongoing guideline to assess progress toward the “expected” future vision of the map. The Information Use Map can also become a standard part of an M&amp;E system—revisited and revised at regular intervals, or whenever a new survey or special study is being desig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F9F5-CA08-4D60-ACA2-89AAE156AD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370" name="PlaceHolder 1"/>
          <p:cNvSpPr>
            <a:spLocks noGrp="1"/>
          </p:cNvSpPr>
          <p:nvPr>
            <p:ph type="sldImg"/>
          </p:nvPr>
        </p:nvSpPr>
        <p:spPr>
          <a:xfrm>
            <a:off x="1181160" y="698400"/>
            <a:ext cx="4648320" cy="3486240"/>
          </a:xfrm>
          <a:prstGeom prst="rect">
            <a:avLst/>
          </a:prstGeom>
          <a:ln w="0">
            <a:noFill/>
          </a:ln>
        </p:spPr>
      </p:sp>
      <p:sp>
        <p:nvSpPr>
          <p:cNvPr id="137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NOTE to facilitator</a:t>
            </a:r>
            <a:r>
              <a:rPr b="0" lang="en-US" sz="1200" spc="-1" strike="noStrike">
                <a:solidFill>
                  <a:srgbClr val="000000"/>
                </a:solidFill>
                <a:latin typeface="Arial"/>
              </a:rPr>
              <a:t>: Provide handout of map to participants.</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Here is a snapshot of the Information Use Map.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rows represent the different actors in the health system that collect and use data. It starts with private clinics, NGOs, government facilities, regions, and finally the national level. Data are collected at the first three levels and then passed to the last two levels for use.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columns represent the process that data go through from collection to compilation, storage, analysis, reporting, and use.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map shows where data from the different data collection points pass through the stages of collection to use. When information flow is mapped visually, deficiencies quickly become apparent. The large, empty expanses of the chart tell the story. In this map, it is clear that insights from high-level reports are not shared back with lower levels, and information is being used only to file reports, not to support evidence-based decisions for program improvement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7A39-6A0F-42F2-AE8A-541F2ABC93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373" name="PlaceHolder 1"/>
          <p:cNvSpPr>
            <a:spLocks noGrp="1"/>
          </p:cNvSpPr>
          <p:nvPr>
            <p:ph type="sldImg"/>
          </p:nvPr>
        </p:nvSpPr>
        <p:spPr>
          <a:xfrm>
            <a:off x="1181160" y="698400"/>
            <a:ext cx="4648320" cy="3486240"/>
          </a:xfrm>
          <a:prstGeom prst="rect">
            <a:avLst/>
          </a:prstGeom>
          <a:ln w="0">
            <a:noFill/>
          </a:ln>
        </p:spPr>
      </p:sp>
      <p:sp>
        <p:nvSpPr>
          <p:cNvPr id="137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Arial"/>
              </a:rPr>
              <a:t>NOTE to facilitator</a:t>
            </a:r>
            <a:r>
              <a:rPr b="0" lang="en-US" sz="1200" spc="-1" strike="noStrike">
                <a:solidFill>
                  <a:srgbClr val="000000"/>
                </a:solidFill>
                <a:latin typeface="Arial"/>
              </a:rPr>
              <a:t>: Provide handout of map to participants.</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is map highlights potential improvements in the M&amp;E system at points where feedback mechanisms can be developed and opportunities for increased data use can be identified.</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The mapping process shows how each level of service delivery can improve its use of the data it has for local decision making, as indicated by the circles. Also, the map shows how the data collected at the facility level contribute to national data systems and the decision-making process. The arrows along the left-hand side show how data are shared back with those who collect the data to improve the feedback and monitoring of services delivered. </a:t>
            </a:r>
            <a:endParaRPr b="0" lang="en-US" sz="1200" spc="-1" strike="noStrike">
              <a:solidFill>
                <a:srgbClr val="000000"/>
              </a:solidFill>
              <a:latin typeface="Arial"/>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81160" y="698400"/>
            <a:ext cx="4648320" cy="3486240"/>
          </a:xfrm>
          <a:prstGeom prst="rect">
            <a:avLst/>
          </a:prstGeom>
          <a:ln w="0">
            <a:noFill/>
          </a:ln>
        </p:spPr>
      </p:sp>
      <p:sp>
        <p:nvSpPr>
          <p:cNvPr id="137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move on to a small group activity. Before we do, let’s review the key message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solicit questions on the material cov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BB26-B972-42A5-AF9C-D4956CAFB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81160" y="698400"/>
            <a:ext cx="4648320" cy="3486240"/>
          </a:xfrm>
          <a:prstGeom prst="rect">
            <a:avLst/>
          </a:prstGeom>
          <a:ln w="0">
            <a:noFill/>
          </a:ln>
        </p:spPr>
      </p:sp>
      <p:sp>
        <p:nvSpPr>
          <p:cNvPr id="137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If participants are not from same organization, this activity can be done with participants from different organizations, but have each group choose one organization to map for the exercise. Convene groups of six to eight individuals. Read slide. Hand out copies of the Information Use Map. Each group should spend approximately 30 minutes mapping how information flows in their organization. Remind the groups that after 20 minutes of group work, they have 10 more minutes to finish Par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82D9-755D-49F1-8C5E-DD270141E1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81160" y="698400"/>
            <a:ext cx="4648320" cy="3486240"/>
          </a:xfrm>
          <a:prstGeom prst="rect">
            <a:avLst/>
          </a:prstGeom>
          <a:ln w="0">
            <a:noFill/>
          </a:ln>
        </p:spPr>
      </p:sp>
      <p:sp>
        <p:nvSpPr>
          <p:cNvPr id="138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38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71FB-C5C7-4BFF-BA77-FC36266999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81160" y="698400"/>
            <a:ext cx="4648320" cy="3486240"/>
          </a:xfrm>
          <a:prstGeom prst="rect">
            <a:avLst/>
          </a:prstGeom>
          <a:ln w="0">
            <a:noFill/>
          </a:ln>
        </p:spPr>
      </p:sp>
      <p:sp>
        <p:nvSpPr>
          <p:cNvPr id="138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38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12F6-4BBD-41D8-9D7D-5A51F50EDB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81160" y="698400"/>
            <a:ext cx="4648320" cy="3486240"/>
          </a:xfrm>
          <a:prstGeom prst="rect">
            <a:avLst/>
          </a:prstGeom>
          <a:ln w="0">
            <a:noFill/>
          </a:ln>
        </p:spPr>
      </p:sp>
      <p:sp>
        <p:nvSpPr>
          <p:cNvPr id="138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To report back on this exercise, we will use a ‘round robin’ approach. Instruct one group member to remain at the table to present his or her group’s map to visiting tables. Each table (minus the presenter who remains behind) moves to the right to visit the table next to them. Table representatives spend 10 minutes describing to their visitors how his or her group improved its information flow and how this would facilitate data use. After 10 minutes, the table group moves one more table to the right and visits a new table. Again, that table representative spends 10 minutes describing to the visitors how his or her group improved its information flow and how this would facilitate data use. All table groups return to their own tables to consider and discuss how what they learned from their neighbors could be applied to their settings to improve information flow and data use. Remind the groups that they have 30 minutes to improve their maps after they have visited with their neighbors. </a:t>
            </a:r>
            <a:endParaRPr b="0" lang="en-US" sz="1200" spc="-1" strike="noStrike">
              <a:solidFill>
                <a:srgbClr val="000000"/>
              </a:solidFill>
              <a:latin typeface="Arial"/>
            </a:endParaRPr>
          </a:p>
        </p:txBody>
      </p:sp>
      <p:sp>
        <p:nvSpPr>
          <p:cNvPr id="138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6043-11D7-407D-ACC4-4BAF17CC0D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81160" y="698400"/>
            <a:ext cx="4648320" cy="3486240"/>
          </a:xfrm>
          <a:prstGeom prst="rect">
            <a:avLst/>
          </a:prstGeom>
          <a:ln w="0">
            <a:noFill/>
          </a:ln>
        </p:spPr>
      </p:sp>
      <p:sp>
        <p:nvSpPr>
          <p:cNvPr id="139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79B5-0D05-479D-A583-0DF3B4E35D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2A3F-A29E-499D-9437-DE427E2D20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0" name="PlaceHolder 1"/>
          <p:cNvSpPr>
            <a:spLocks noGrp="1"/>
          </p:cNvSpPr>
          <p:nvPr>
            <p:ph type="sldImg"/>
          </p:nvPr>
        </p:nvSpPr>
        <p:spPr>
          <a:xfrm>
            <a:off x="1181160" y="698400"/>
            <a:ext cx="4648320" cy="3486240"/>
          </a:xfrm>
          <a:prstGeom prst="rect">
            <a:avLst/>
          </a:prstGeom>
          <a:ln w="0">
            <a:noFill/>
          </a:ln>
        </p:spPr>
      </p:sp>
      <p:sp>
        <p:nvSpPr>
          <p:cNvPr id="134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session, the learner will be abl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o facilitator</a:t>
            </a:r>
            <a:r>
              <a:rPr b="0" lang="en-US" sz="1000" spc="-1" strike="noStrike">
                <a:solidFill>
                  <a:srgbClr val="000000"/>
                </a:solidFill>
                <a:latin typeface="Arial"/>
              </a:rPr>
              <a:t>: Read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81160" y="698400"/>
            <a:ext cx="4648320" cy="3486240"/>
          </a:xfrm>
          <a:prstGeom prst="rect">
            <a:avLst/>
          </a:prstGeom>
          <a:ln w="0">
            <a:noFill/>
          </a:ln>
        </p:spPr>
      </p:sp>
      <p:sp>
        <p:nvSpPr>
          <p:cNvPr id="134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 how information flow affects decision making. We will use a MEASURE Evaluation tool called the Information Use Map that visually maps how information is collected, analyzed, disseminated, and used in different contexts. Next, we will discuss how to expand the use of information and then practice using the Information Use Map. </a:t>
            </a:r>
            <a:endParaRPr b="0" lang="en-US" sz="1200" spc="-1" strike="noStrike">
              <a:solidFill>
                <a:srgbClr val="000000"/>
              </a:solidFill>
              <a:latin typeface="Arial"/>
            </a:endParaRPr>
          </a:p>
        </p:txBody>
      </p:sp>
      <p:sp>
        <p:nvSpPr>
          <p:cNvPr id="134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25DE-C2AE-4D75-9449-D682568D36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E364-D7CE-4DA9-9485-F5EC3BD3D1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6" name="PlaceHolder 1"/>
          <p:cNvSpPr>
            <a:spLocks noGrp="1"/>
          </p:cNvSpPr>
          <p:nvPr>
            <p:ph type="sldImg"/>
          </p:nvPr>
        </p:nvSpPr>
        <p:spPr>
          <a:xfrm>
            <a:off x="1181160" y="698400"/>
            <a:ext cx="4648320" cy="3486240"/>
          </a:xfrm>
          <a:prstGeom prst="rect">
            <a:avLst/>
          </a:prstGeom>
          <a:ln w="0">
            <a:noFill/>
          </a:ln>
        </p:spPr>
      </p:sp>
      <p:sp>
        <p:nvSpPr>
          <p:cNvPr id="134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essions 1 and 2, we discussed the data demand and use conceptual framework. As mentioned earlier, this framework depicts the cycle of data demand, collection, availability, and use inherent to monitoring and evaluation. The overarching principle of the framework is that </a:t>
            </a:r>
            <a:r>
              <a:rPr b="0" i="1" lang="en-US" sz="800" spc="-1" strike="noStrike">
                <a:solidFill>
                  <a:srgbClr val="000000"/>
                </a:solidFill>
                <a:latin typeface="Arial"/>
              </a:rPr>
              <a:t>evidence-based decision-making</a:t>
            </a:r>
            <a:r>
              <a:rPr b="0" lang="en-US" sz="800" spc="-1" strike="noStrike">
                <a:solidFill>
                  <a:srgbClr val="000000"/>
                </a:solidFill>
                <a:latin typeface="Arial"/>
              </a:rPr>
              <a:t> will promote the achievement of improved health outcomes. This slide presents the MEASURE Evaluation data demand and use conceptual framework as a cycle from demand to utilization (which directly affects demand); embedded in the cycle is the decision-making proces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session, we will focus on Availability, shown at the top of the diagram. Here data are transformed into a format that can be understood easily by the user and then are disseminated to the end user. It is important that the decision maker understands the information that is needed to inform the decision; the Information Use Map highlighted in this section will help align available information with decis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E to facilitator</a:t>
            </a:r>
            <a:r>
              <a:rPr b="0" lang="en-US" sz="800" spc="-1" strike="noStrike">
                <a:solidFill>
                  <a:srgbClr val="000000"/>
                </a:solidFill>
                <a:latin typeface="Arial"/>
              </a:rPr>
              <a:t>: As you discuss the cycle again, bring up the barriers the group already has discussed to show how each barrier can interrupt the process at various points in this cycle. Emphasize the need to address barriers to data use.</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BBF2-1298-4DA7-B701-6F81BA4D70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9" name="PlaceHolder 1"/>
          <p:cNvSpPr>
            <a:spLocks noGrp="1"/>
          </p:cNvSpPr>
          <p:nvPr>
            <p:ph type="sldImg"/>
          </p:nvPr>
        </p:nvSpPr>
        <p:spPr>
          <a:xfrm>
            <a:off x="1181160" y="698400"/>
            <a:ext cx="4648320" cy="3486240"/>
          </a:xfrm>
          <a:prstGeom prst="rect">
            <a:avLst/>
          </a:prstGeom>
          <a:ln w="0">
            <a:noFill/>
          </a:ln>
        </p:spPr>
      </p:sp>
      <p:sp>
        <p:nvSpPr>
          <p:cNvPr id="135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process of graphically charting information flow, using such formats as an Information Use Map, helps participants better understand their role in the greater health information system—and the importance of collecting data in the first place. When people can see the value, they become more committed to consistent, sustainable, high-quality data collection and regular analysis of those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ing the flow of data and information will allow us to identify opportunities for improving data collection and analysis, increase availability, and ensure data use. We can graphically represent the flow of data and information at any level.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E373-CB32-4A29-ADDF-0A1F933C79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2" name="PlaceHolder 1"/>
          <p:cNvSpPr>
            <a:spLocks noGrp="1"/>
          </p:cNvSpPr>
          <p:nvPr>
            <p:ph type="sldImg"/>
          </p:nvPr>
        </p:nvSpPr>
        <p:spPr>
          <a:xfrm>
            <a:off x="1181160" y="698400"/>
            <a:ext cx="4648320" cy="3486240"/>
          </a:xfrm>
          <a:prstGeom prst="rect">
            <a:avLst/>
          </a:prstGeom>
          <a:ln w="0">
            <a:noFill/>
          </a:ln>
        </p:spPr>
      </p:sp>
      <p:sp>
        <p:nvSpPr>
          <p:cNvPr id="135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iscussing the importance of sharing information, it is helpful to look at information f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owchart on this slide shows how data can effectively flow from the service delivery level to the higher levels responsible for the supervision of programs (UP the information hierarchy – to the district and eventually national levels). You see in the box on the left that data are collected at the facility level for a specific program area. Then these data pass to higher levels (box on the right) for aggregation and use in reporting and, it is hoped, decision ma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as represented  by the pink arrow) is an essential part of the information flow process. Reports produced by the higher levels should be shared with service delivery points and organizations to ensure that they are familiar with how other service providers are performing (DOWN the information hierarchy). In addition, the higher level can provide guidance and advice to facilities on an individual level based on the data they rece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is 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876B-A2ED-4880-A4F9-B33BF2C419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5" name="PlaceHolder 1"/>
          <p:cNvSpPr>
            <a:spLocks noGrp="1"/>
          </p:cNvSpPr>
          <p:nvPr>
            <p:ph type="sldImg"/>
          </p:nvPr>
        </p:nvSpPr>
        <p:spPr>
          <a:xfrm>
            <a:off x="1181160" y="698400"/>
            <a:ext cx="4648320" cy="3486240"/>
          </a:xfrm>
          <a:prstGeom prst="rect">
            <a:avLst/>
          </a:prstGeom>
          <a:ln w="0">
            <a:noFill/>
          </a:ln>
        </p:spPr>
      </p:sp>
      <p:sp>
        <p:nvSpPr>
          <p:cNvPr id="13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is this not the case? Why do data and information often not flow as they should? The scenarios listed on this slide are typic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data are not being used locally. </a:t>
            </a:r>
            <a:r>
              <a:rPr b="0" lang="en-US" sz="1000" spc="-1" strike="noStrike">
                <a:solidFill>
                  <a:srgbClr val="000000"/>
                </a:solidFill>
                <a:latin typeface="Arial"/>
              </a:rPr>
              <a:t>Often, data are tallied and reported up the levels, but rarely are analyzed and used to support mid-course corrections at the level at which they were generated. In many situations, data could be used to investigate trends over time, compare different areas, set priorities and goals for future years, compare progress against defined goals, and advocate for funding or policies.</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er-level information does not return back to the local level. </a:t>
            </a:r>
            <a:r>
              <a:rPr b="0" lang="en-US" sz="1000" spc="-1" strike="noStrike">
                <a:solidFill>
                  <a:srgbClr val="000000"/>
                </a:solidFill>
                <a:latin typeface="Arial"/>
              </a:rPr>
              <a:t>Consider the example of a family planning clinic at which data reveal a declining trend in use of oral contraception. The providers knew that women complained about the side effects, but they did not know how much the overall contraception rates were being affected. The district and regional officers knew contraception rates were declining but did not know why. There was a need to bring these information sources and stakeholders together.</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data are not assessed in broad context. </a:t>
            </a:r>
            <a:r>
              <a:rPr b="0" lang="en-US" sz="1000" spc="-1" strike="noStrike">
                <a:solidFill>
                  <a:srgbClr val="000000"/>
                </a:solidFill>
                <a:latin typeface="Arial"/>
              </a:rPr>
              <a:t>For example, suppose 10 percent of the population in the region is expected to receive a service, and one district is only reaching 2 percent. Obviously, there is a large service coverage gap in this district—but the facilities and the district office would not necessarily know it because they may not be aware of how their service delivery rates compare to regional objectives.</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t>
            </a:r>
            <a:r>
              <a:rPr b="1" lang="en-US" sz="1000" spc="-1" strike="noStrike">
                <a:solidFill>
                  <a:srgbClr val="000000"/>
                </a:solidFill>
                <a:latin typeface="Arial"/>
              </a:rPr>
              <a:t>little incentive to produce high-quality data</a:t>
            </a:r>
            <a:r>
              <a:rPr b="0" lang="en-US" sz="1000" spc="-1" strike="noStrike">
                <a:solidFill>
                  <a:srgbClr val="000000"/>
                </a:solidFill>
                <a:latin typeface="Arial"/>
              </a:rPr>
              <a:t>. People involved in local-level data collection efforts often do not see the purpose in collecting the data. They have a difficult time appreciating their role in the larger context of the health information chain and, as a result, spend less energy in collecting the data and paying attention to detail.</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such a large amount of money and effort being devoted to collecting data and reporting in health information systems, it only makes sense to maximize the impact of those data for real-world benefit. This is where the Information Use Map is so valuabl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8F7A-1082-4D71-A93D-7C02FE574A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8" name="PlaceHolder 1"/>
          <p:cNvSpPr>
            <a:spLocks noGrp="1"/>
          </p:cNvSpPr>
          <p:nvPr>
            <p:ph type="sldImg"/>
          </p:nvPr>
        </p:nvSpPr>
        <p:spPr>
          <a:xfrm>
            <a:off x="1181160" y="698400"/>
            <a:ext cx="4648320" cy="3486240"/>
          </a:xfrm>
          <a:prstGeom prst="rect">
            <a:avLst/>
          </a:prstGeom>
          <a:ln w="0">
            <a:noFill/>
          </a:ln>
        </p:spPr>
      </p:sp>
      <p:sp>
        <p:nvSpPr>
          <p:cNvPr id="135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example of how mapping information flow in Dominica improved data flow and ultimately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minica, local health centers and hospitals sent information to their superiors about the number of people they tested for HIV/AIDS, while labs sent test results. A statistician in the Health Information Unit aggregated the data and sent a quarterly report to the Ministry of Health, which in turn sent a quarterly report to the Caribbean Epidemiology Center (CAREC) and an annual report to the Prime Minis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uble was that local facilities never got these reports. They didn’t know how they compared to other facilities or national trends and goals. Were they on track with their programs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formation gaps quickly became apparent when data collection, analysis, and use processes were visualized in an Information Use Map. Data were being reported but not used. Reports did not get back to the providers of source data. The mapping exercise identified ways the Health Information Unit could share its insights down the line, which would lead to mid-course improvements in pre-test counseling and greater acceptance of HIV/AIDS t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81160" y="698400"/>
            <a:ext cx="4648320" cy="3486240"/>
          </a:xfrm>
          <a:prstGeom prst="rect">
            <a:avLst/>
          </a:prstGeom>
          <a:ln w="0">
            <a:noFill/>
          </a:ln>
        </p:spPr>
      </p:sp>
      <p:sp>
        <p:nvSpPr>
          <p:cNvPr id="136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ment to discuss how information flows through your organ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Encourage participants to contribute to the question in plenary. Record the participant responses on a flip char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6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0B86-FDB1-470C-8601-48BB0F41A5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B6C557D-BF17-4612-85B2-0A142B648C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FDC9105-DA55-4351-AC13-BFCE9C470ED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561B7A70-0484-4453-BF44-784E350C8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FB03179-BA74-4806-9548-92EC36E42D0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459C31F-7BDF-463F-8FC8-8EED8C56908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9F9992B-8127-4700-A7D7-4206F19EB68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C418061B-B3E4-4708-B0EF-F794A59EE3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2F73BFC-8A3F-4675-B10F-05DB0921DD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FF4FB7F1-9CD9-4B94-9725-E15E5B7C54D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CE66EFF7-4922-4F3D-80B7-F438D9E1C3C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0DAC21E-11AC-4048-8FFC-E581E3B6465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602DD166-36E4-4A79-9032-B1754332A9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7DC891D-5469-4298-A01D-98C636B3FF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FA8C2BE7-49F9-43AA-AA16-462C803CB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C68F6E-DC22-4DD2-AE7C-36CB38BA908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FBE8789A-ED9E-4140-AA1B-755AA4EB8E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2CF9D96-F11D-42D0-A4F4-AA8839F14C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C4A99D-F758-4BE0-91DE-0E2CEFDA43D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54B42F-8908-4638-A9A9-1EFA527476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12C19F-564F-409F-A0CE-4C41DE6D671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A11676-2001-4FDC-A619-EAFDCB23F38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421AB0-0977-4C59-92C9-C7F67D12639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C8B66F-2662-45D9-A368-5C63559D507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7322B7-557D-430E-99D7-64A92ACF47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5BCA01-5758-4C14-A823-466DDEE75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F9C6EF-9F2A-410C-8596-BC046F1F642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F26491F-537B-4B54-A185-78ABAB31D7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7BA2730-A0CA-42B5-A8F9-1915EA2425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1BBEE07A-069B-47ED-94DD-DF821ACA82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730897AA-C693-4640-B143-635E30FCDC9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F628421-C646-46AD-87F7-2CB5669624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44B6EF39-5773-41C2-B656-B076212029A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4B0BFB34-D68D-4832-9E0A-091BEDE24B6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3811A4F-A3F7-453E-AD1A-48FD038BC11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BA1D0A5-C75A-4CCB-AE77-F7DB76B49F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7A416F6-A08F-44F3-8046-2D7A376587C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B7D797B-7385-454A-B52C-F8F64FB501B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66E61EA-0636-4191-BE97-2A85E68400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C4CC3C7E-0843-4A73-9D60-5C50D3B677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1BF5608A-1F94-45DD-BC0F-79291E996D9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53892503-1581-4FB0-B44F-09D0FA54185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B4B6EDEC-A1FE-4B05-832C-B8D39C0ED85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0C5EE76-E2C5-42A2-A84F-124C5EFDDC0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6EC02F5F-00FB-47D6-AAE1-F38E63351EF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29586555-8537-42F0-B5C6-0E7739D3C1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6B8B8013-FD52-42D6-B013-F3EA1459D72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36E80171-51EB-481E-B124-5389563C5A3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0BB01797-C0BF-4733-8BC0-84137889BB0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3ABBA4E-C813-4EF7-9268-20A0BAB3D65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B03A9DB-D236-4FB6-8471-B9784DC0E6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6D1CB333-CDBB-4809-B279-C868859E9F6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5DD72277-51EB-4C45-83EB-A9A41CD1B7D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4E11323-E183-4225-AF98-8A6A9E2A8BA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CD4E2E-24FC-4E77-AF89-F626F399269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28CA966-8106-4522-B76E-F5915A663D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0FF9395-9240-4D53-8E72-DAA73188B04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E85425C-8C1E-4B5E-AF02-1940CBA0CFD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18BCD45-AB49-4D4A-94EA-92D79D70FDF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18F660-CB82-4A3B-B2EA-08917B237F3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650F8C3-3D56-409A-9B34-81641FE1B25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E3B91A-4FB9-41F5-9E08-7A4919C9780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575C4B3-80DB-4174-8E68-051879864E7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46E2443-25E0-4109-90C1-28D1ACE67E0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37D1B16-3DDC-471C-944F-07C08BBB9F3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8C63ADF7-582F-4C93-8676-B1800F8B69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9DBF1D8-52B6-46C5-8213-C34096233E8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08D86C51-DD45-4B16-9348-DAC704E0FAE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ECC07FF-061D-4698-8E46-ECE7EE051FF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3C489EB-410E-4354-8206-70088B225AD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0B8FCA1-B461-47C7-92B0-7FEAF7BB7E0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398ACC9-61D3-4B6D-B328-AD2B6EE4E05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5456F66-A380-499C-A6A7-15352163BA1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07584A6-461A-4444-A3DE-39EC07479E3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93091E4C-422C-407D-A25A-2FC9B12262B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96260DCD-8389-4F82-9634-3560B25EEF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239DA2E9-E2BD-4C9F-A616-5D857BF22D1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F36C253F-2FC4-48DC-A030-B8C5A134682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8AB4B1C-BD6C-4102-BDB9-7FCE63A6556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C5D3674-A152-4581-8C07-2A512C05E1E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8AA3FA73-93FF-4550-9159-05EA8CE67E9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D0DA4A6E-18F4-41F6-9C01-0CC74CCAC9D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FA46D64B-6581-4982-B5C9-1ED462C9020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2BD7A805-3022-43AE-AC41-333A5187981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5DC7BCF6-4A68-4E21-9448-1142E1E0053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66043E4-75A9-4157-AC8A-8A9E8D6B2E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4A543941-3469-488F-AB5C-7B6DEAF213D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1061C5C4-CC3E-4049-AFCE-16AB2883FC4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07EC1ADD-02E3-4423-B7F2-1A17BFE89F2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EF1B7D5-5E22-4DEA-AC5A-7C3E50E6791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D3ECA78-DBB5-4C44-AF47-762B6CF4E32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64BFC58-BDB7-47F3-B8BF-FE44AB2F2FE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CE05A2B-3194-4C51-A13B-A7C6CFC6C22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D0060C3-047C-4F32-BBCD-23E5E7235A1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9B36602-50E3-4C46-909D-A2DFF5EEA69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87FF64C-037E-4B12-A797-57CF28D485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CEBC54-DBD9-4ECD-BA10-07F5638245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0E6E19C-3A3F-4957-8CE0-D5078A4B43D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71975C8-0054-422B-980D-08146EA4031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BF0F390-2E45-4219-BC9A-8C79C9B5E27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E812F4F-E4A3-49F9-8C7B-429E3E84A02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10C0EC9-F0C2-46B6-A61C-1289C4A31E3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8858AEB2-88C4-4CE8-8F9A-729A6F6EEBA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18FDA8F4-039B-4D05-A767-72A0E5B5100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835F4351-A6EB-4436-A4B8-15B2F53CF88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1EF0DE37-BC19-45AB-845C-00997E9886E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7A4C9194-8B44-4B91-B750-A557C32B38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35FC8942-BA74-416F-BEC8-69E37FB8148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4528DE4-A02A-4496-B112-13F041B04CA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A647DCB3-07C4-4F18-9DA2-1AF7890DF81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47B09D4C-DB4E-48DD-AE1A-3AF6ACCAB85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CB40B4B-F433-4348-9603-9819F2EDE70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A4A31A9E-F61D-4212-8FB0-E4DFAFE3DD0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76F3BFA0-96FA-47CB-9FA4-1B3964FF0EF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B195CECA-947B-47C6-9E86-BD8D3F97191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1F068E3D-5558-4ACB-8E2E-EA69DB4B0D8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90E53CC-D407-4D44-8F88-BC09CF8FFA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75272BF2-866E-401C-92FE-5A0A629439B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BDAC2FA2-73D1-41E0-9034-EC40BEE0B58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D8BC86DF-2112-4C54-AD02-3CA6EDC1251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FF412AF-A995-4F73-921B-167622A3365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03E8E06-DE6E-4AD1-A8B3-51C58ABF6D2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D568D0F-39F9-45BF-B31F-FECAA6A2F50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FAF156D3-F018-470F-BE31-D1750A428DF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B38DDE90-0433-4802-85C3-24D8FF6C880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9ED454C5-DEB6-44CD-98F4-05E40F64C35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D75DE24-D0AB-4076-BB3F-97D00042D5D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C27ACBD-FA29-4CCA-A743-7AB170BF139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9BF4D95-53F6-4124-BEA5-D460650317E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10FE02F-C683-4CC6-99BE-8A9FFFEF97B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C4F5342-F012-4030-927D-363312696D8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A562901-5647-47B0-9238-189EFF2BA7F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E255F78-9D00-4E72-A4B8-BB080ADB765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83BAD70-73CB-43DB-91DE-8EE6507BCB6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22E8545-FC8E-44FA-BB51-D1A9B60B21E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31E9CEC-EFF8-43E3-AD4D-9B5BD786246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A6B3C40-A6C2-415D-83FC-46AC8BB1ECB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7A8D4BD-65C0-4CE6-98F9-E2548CD4E37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9D8E50C-B659-4FCA-9827-4B2B8EBC041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5A94964E-18ED-4107-9273-234AB0C3158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C90DB8F2-2C21-4E95-8B13-9F556C83757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27C13EE-DCB4-4657-8A3F-CE2A3FD6915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265D7A28-EBFC-4C8A-B66E-1F44F7D6C13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6F094888-E012-4514-A9D4-D841FDF0ADA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6FEDA73-0843-4AEB-A79B-BE0B5C245E8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BD449D5-2511-462D-8FFE-5B50F1E976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7B0C64C-74BF-41AE-AC3D-DD52C66F52E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B225A8B0-075B-4C73-8259-61ED7881DC6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ADA062E-1C7F-4315-A14A-17EB0F27D7D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3722FFE-469D-40CB-BAB6-2F03FEE704E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A1F47B76-9D57-41B8-845A-7B4503214A7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D92276C4-098C-4C4E-99C6-EDB95B0E109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8F0B60C1-AB91-4558-ABEB-D40B1CBD6E9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79B7E92D-1CEA-4B1A-A9A1-8F95164CE65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E378F166-6A43-41C0-B90B-09AC168DB55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79E9AB3F-F1D0-4DEC-878E-0DD572B8AD1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56201445-2B93-45EC-88B6-680EEF65E0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D69BE52-FF25-4120-8C9A-F9F17780993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9948AB6A-4740-40D4-AEB0-1EBE4B4038B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6CFE2E4-0FB2-4F9D-8C69-D6BC3CC2FE2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5848BA6-A131-46E6-8D37-915F2EFE1E3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8051B030-1132-418A-80EA-0485DD62CC8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B43D0FF8-51DC-493F-A011-23643BDC480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63EB68BA-FA99-4969-8DD2-A17D991D088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94BD6F4C-1DF2-4F57-AD1A-A0289974BB9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7A8F1354-9911-450A-9CC0-F582E665366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135EB35-A3F8-4D90-AA4F-ABEFEC31FDF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1ACA1F4-0742-43F1-8113-15DECD5C92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4853A1D-D7F3-4289-B6C8-570BB6792E3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5A26B2D-84C3-4291-9D57-993D548ED1C0}"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5B5F71A-9247-4F23-BA8A-DF52FB7AD30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061A459-D6B3-4647-B079-A966D73C61F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4F14732-72A7-40A4-89CE-2789F5899A4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C33151B-9777-4FF6-BA05-D577119DD6B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CF04376-0EBD-4401-B20E-3D16E774C20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4ABDDF7-CFCA-4CD4-86C9-E219ECAD30C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1F9D27EB-C264-4D93-926E-EC7B955FF5E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811C840-4E75-4822-B609-3610CFFD8910}"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12D54E17-1063-4F94-8B90-3B77C6F4B8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563337D-C68C-4A68-A93C-5EC51C74C65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F009BA97-1EC3-42D9-84A1-23B9DF80429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76D2C87C-56B7-4F3A-B031-C9ED730CD78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D566C32D-F1B6-46A9-8663-6271F4D061A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59DB0F89-1451-43A9-98A8-66C821DFD78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1574D35F-98FC-43FD-965D-D580EF3956F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BE5E7BA9-727D-41E9-9680-D006FA217A8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A13A0339-7927-4B43-9AF9-1C02D6942E1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BC271762-8E25-4ED7-A2B7-C92375030A4D}"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F1DB9649-4E68-4E75-A6F6-D097C9C360E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9D81CBD4-E65D-447C-81AC-F475B62230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D0E7FAE-182D-428C-81E9-DF8A2B3EF7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848757B-0419-4164-BA38-D64FCB5295E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02BC4156-AC38-4EB3-8E2A-F94B4B23298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EB0B61DB-57EF-4A70-926A-FD8A7E603C8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167A849E-D0CF-4668-A5CA-266AEF78EC4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187E0B5F-7909-402B-B7A5-463A6C3110D7}"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CD058C0B-C1D5-43C9-A4D0-71FD026DE30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3F868122-47E2-47EB-958E-2FD43444B64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46CC42C8-FDBC-4996-993D-D767B2F74E8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6DBD5F63-FC19-4F64-BBD8-B5F8B65DAC6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480560C8-F26C-4AF8-B3C5-8E056EBB0731}"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0B54A3A0-32CB-4772-B385-8AF022DA5F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D5F1F89-4487-48E9-A8D5-0CDE2B712C4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484E39BA-DBCC-4C8B-B079-8CF2F50601C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CC603C7D-49EF-4B37-A26C-EF80F6D94A5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27D43461-FAA0-4C45-8FDA-2F658E90E95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BFD28BB6-ECDF-414C-AC4E-72D878CD213E}"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95DB647-51C3-4343-B03B-141CC431979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4B14ACD-3C47-4053-ACEC-3F925A0E225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A29CD1E-3265-4C0B-9DCA-0F42AD85B8E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F472746-F6CC-45D4-9D85-FA862D401A21}"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DCE548B-1B38-4A4E-A711-8054A511A92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2140A06-26A1-49F7-8B91-9BD7019F16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080F073-4CBE-4AF0-9C54-00B95035792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30F12A2-23FC-4E4C-8369-E6AE0C0942E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AD1947E-E366-4161-9B0B-E836AA6F000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9FA2146-637B-4467-ADEB-34F164D8AE8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8C9B8537-61E2-4D48-B54A-460D1E831E5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A84207C1-3829-463D-8154-CD5624EB402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003B1F76-7491-4FCF-9AEB-4A462E6CB5C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09C6B041-B04B-4F24-9D89-DDE83435E13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842B5725-BE9A-45E4-9D73-E3DEA82A9F2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F8212603-6B0C-4BBC-9185-5AAA8B21FA02}"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F9A30331-0AFB-4047-91C6-9096282907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17C3AD7-7011-468B-9DAE-A5ADD0411E9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8E19BD40-34BC-44CF-A1D1-6377D896721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6916470E-AFBA-4066-B181-F64546A20AD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5207E8C9-E9CB-4511-A895-6858EB890A7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4FDEC555-6300-4EB3-886E-FC9A7EC21CDA}"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990DDF94-5E6F-479C-A240-C1102F28FAE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B9BE051C-D900-4A79-AA4D-A9535E8E8477}"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140C8A8B-8BAB-465B-BB7F-C847E8D1FA3F}"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94D3E8EC-FC20-4046-B858-7E90CE79E37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36EBC21D-201C-4863-836D-02AE694F29E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24697AA1-452B-4B9F-B02F-9126B52DE4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A543FAC-8767-43AE-97DE-C8067B75744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94AB98F7-F5BA-438D-ADBE-0193215EF0A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F53EF259-09D6-452B-BB74-FDA436C181C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E807E1C9-5505-487B-B160-E331A103E06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B4EC99F6-4393-4472-98F2-F5ED7CCE8DA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6697CA88-DB03-466C-9EDB-74F70832219F}"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7C16C61-3D65-4966-8870-1511CD7CAF33}"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410159A4-E838-47D2-AB73-DB5537BDE1F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A5C2F698-4F9C-4109-BAE4-82E3F8C8C41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9F45C3CE-EAE7-4F3C-B292-A067EFE19CE3}"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817DA7EC-412D-4EDA-9B49-0D0FFC8A4A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C4004CD-4705-4823-8C44-71D3284C15E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54960FFB-2166-47D1-9581-1FA06350282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06CD90C-3831-4A97-BC70-F452D3EB3F1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F69E5DBE-0681-4A84-BB97-6A1F37B9A8D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913A4C14-E90F-4C12-B1D6-F115B22561F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0B07F4C1-E401-4F27-B221-2F9442758D71}"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303CDD4-A8D5-4B0F-8029-258E7AF1AF2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CF0160A-2488-4E81-835E-36B4FE7B6455}"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1441201-FC71-48E5-9B56-EFBCBB435FD1}"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AD7EA7B3-8D5B-46F0-AFE5-15290920521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03897EB7-CBC4-482A-85DD-2CC3E3F43A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E97688D-5D4D-4A31-BC3A-2155B5890251}"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C54AF125-2287-4B0C-8C30-C7E545F660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D3482CF-690D-4C28-B37B-A44CA1770FE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BEDEC8-AEDF-434B-AA84-38E43CE1F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59BD68D-1AB5-4A93-9A0F-B1CBF90B85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564579-854B-4741-8593-876CA7C6505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6D49E9-685D-4ABC-95A3-DE92CF1865B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69744F-8E90-4C36-B7B6-D63FEC469E3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6ACD3B-E43C-4B4D-BB25-4FC358F32F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6DBA1D-D30E-4657-B71B-647E06A959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59DD5C-59CC-4D44-8ECE-E91EE50B5DA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47853F-1727-4162-A52A-7CAC1227F57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081A4A-CE51-4E66-AB21-6C6020A899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8DF978-B286-4D9F-B985-F9C9079F83C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169E39-9F20-4A9D-8716-F76E9356C2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F6B426-511F-4CBC-836E-C37AFAB187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AA169FE-A1CE-49A3-9F14-3A2328A0623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B334F9C-B259-4548-8AEF-061A16B010F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D43B085-A833-4A98-A53C-08E129ADB7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F8FBFEA-402E-4CB9-9B12-389DD5E8CE3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E7CFD2-C9D5-46F6-8455-2F3427F9F3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014D393-4E38-4BD0-A9BF-7C494CA228D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FD33551-B90F-4262-B41E-04116E62DE6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690CCA-B1E6-4560-9F04-E286CA50CA6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2FB7A51-E063-4B76-B22F-E9EAC06F3D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EFE37B-24D5-4329-B633-BDADE7F3E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935DC1-DDB0-4BDB-8033-72CFE25C11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938048F-9510-48CE-82C9-0620C00425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CDB83F8-12AD-464A-B3C9-4563AC859B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56D74AA-C699-4909-ABF4-B4B44A0354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F9823C-80DA-4464-A5E7-9541753FA6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9FA799-2E15-4E40-A763-DB8865B96BE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358F-5056-47DA-B8AD-D76BA6263DC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6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9" name="Picture 8" descr="Vertical_RGB_600"/>
          <p:cNvPicPr/>
          <p:nvPr/>
        </p:nvPicPr>
        <p:blipFill>
          <a:blip r:embed="rId2"/>
          <a:stretch/>
        </p:blipFill>
        <p:spPr>
          <a:xfrm>
            <a:off x="6580080" y="5829480"/>
            <a:ext cx="1116000" cy="914400"/>
          </a:xfrm>
          <a:prstGeom prst="rect">
            <a:avLst/>
          </a:prstGeom>
          <a:ln w="0">
            <a:noFill/>
          </a:ln>
        </p:spPr>
      </p:pic>
      <p:pic>
        <p:nvPicPr>
          <p:cNvPr id="370" name="Picture 9" descr="logo_2004"/>
          <p:cNvPicPr/>
          <p:nvPr/>
        </p:nvPicPr>
        <p:blipFill>
          <a:blip r:embed="rId3"/>
          <a:stretch/>
        </p:blipFill>
        <p:spPr>
          <a:xfrm>
            <a:off x="7950240" y="5829480"/>
            <a:ext cx="965160" cy="914400"/>
          </a:xfrm>
          <a:prstGeom prst="rect">
            <a:avLst/>
          </a:prstGeom>
          <a:ln w="0">
            <a:noFill/>
          </a:ln>
        </p:spPr>
      </p:pic>
      <p:sp>
        <p:nvSpPr>
          <p:cNvPr id="3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73"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CD60-A78E-4647-9B12-1F33DF4AE93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74"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3" name="Picture 8" descr="Vertical_RGB_600"/>
          <p:cNvPicPr/>
          <p:nvPr/>
        </p:nvPicPr>
        <p:blipFill>
          <a:blip r:embed="rId2"/>
          <a:stretch/>
        </p:blipFill>
        <p:spPr>
          <a:xfrm>
            <a:off x="6580080" y="5829480"/>
            <a:ext cx="1116000" cy="914400"/>
          </a:xfrm>
          <a:prstGeom prst="rect">
            <a:avLst/>
          </a:prstGeom>
          <a:ln w="0">
            <a:noFill/>
          </a:ln>
        </p:spPr>
      </p:pic>
      <p:pic>
        <p:nvPicPr>
          <p:cNvPr id="414" name="Picture 9" descr="logo_2004"/>
          <p:cNvPicPr/>
          <p:nvPr/>
        </p:nvPicPr>
        <p:blipFill>
          <a:blip r:embed="rId3"/>
          <a:stretch/>
        </p:blipFill>
        <p:spPr>
          <a:xfrm>
            <a:off x="7950240" y="5829480"/>
            <a:ext cx="965160" cy="914400"/>
          </a:xfrm>
          <a:prstGeom prst="rect">
            <a:avLst/>
          </a:prstGeom>
          <a:ln w="0">
            <a:noFill/>
          </a:ln>
        </p:spPr>
      </p:pic>
      <p:sp>
        <p:nvSpPr>
          <p:cNvPr id="4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17"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9ED8-FBC1-42AB-B466-F4FBE94A793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18"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7" name="Picture 8" descr="Vertical_RGB_600"/>
          <p:cNvPicPr/>
          <p:nvPr/>
        </p:nvPicPr>
        <p:blipFill>
          <a:blip r:embed="rId2"/>
          <a:stretch/>
        </p:blipFill>
        <p:spPr>
          <a:xfrm>
            <a:off x="6580080" y="5829480"/>
            <a:ext cx="1116000" cy="914400"/>
          </a:xfrm>
          <a:prstGeom prst="rect">
            <a:avLst/>
          </a:prstGeom>
          <a:ln w="0">
            <a:noFill/>
          </a:ln>
        </p:spPr>
      </p:pic>
      <p:pic>
        <p:nvPicPr>
          <p:cNvPr id="458" name="Picture 9" descr="logo_2004"/>
          <p:cNvPicPr/>
          <p:nvPr/>
        </p:nvPicPr>
        <p:blipFill>
          <a:blip r:embed="rId3"/>
          <a:stretch/>
        </p:blipFill>
        <p:spPr>
          <a:xfrm>
            <a:off x="7950240" y="5829480"/>
            <a:ext cx="965160" cy="914400"/>
          </a:xfrm>
          <a:prstGeom prst="rect">
            <a:avLst/>
          </a:prstGeom>
          <a:ln w="0">
            <a:noFill/>
          </a:ln>
        </p:spPr>
      </p:pic>
      <p:sp>
        <p:nvSpPr>
          <p:cNvPr id="4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1"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6C4D-D8F8-4A60-AEA8-A5D64D805FB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62"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9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1" name="Picture 8" descr="Vertical_RGB_600"/>
          <p:cNvPicPr/>
          <p:nvPr/>
        </p:nvPicPr>
        <p:blipFill>
          <a:blip r:embed="rId2"/>
          <a:stretch/>
        </p:blipFill>
        <p:spPr>
          <a:xfrm>
            <a:off x="6580080" y="5829480"/>
            <a:ext cx="1116000" cy="914400"/>
          </a:xfrm>
          <a:prstGeom prst="rect">
            <a:avLst/>
          </a:prstGeom>
          <a:ln w="0">
            <a:noFill/>
          </a:ln>
        </p:spPr>
      </p:pic>
      <p:pic>
        <p:nvPicPr>
          <p:cNvPr id="502" name="Picture 9" descr="logo_2004"/>
          <p:cNvPicPr/>
          <p:nvPr/>
        </p:nvPicPr>
        <p:blipFill>
          <a:blip r:embed="rId3"/>
          <a:stretch/>
        </p:blipFill>
        <p:spPr>
          <a:xfrm>
            <a:off x="7950240" y="5829480"/>
            <a:ext cx="965160" cy="914400"/>
          </a:xfrm>
          <a:prstGeom prst="rect">
            <a:avLst/>
          </a:prstGeom>
          <a:ln w="0">
            <a:noFill/>
          </a:ln>
        </p:spPr>
      </p:pic>
      <p:sp>
        <p:nvSpPr>
          <p:cNvPr id="5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05"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6B2E-0470-4E5B-A1DB-A824EBF4762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06"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5" name="Picture 8" descr="Vertical_RGB_600"/>
          <p:cNvPicPr/>
          <p:nvPr/>
        </p:nvPicPr>
        <p:blipFill>
          <a:blip r:embed="rId2"/>
          <a:stretch/>
        </p:blipFill>
        <p:spPr>
          <a:xfrm>
            <a:off x="6580080" y="5829480"/>
            <a:ext cx="1116000" cy="914400"/>
          </a:xfrm>
          <a:prstGeom prst="rect">
            <a:avLst/>
          </a:prstGeom>
          <a:ln w="0">
            <a:noFill/>
          </a:ln>
        </p:spPr>
      </p:pic>
      <p:pic>
        <p:nvPicPr>
          <p:cNvPr id="546" name="Picture 9" descr="logo_2004"/>
          <p:cNvPicPr/>
          <p:nvPr/>
        </p:nvPicPr>
        <p:blipFill>
          <a:blip r:embed="rId3"/>
          <a:stretch/>
        </p:blipFill>
        <p:spPr>
          <a:xfrm>
            <a:off x="7950240" y="5829480"/>
            <a:ext cx="965160" cy="914400"/>
          </a:xfrm>
          <a:prstGeom prst="rect">
            <a:avLst/>
          </a:prstGeom>
          <a:ln w="0">
            <a:noFill/>
          </a:ln>
        </p:spPr>
      </p:pic>
      <p:sp>
        <p:nvSpPr>
          <p:cNvPr id="5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49"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6CDA-1525-4D03-8C4C-EDA58048F87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50"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8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9" name="Picture 8" descr="Vertical_RGB_600"/>
          <p:cNvPicPr/>
          <p:nvPr/>
        </p:nvPicPr>
        <p:blipFill>
          <a:blip r:embed="rId2"/>
          <a:stretch/>
        </p:blipFill>
        <p:spPr>
          <a:xfrm>
            <a:off x="6580080" y="5829480"/>
            <a:ext cx="1116000" cy="914400"/>
          </a:xfrm>
          <a:prstGeom prst="rect">
            <a:avLst/>
          </a:prstGeom>
          <a:ln w="0">
            <a:noFill/>
          </a:ln>
        </p:spPr>
      </p:pic>
      <p:pic>
        <p:nvPicPr>
          <p:cNvPr id="590" name="Picture 9" descr="logo_2004"/>
          <p:cNvPicPr/>
          <p:nvPr/>
        </p:nvPicPr>
        <p:blipFill>
          <a:blip r:embed="rId3"/>
          <a:stretch/>
        </p:blipFill>
        <p:spPr>
          <a:xfrm>
            <a:off x="7950240" y="5829480"/>
            <a:ext cx="965160" cy="914400"/>
          </a:xfrm>
          <a:prstGeom prst="rect">
            <a:avLst/>
          </a:prstGeom>
          <a:ln w="0">
            <a:noFill/>
          </a:ln>
        </p:spPr>
      </p:pic>
      <p:sp>
        <p:nvSpPr>
          <p:cNvPr id="5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3"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64C4-A2E4-49FE-A15A-E85A6A72483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4"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3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3" name="Picture 8" descr="Vertical_RGB_600"/>
          <p:cNvPicPr/>
          <p:nvPr/>
        </p:nvPicPr>
        <p:blipFill>
          <a:blip r:embed="rId2"/>
          <a:stretch/>
        </p:blipFill>
        <p:spPr>
          <a:xfrm>
            <a:off x="6580080" y="5829480"/>
            <a:ext cx="1116000" cy="914400"/>
          </a:xfrm>
          <a:prstGeom prst="rect">
            <a:avLst/>
          </a:prstGeom>
          <a:ln w="0">
            <a:noFill/>
          </a:ln>
        </p:spPr>
      </p:pic>
      <p:pic>
        <p:nvPicPr>
          <p:cNvPr id="634" name="Picture 9" descr="logo_2004"/>
          <p:cNvPicPr/>
          <p:nvPr/>
        </p:nvPicPr>
        <p:blipFill>
          <a:blip r:embed="rId3"/>
          <a:stretch/>
        </p:blipFill>
        <p:spPr>
          <a:xfrm>
            <a:off x="7950240" y="5829480"/>
            <a:ext cx="965160" cy="914400"/>
          </a:xfrm>
          <a:prstGeom prst="rect">
            <a:avLst/>
          </a:prstGeom>
          <a:ln w="0">
            <a:noFill/>
          </a:ln>
        </p:spPr>
      </p:pic>
      <p:sp>
        <p:nvSpPr>
          <p:cNvPr id="6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37"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DB82-9214-4C96-843B-1679005C684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38"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7" name="Picture 8" descr="Vertical_RGB_600"/>
          <p:cNvPicPr/>
          <p:nvPr/>
        </p:nvPicPr>
        <p:blipFill>
          <a:blip r:embed="rId2"/>
          <a:stretch/>
        </p:blipFill>
        <p:spPr>
          <a:xfrm>
            <a:off x="6580080" y="5829480"/>
            <a:ext cx="1116000" cy="914400"/>
          </a:xfrm>
          <a:prstGeom prst="rect">
            <a:avLst/>
          </a:prstGeom>
          <a:ln w="0">
            <a:noFill/>
          </a:ln>
        </p:spPr>
      </p:pic>
      <p:pic>
        <p:nvPicPr>
          <p:cNvPr id="678" name="Picture 9" descr="logo_2004"/>
          <p:cNvPicPr/>
          <p:nvPr/>
        </p:nvPicPr>
        <p:blipFill>
          <a:blip r:embed="rId3"/>
          <a:stretch/>
        </p:blipFill>
        <p:spPr>
          <a:xfrm>
            <a:off x="7950240" y="5829480"/>
            <a:ext cx="965160" cy="914400"/>
          </a:xfrm>
          <a:prstGeom prst="rect">
            <a:avLst/>
          </a:prstGeom>
          <a:ln w="0">
            <a:noFill/>
          </a:ln>
        </p:spPr>
      </p:pic>
      <p:sp>
        <p:nvSpPr>
          <p:cNvPr id="6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81"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C79E-2D8E-49D8-B7BE-FB0F5769B82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82"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1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1" name="Picture 8" descr="Vertical_RGB_600"/>
          <p:cNvPicPr/>
          <p:nvPr/>
        </p:nvPicPr>
        <p:blipFill>
          <a:blip r:embed="rId2"/>
          <a:stretch/>
        </p:blipFill>
        <p:spPr>
          <a:xfrm>
            <a:off x="6580080" y="5829480"/>
            <a:ext cx="1116000" cy="914400"/>
          </a:xfrm>
          <a:prstGeom prst="rect">
            <a:avLst/>
          </a:prstGeom>
          <a:ln w="0">
            <a:noFill/>
          </a:ln>
        </p:spPr>
      </p:pic>
      <p:pic>
        <p:nvPicPr>
          <p:cNvPr id="722" name="Picture 9" descr="logo_2004"/>
          <p:cNvPicPr/>
          <p:nvPr/>
        </p:nvPicPr>
        <p:blipFill>
          <a:blip r:embed="rId3"/>
          <a:stretch/>
        </p:blipFill>
        <p:spPr>
          <a:xfrm>
            <a:off x="7950240" y="5829480"/>
            <a:ext cx="965160" cy="914400"/>
          </a:xfrm>
          <a:prstGeom prst="rect">
            <a:avLst/>
          </a:prstGeom>
          <a:ln w="0">
            <a:noFill/>
          </a:ln>
        </p:spPr>
      </p:pic>
      <p:sp>
        <p:nvSpPr>
          <p:cNvPr id="7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5"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3BD4-8BCF-434A-80D5-32DDAB9EF07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26"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5" name="Picture 8" descr="Vertical_RGB_600"/>
          <p:cNvPicPr/>
          <p:nvPr/>
        </p:nvPicPr>
        <p:blipFill>
          <a:blip r:embed="rId2"/>
          <a:stretch/>
        </p:blipFill>
        <p:spPr>
          <a:xfrm>
            <a:off x="6580080" y="5829480"/>
            <a:ext cx="1116000" cy="914400"/>
          </a:xfrm>
          <a:prstGeom prst="rect">
            <a:avLst/>
          </a:prstGeom>
          <a:ln w="0">
            <a:noFill/>
          </a:ln>
        </p:spPr>
      </p:pic>
      <p:pic>
        <p:nvPicPr>
          <p:cNvPr id="766" name="Picture 9" descr="logo_2004"/>
          <p:cNvPicPr/>
          <p:nvPr/>
        </p:nvPicPr>
        <p:blipFill>
          <a:blip r:embed="rId3"/>
          <a:stretch/>
        </p:blipFill>
        <p:spPr>
          <a:xfrm>
            <a:off x="7950240" y="5829480"/>
            <a:ext cx="965160" cy="914400"/>
          </a:xfrm>
          <a:prstGeom prst="rect">
            <a:avLst/>
          </a:prstGeom>
          <a:ln w="0">
            <a:noFill/>
          </a:ln>
        </p:spPr>
      </p:pic>
      <p:sp>
        <p:nvSpPr>
          <p:cNvPr id="7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6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69"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0C07-300E-46E1-8F04-1EB30CA3A5D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70"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7"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8" name="Picture 5" descr="Vertical_RGB_600"/>
          <p:cNvPicPr/>
          <p:nvPr/>
        </p:nvPicPr>
        <p:blipFill>
          <a:blip r:embed="rId2"/>
          <a:stretch/>
        </p:blipFill>
        <p:spPr>
          <a:xfrm>
            <a:off x="5716440" y="5159520"/>
            <a:ext cx="1551240" cy="1271520"/>
          </a:xfrm>
          <a:prstGeom prst="rect">
            <a:avLst/>
          </a:prstGeom>
          <a:ln w="0">
            <a:noFill/>
          </a:ln>
        </p:spPr>
      </p:pic>
      <p:pic>
        <p:nvPicPr>
          <p:cNvPr id="809" name="Picture 6" descr="logo_2004"/>
          <p:cNvPicPr/>
          <p:nvPr/>
        </p:nvPicPr>
        <p:blipFill>
          <a:blip r:embed="rId3"/>
          <a:stretch/>
        </p:blipFill>
        <p:spPr>
          <a:xfrm>
            <a:off x="7608960" y="5121360"/>
            <a:ext cx="1342800" cy="1271520"/>
          </a:xfrm>
          <a:prstGeom prst="rect">
            <a:avLst/>
          </a:prstGeom>
          <a:ln w="0">
            <a:noFill/>
          </a:ln>
        </p:spPr>
      </p:pic>
      <p:pic>
        <p:nvPicPr>
          <p:cNvPr id="810" name="Picture 13" descr=""/>
          <p:cNvPicPr/>
          <p:nvPr/>
        </p:nvPicPr>
        <p:blipFill>
          <a:blip r:embed="rId4"/>
          <a:stretch/>
        </p:blipFill>
        <p:spPr>
          <a:xfrm>
            <a:off x="4444920" y="5219640"/>
            <a:ext cx="933480" cy="1120680"/>
          </a:xfrm>
          <a:prstGeom prst="rect">
            <a:avLst/>
          </a:prstGeom>
          <a:ln w="0">
            <a:noFill/>
          </a:ln>
        </p:spPr>
      </p:pic>
      <p:sp>
        <p:nvSpPr>
          <p:cNvPr id="811" name="Text Box 14"/>
          <p:cNvSpPr/>
          <p:nvPr/>
        </p:nvSpPr>
        <p:spPr>
          <a:xfrm>
            <a:off x="0" y="5361120"/>
            <a:ext cx="1690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5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53"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FDED-4F3E-43A1-8871-7A04C755BFA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54"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94"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C686-8C51-4219-A3D1-3185D58D73A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95"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3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35"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888D-33AA-418D-894D-3ADE42C08A0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36"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7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76"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0061-FCC9-45A9-A509-AB92FD9210F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77"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1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17"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B3D9-F19E-42A6-B2C1-454A867F9F3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18"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5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5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58"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812C-0AA2-44B7-AA86-115A3FF2E65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59"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9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9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99"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6891-1A18-477E-8AF5-459E9E10A58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00"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3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3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40"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462C-72BD-4089-9714-4C56B35E408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41"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7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81"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E6D4-7C22-4ADB-973D-F8B7BD1DB0D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82"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9DA1-E1C1-42DD-AD8D-6EB22290C65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2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22"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25E0-99A4-4FC3-B6D9-BACAE0CCF8F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23"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60"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85B7-A2FC-47A5-8126-74D8EEDC86A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6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8" descr="Vertical_RGB_600"/>
          <p:cNvPicPr/>
          <p:nvPr/>
        </p:nvPicPr>
        <p:blipFill>
          <a:blip r:embed="rId2"/>
          <a:stretch/>
        </p:blipFill>
        <p:spPr>
          <a:xfrm>
            <a:off x="6580080" y="5829480"/>
            <a:ext cx="1116000" cy="914400"/>
          </a:xfrm>
          <a:prstGeom prst="rect">
            <a:avLst/>
          </a:prstGeom>
          <a:ln w="0">
            <a:noFill/>
          </a:ln>
        </p:spPr>
      </p:pic>
      <p:pic>
        <p:nvPicPr>
          <p:cNvPr id="16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3"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FD41-EDBE-43F7-80CD-9122E9AAC85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3" name="Picture 5" descr="Vertical_RGB_600"/>
          <p:cNvPicPr/>
          <p:nvPr/>
        </p:nvPicPr>
        <p:blipFill>
          <a:blip r:embed="rId2"/>
          <a:stretch/>
        </p:blipFill>
        <p:spPr>
          <a:xfrm>
            <a:off x="5716440" y="5159520"/>
            <a:ext cx="1551240" cy="1271520"/>
          </a:xfrm>
          <a:prstGeom prst="rect">
            <a:avLst/>
          </a:prstGeom>
          <a:ln w="0">
            <a:noFill/>
          </a:ln>
        </p:spPr>
      </p:pic>
      <p:pic>
        <p:nvPicPr>
          <p:cNvPr id="244" name="Picture 6" descr="logo_2004"/>
          <p:cNvPicPr/>
          <p:nvPr/>
        </p:nvPicPr>
        <p:blipFill>
          <a:blip r:embed="rId3"/>
          <a:stretch/>
        </p:blipFill>
        <p:spPr>
          <a:xfrm>
            <a:off x="7608960" y="5121360"/>
            <a:ext cx="1342800" cy="1271520"/>
          </a:xfrm>
          <a:prstGeom prst="rect">
            <a:avLst/>
          </a:prstGeom>
          <a:ln w="0">
            <a:noFill/>
          </a:ln>
        </p:spPr>
      </p:pic>
      <p:pic>
        <p:nvPicPr>
          <p:cNvPr id="245" name="Picture 13" descr=""/>
          <p:cNvPicPr/>
          <p:nvPr/>
        </p:nvPicPr>
        <p:blipFill>
          <a:blip r:embed="rId4"/>
          <a:stretch/>
        </p:blipFill>
        <p:spPr>
          <a:xfrm>
            <a:off x="4444920" y="5219640"/>
            <a:ext cx="933480" cy="1120680"/>
          </a:xfrm>
          <a:prstGeom prst="rect">
            <a:avLst/>
          </a:prstGeom>
          <a:ln w="0">
            <a:noFill/>
          </a:ln>
        </p:spPr>
      </p:pic>
      <p:sp>
        <p:nvSpPr>
          <p:cNvPr id="246" name="Text Box 14"/>
          <p:cNvSpPr/>
          <p:nvPr/>
        </p:nvSpPr>
        <p:spPr>
          <a:xfrm>
            <a:off x="0" y="5361120"/>
            <a:ext cx="1690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6" name="Picture 5" descr="Vertical_RGB_600"/>
          <p:cNvPicPr/>
          <p:nvPr/>
        </p:nvPicPr>
        <p:blipFill>
          <a:blip r:embed="rId2"/>
          <a:stretch/>
        </p:blipFill>
        <p:spPr>
          <a:xfrm>
            <a:off x="2600280" y="5010120"/>
            <a:ext cx="1673280" cy="1371600"/>
          </a:xfrm>
          <a:prstGeom prst="rect">
            <a:avLst/>
          </a:prstGeom>
          <a:ln w="0">
            <a:noFill/>
          </a:ln>
        </p:spPr>
      </p:pic>
      <p:pic>
        <p:nvPicPr>
          <p:cNvPr id="287" name="Picture 6" descr="logo_2004"/>
          <p:cNvPicPr/>
          <p:nvPr/>
        </p:nvPicPr>
        <p:blipFill>
          <a:blip r:embed="rId3"/>
          <a:stretch/>
        </p:blipFill>
        <p:spPr>
          <a:xfrm>
            <a:off x="4809960" y="5010120"/>
            <a:ext cx="1447920" cy="1371600"/>
          </a:xfrm>
          <a:prstGeom prst="rect">
            <a:avLst/>
          </a:prstGeom>
          <a:ln w="0">
            <a:noFill/>
          </a:ln>
        </p:spPr>
      </p:pic>
      <p:sp>
        <p:nvSpPr>
          <p:cNvPr id="2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8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6"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7" name="Picture 5" descr="Vertical_RGB_600"/>
          <p:cNvPicPr/>
          <p:nvPr/>
        </p:nvPicPr>
        <p:blipFill>
          <a:blip r:embed="rId2"/>
          <a:stretch/>
        </p:blipFill>
        <p:spPr>
          <a:xfrm>
            <a:off x="2600280" y="5010120"/>
            <a:ext cx="1673280" cy="1371600"/>
          </a:xfrm>
          <a:prstGeom prst="rect">
            <a:avLst/>
          </a:prstGeom>
          <a:ln w="0">
            <a:noFill/>
          </a:ln>
        </p:spPr>
      </p:pic>
      <p:pic>
        <p:nvPicPr>
          <p:cNvPr id="328" name="Picture 6" descr="logo_2004"/>
          <p:cNvPicPr/>
          <p:nvPr/>
        </p:nvPicPr>
        <p:blipFill>
          <a:blip r:embed="rId3"/>
          <a:stretch/>
        </p:blipFill>
        <p:spPr>
          <a:xfrm>
            <a:off x="4809960" y="5010120"/>
            <a:ext cx="1447920" cy="1371600"/>
          </a:xfrm>
          <a:prstGeom prst="rect">
            <a:avLst/>
          </a:prstGeom>
          <a:ln w="0">
            <a:noFill/>
          </a:ln>
        </p:spPr>
      </p:pic>
      <p:sp>
        <p:nvSpPr>
          <p:cNvPr id="3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0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574200"/>
            <a:ext cx="78962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NDERSTANDING DATA AND INFORMATION FLOW</a:t>
            </a:r>
            <a:endParaRPr b="1" lang="en-US" sz="4000" spc="-1" strike="noStrike">
              <a:solidFill>
                <a:srgbClr val="ffffff"/>
              </a:solidFill>
              <a:latin typeface="Arial"/>
            </a:endParaRPr>
          </a:p>
        </p:txBody>
      </p:sp>
      <p:sp>
        <p:nvSpPr>
          <p:cNvPr id="1268" name="PlaceHolder 2"/>
          <p:cNvSpPr>
            <a:spLocks noGrp="1"/>
          </p:cNvSpPr>
          <p:nvPr>
            <p:ph type="subTitle"/>
          </p:nvPr>
        </p:nvSpPr>
        <p:spPr>
          <a:xfrm>
            <a:off x="6366960" y="3740040"/>
            <a:ext cx="2459160" cy="804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4</a:t>
            </a:r>
            <a:endParaRPr b="0" lang="en-US" sz="1800" spc="-1" strike="noStrike">
              <a:solidFill>
                <a:srgbClr val="ffffff"/>
              </a:solidFill>
              <a:latin typeface="Arial"/>
            </a:endParaRPr>
          </a:p>
        </p:txBody>
      </p:sp>
      <p:pic>
        <p:nvPicPr>
          <p:cNvPr id="1269" name="Picture 4" descr="L1DSCF0017"/>
          <p:cNvPicPr/>
          <p:nvPr/>
        </p:nvPicPr>
        <p:blipFill>
          <a:blip r:embed="rId1"/>
          <a:stretch/>
        </p:blipFill>
        <p:spPr>
          <a:xfrm>
            <a:off x="2676600" y="2347920"/>
            <a:ext cx="3446280" cy="25844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1769760" y="2778120"/>
            <a:ext cx="6724440" cy="116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FORMATION USE MAP</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923760" y="274680"/>
            <a:ext cx="7763040" cy="86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Use Mapping</a:t>
            </a:r>
            <a:endParaRPr b="1" lang="en-US" sz="3600" spc="-1" strike="noStrike">
              <a:solidFill>
                <a:srgbClr val="ffffff"/>
              </a:solidFill>
              <a:latin typeface="Arial"/>
            </a:endParaRPr>
          </a:p>
        </p:txBody>
      </p:sp>
      <p:sp>
        <p:nvSpPr>
          <p:cNvPr id="1315" name=""/>
          <p:cNvSpPr txBox="1"/>
          <p:nvPr/>
        </p:nvSpPr>
        <p:spPr>
          <a:xfrm>
            <a:off x="590040" y="1147320"/>
            <a:ext cx="8129880" cy="51246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existing flow of health information to identify opportunities for improving its use</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on</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gaps and opportunities for using inform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opportunities for additional feedback mechanism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points at which analysis &amp; data could support programmatic decision ma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6" name="Rectangle 6"/>
          <p:cNvSpPr/>
          <p:nvPr/>
        </p:nvSpPr>
        <p:spPr>
          <a:xfrm>
            <a:off x="0" y="11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PlaceHolder 1"/>
          <p:cNvSpPr>
            <a:spLocks noGrp="1"/>
          </p:cNvSpPr>
          <p:nvPr>
            <p:ph type="title"/>
          </p:nvPr>
        </p:nvSpPr>
        <p:spPr>
          <a:xfrm>
            <a:off x="0" y="132840"/>
            <a:ext cx="91440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formation Use Map: National HIV/AIDS Program</a:t>
            </a:r>
            <a:endParaRPr b="1" lang="en-US" sz="3000" spc="-1" strike="noStrike">
              <a:solidFill>
                <a:srgbClr val="ffffff"/>
              </a:solidFill>
              <a:latin typeface="Arial"/>
            </a:endParaRPr>
          </a:p>
        </p:txBody>
      </p:sp>
      <p:graphicFrame>
        <p:nvGraphicFramePr>
          <p:cNvPr id="1318" name="Object 1"/>
          <p:cNvGraphicFramePr/>
          <p:nvPr/>
        </p:nvGraphicFramePr>
        <p:xfrm>
          <a:off x="385920" y="838080"/>
          <a:ext cx="8372160" cy="5834160"/>
        </p:xfrm>
        <a:graphic>
          <a:graphicData uri="http://schemas.openxmlformats.org/presentationml/2006/ole">
            <p:oleObj r:id="rId1" spid="">
              <p:embed/>
              <p:pic>
                <p:nvPicPr>
                  <p:cNvPr id="1319" name="Object 1" descr=""/>
                  <p:cNvPicPr/>
                  <p:nvPr/>
                </p:nvPicPr>
                <p:blipFill>
                  <a:blip r:embed="rId2"/>
                  <a:stretch/>
                </p:blipFill>
                <p:spPr>
                  <a:xfrm>
                    <a:off x="385920" y="838080"/>
                    <a:ext cx="8372160" cy="58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Rectangle 6"/>
          <p:cNvSpPr/>
          <p:nvPr/>
        </p:nvSpPr>
        <p:spPr>
          <a:xfrm>
            <a:off x="0" y="11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321" name="Object 1"/>
          <p:cNvGraphicFramePr/>
          <p:nvPr/>
        </p:nvGraphicFramePr>
        <p:xfrm>
          <a:off x="317520" y="228600"/>
          <a:ext cx="8508960" cy="6297480"/>
        </p:xfrm>
        <a:graphic>
          <a:graphicData uri="http://schemas.openxmlformats.org/presentationml/2006/ole">
            <p:oleObj r:id="rId1" spid="">
              <p:embed/>
              <p:pic>
                <p:nvPicPr>
                  <p:cNvPr id="1322" name="Object 1" descr=""/>
                  <p:cNvPicPr/>
                  <p:nvPr/>
                </p:nvPicPr>
                <p:blipFill>
                  <a:blip r:embed="rId2"/>
                  <a:stretch/>
                </p:blipFill>
                <p:spPr>
                  <a:xfrm>
                    <a:off x="317520" y="228600"/>
                    <a:ext cx="8508960" cy="62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324" name=""/>
          <p:cNvSpPr txBox="1"/>
          <p:nvPr/>
        </p:nvSpPr>
        <p:spPr>
          <a:xfrm>
            <a:off x="923760" y="1599840"/>
            <a:ext cx="7763040" cy="3962520"/>
          </a:xfrm>
          <a:prstGeom prst="rect">
            <a:avLst/>
          </a:prstGeom>
          <a:noFill/>
          <a:ln w="0">
            <a:noFill/>
          </a:ln>
        </p:spPr>
        <p:txBody>
          <a:bodyPr anchor="t">
            <a:normAutofit/>
          </a:bodyPr>
          <a:p>
            <a:pPr marL="343080" indent="-343080">
              <a:lnSpc>
                <a:spcPct val="12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flow of data and information can reveal barriers to improving data quality and use</a:t>
            </a:r>
            <a:endParaRPr b="0" lang="en-US" sz="3200" spc="-1" strike="noStrike">
              <a:solidFill>
                <a:srgbClr val="ffffff"/>
              </a:solidFill>
              <a:latin typeface="Arial"/>
            </a:endParaRPr>
          </a:p>
          <a:p>
            <a:pPr marL="343080" indent="-343080">
              <a:lnSpc>
                <a:spcPct val="12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Use Map can highlight intervention points</a:t>
            </a:r>
            <a:endParaRPr b="0" lang="en-US" sz="3200" spc="-1" strike="noStrike">
              <a:solidFill>
                <a:srgbClr val="ffffff"/>
              </a:solidFill>
              <a:latin typeface="Arial"/>
            </a:endParaRPr>
          </a:p>
          <a:p>
            <a:pPr marL="343080" indent="-343080">
              <a:lnSpc>
                <a:spcPct val="11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5"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8F22-B309-4337-85C8-5CA2BFF52847}"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4:  </a:t>
            </a:r>
            <a:br>
              <a:rPr sz="3600"/>
            </a:br>
            <a:r>
              <a:rPr b="1" lang="en-US" sz="3600" spc="-1" strike="noStrike">
                <a:solidFill>
                  <a:srgbClr val="ffffff"/>
                </a:solidFill>
                <a:latin typeface="Arial"/>
              </a:rPr>
              <a:t>Part 1 Instructions </a:t>
            </a:r>
            <a:endParaRPr b="1" lang="en-US" sz="3600" spc="-1" strike="noStrike">
              <a:solidFill>
                <a:srgbClr val="ffffff"/>
              </a:solidFill>
              <a:latin typeface="Arial"/>
            </a:endParaRPr>
          </a:p>
        </p:txBody>
      </p:sp>
      <p:sp>
        <p:nvSpPr>
          <p:cNvPr id="1327" name=""/>
          <p:cNvSpPr txBox="1"/>
          <p:nvPr/>
        </p:nvSpPr>
        <p:spPr>
          <a:xfrm>
            <a:off x="938160" y="1765080"/>
            <a:ext cx="7763040" cy="340020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ne in a small group by organization</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the Information Use Map for your organization as data flow </a:t>
            </a:r>
            <a:r>
              <a:rPr b="0" lang="en-US" sz="3000" spc="-1" strike="noStrike" u="sng">
                <a:solidFill>
                  <a:srgbClr val="ffffff"/>
                </a:solidFill>
                <a:uFillTx/>
                <a:latin typeface="Arial"/>
              </a:rPr>
              <a:t>now</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ity time: 30 minutes</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8"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C1B6-8EFD-4ABC-B99B-4BA40C3EC7BE}"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549360" y="274320"/>
            <a:ext cx="81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4:  </a:t>
            </a:r>
            <a:br>
              <a:rPr sz="3600"/>
            </a:br>
            <a:r>
              <a:rPr b="1" lang="en-US" sz="3600" spc="-1" strike="noStrike">
                <a:solidFill>
                  <a:srgbClr val="ffffff"/>
                </a:solidFill>
                <a:latin typeface="Arial"/>
              </a:rPr>
              <a:t>Part 2 Instructions </a:t>
            </a:r>
            <a:endParaRPr b="1" lang="en-US" sz="3600" spc="-1" strike="noStrike">
              <a:solidFill>
                <a:srgbClr val="ffffff"/>
              </a:solidFill>
              <a:latin typeface="Arial"/>
            </a:endParaRPr>
          </a:p>
        </p:txBody>
      </p:sp>
      <p:sp>
        <p:nvSpPr>
          <p:cNvPr id="1330" name=""/>
          <p:cNvSpPr txBox="1"/>
          <p:nvPr/>
        </p:nvSpPr>
        <p:spPr>
          <a:xfrm>
            <a:off x="772920" y="1736280"/>
            <a:ext cx="7762680" cy="3962520"/>
          </a:xfrm>
          <a:prstGeom prst="rect">
            <a:avLst/>
          </a:prstGeom>
          <a:noFill/>
          <a:ln w="0">
            <a:noFill/>
          </a:ln>
        </p:spPr>
        <p:txBody>
          <a:bodyPr anchor="t">
            <a:normAutofit/>
          </a:bodyPr>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map and discuss among your group how the flow of information could be improved:</a:t>
            </a:r>
            <a:endParaRPr b="0" lang="en-US" sz="24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else could data be analyzed?</a:t>
            </a:r>
            <a:endParaRPr b="0" lang="en-US" sz="22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e there opportunities for feedback mechanisms?</a:t>
            </a:r>
            <a:endParaRPr b="0" lang="en-US" sz="22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e data being used by all stakeholders?</a:t>
            </a:r>
            <a:endParaRPr b="0" lang="en-US" sz="22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potential interventions based on your discussion.</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a 2</a:t>
            </a:r>
            <a:r>
              <a:rPr b="0" lang="en-US" sz="2400" spc="-1" strike="noStrike" baseline="30000">
                <a:solidFill>
                  <a:srgbClr val="ffffff"/>
                </a:solidFill>
                <a:latin typeface="Arial"/>
              </a:rPr>
              <a:t>nd</a:t>
            </a:r>
            <a:r>
              <a:rPr b="0" lang="en-US" sz="2400" spc="-1" strike="noStrike">
                <a:solidFill>
                  <a:srgbClr val="ffffff"/>
                </a:solidFill>
                <a:latin typeface="Arial"/>
              </a:rPr>
              <a:t> version of the map to illustrate an improved flow of information.</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time: 30 minutes</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f you finish early…</a:t>
            </a:r>
            <a:endParaRPr b="1" lang="en-US" sz="3600" spc="-1" strike="noStrike">
              <a:solidFill>
                <a:srgbClr val="ffffff"/>
              </a:solidFill>
              <a:latin typeface="Arial"/>
            </a:endParaRPr>
          </a:p>
        </p:txBody>
      </p:sp>
      <p:sp>
        <p:nvSpPr>
          <p:cNvPr id="1332" name=""/>
          <p:cNvSpPr txBox="1"/>
          <p:nvPr/>
        </p:nvSpPr>
        <p:spPr>
          <a:xfrm>
            <a:off x="923760" y="159984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ize the best practices or corrections you are suggesting</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and share why these changes or best practices would facilitate use of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846000" y="169920"/>
            <a:ext cx="77630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Report Back</a:t>
            </a:r>
            <a:endParaRPr b="1" lang="en-US" sz="3600" spc="-1" strike="noStrike">
              <a:solidFill>
                <a:srgbClr val="ffffff"/>
              </a:solidFill>
              <a:latin typeface="Arial"/>
            </a:endParaRPr>
          </a:p>
        </p:txBody>
      </p:sp>
      <p:sp>
        <p:nvSpPr>
          <p:cNvPr id="1334" name=""/>
          <p:cNvSpPr txBox="1"/>
          <p:nvPr/>
        </p:nvSpPr>
        <p:spPr>
          <a:xfrm>
            <a:off x="659880" y="1149120"/>
            <a:ext cx="8015400" cy="4376520"/>
          </a:xfrm>
          <a:prstGeom prst="rect">
            <a:avLst/>
          </a:prstGeom>
          <a:noFill/>
          <a:ln w="0">
            <a:noFill/>
          </a:ln>
        </p:spPr>
        <p:txBody>
          <a:bodyPr anchor="t">
            <a:normAutofit/>
          </a:bodyPr>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e group member remains at the table to present the map to visitors.</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table group moves to the right to visit the table next to them.</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able presenter spends 5 minutes explaining how his or her group improved information flow in its map and how this would facilitate use of data.</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eat steps 2–3</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ryone returns to original tables.</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improving your map based on what you learned from your neighbors. </a:t>
            </a:r>
            <a:endParaRPr b="0" lang="en-US" sz="2200" spc="-1" strike="noStrike">
              <a:solidFill>
                <a:srgbClr val="ffffff"/>
              </a:solidFill>
              <a:latin typeface="Arial"/>
            </a:endParaRPr>
          </a:p>
          <a:p>
            <a:pPr marL="514440" indent="-514440">
              <a:lnSpc>
                <a:spcPct val="80000"/>
              </a:lnSpc>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 1 hour</a:t>
            </a:r>
            <a:endParaRPr b="0" lang="en-US" sz="2200" spc="-1" strike="noStrike">
              <a:solidFill>
                <a:srgbClr val="ffffff"/>
              </a:solidFill>
              <a:latin typeface="Arial"/>
            </a:endParaRPr>
          </a:p>
          <a:p>
            <a:pPr marL="514440" indent="-514440">
              <a:lnSpc>
                <a:spcPct val="8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14440" indent="-514440">
              <a:lnSpc>
                <a:spcPct val="8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549360" y="619200"/>
            <a:ext cx="816300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1271" name=""/>
          <p:cNvSpPr txBox="1"/>
          <p:nvPr/>
        </p:nvSpPr>
        <p:spPr>
          <a:xfrm>
            <a:off x="630360" y="1447920"/>
            <a:ext cx="8129520" cy="5124240"/>
          </a:xfrm>
          <a:prstGeom prst="rect">
            <a:avLst/>
          </a:prstGeom>
          <a:noFill/>
          <a:ln w="0">
            <a:noFill/>
          </a:ln>
        </p:spPr>
        <p:txBody>
          <a:bodyPr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opportunities for improving data production and use</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opportunities for feedback mechanism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oints where analysis &amp; data could support programmatic decision making</a:t>
            </a:r>
            <a:endParaRPr b="0" lang="en-US" sz="2800" spc="-1" strike="noStrike">
              <a:solidFill>
                <a:srgbClr val="ffffff"/>
              </a:solidFill>
              <a:latin typeface="Arial"/>
            </a:endParaRPr>
          </a:p>
        </p:txBody>
      </p:sp>
      <p:sp>
        <p:nvSpPr>
          <p:cNvPr id="1272"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2FD4-5B86-446F-9535-FC01B724BFBD}"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274" name=""/>
          <p:cNvSpPr txBox="1"/>
          <p:nvPr/>
        </p:nvSpPr>
        <p:spPr>
          <a:xfrm>
            <a:off x="691920" y="1447920"/>
            <a:ext cx="799452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Flow</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Use Map</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de to Expanding Use of Informa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4: Mapping Information Flow</a:t>
            </a:r>
            <a:endParaRPr b="0" lang="en-US" sz="2800" spc="-1" strike="noStrike">
              <a:solidFill>
                <a:srgbClr val="ffffff"/>
              </a:solidFill>
              <a:latin typeface="Arial"/>
            </a:endParaRPr>
          </a:p>
        </p:txBody>
      </p:sp>
      <p:sp>
        <p:nvSpPr>
          <p:cNvPr id="1275"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233D-4E22-4889-9BA3-0D01DA243140}"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786960" y="232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Demand &amp; Use </a:t>
            </a:r>
            <a:endParaRPr b="1" lang="en-US" sz="3600" spc="-1" strike="noStrike">
              <a:solidFill>
                <a:srgbClr val="ffffff"/>
              </a:solidFill>
              <a:latin typeface="Arial"/>
            </a:endParaRPr>
          </a:p>
        </p:txBody>
      </p:sp>
      <p:pic>
        <p:nvPicPr>
          <p:cNvPr id="1277" name="Picture 3" descr="measure flowchart"/>
          <p:cNvPicPr/>
          <p:nvPr/>
        </p:nvPicPr>
        <p:blipFill>
          <a:blip r:embed="rId1"/>
          <a:stretch/>
        </p:blipFill>
        <p:spPr>
          <a:xfrm>
            <a:off x="1376280" y="1415880"/>
            <a:ext cx="6491520" cy="41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rpose of Understanding Data Flow</a:t>
            </a:r>
            <a:endParaRPr b="1" lang="en-US" sz="3600" spc="-1" strike="noStrike">
              <a:solidFill>
                <a:srgbClr val="ffffff"/>
              </a:solidFill>
              <a:latin typeface="Arial"/>
            </a:endParaRPr>
          </a:p>
        </p:txBody>
      </p:sp>
      <p:sp>
        <p:nvSpPr>
          <p:cNvPr id="1279" name=""/>
          <p:cNvSpPr txBox="1"/>
          <p:nvPr/>
        </p:nvSpPr>
        <p:spPr>
          <a:xfrm>
            <a:off x="630360" y="1633680"/>
            <a:ext cx="8129520" cy="4938480"/>
          </a:xfrm>
          <a:prstGeom prst="rect">
            <a:avLst/>
          </a:prstGeom>
          <a:noFill/>
          <a:ln w="0">
            <a:noFill/>
          </a:ln>
        </p:spPr>
        <p:txBody>
          <a:bodyPr anchor="t">
            <a:normAutofit/>
          </a:bodyPr>
          <a:p>
            <a:pPr marL="343080" indent="-343080">
              <a:lnSpc>
                <a:spcPct val="12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lps us better understand our role in the health information system and the importance of collecting data</a:t>
            </a:r>
            <a:endParaRPr b="0" lang="en-US" sz="3000" spc="-1" strike="noStrike">
              <a:solidFill>
                <a:srgbClr val="ffffff"/>
              </a:solidFill>
              <a:latin typeface="Arial"/>
            </a:endParaRPr>
          </a:p>
          <a:p>
            <a:pPr marL="343080" indent="-343080">
              <a:lnSpc>
                <a:spcPct val="12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 opportunities for improving data collection and analysis, increasing availability, and ensuring data u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0" name="Group 2" descr=""/>
          <p:cNvPicPr/>
          <p:nvPr/>
        </p:nvPicPr>
        <p:blipFill>
          <a:blip r:embed="rId1"/>
          <a:stretch/>
        </p:blipFill>
        <p:spPr>
          <a:xfrm>
            <a:off x="4071960" y="1798560"/>
            <a:ext cx="4572000" cy="3711600"/>
          </a:xfrm>
          <a:prstGeom prst="rect">
            <a:avLst/>
          </a:prstGeom>
          <a:ln w="0">
            <a:noFill/>
          </a:ln>
        </p:spPr>
      </p:pic>
      <p:sp>
        <p:nvSpPr>
          <p:cNvPr id="1281" name="Rectangle 9"/>
          <p:cNvSpPr/>
          <p:nvPr/>
        </p:nvSpPr>
        <p:spPr>
          <a:xfrm>
            <a:off x="461880" y="1816200"/>
            <a:ext cx="3764160" cy="3409920"/>
          </a:xfrm>
          <a:prstGeom prst="rect">
            <a:avLst/>
          </a:prstGeom>
          <a:solidFill>
            <a:srgbClr val="202eb0">
              <a:alpha val="15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Text Box 10"/>
          <p:cNvSpPr/>
          <p:nvPr/>
        </p:nvSpPr>
        <p:spPr>
          <a:xfrm>
            <a:off x="1998720" y="5029200"/>
            <a:ext cx="190980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ervice Delivery Point</a:t>
            </a:r>
            <a:endParaRPr b="0" lang="en-US" sz="1600" spc="-1" strike="noStrike">
              <a:solidFill>
                <a:srgbClr val="ffffff"/>
              </a:solidFill>
              <a:latin typeface="Arial"/>
            </a:endParaRPr>
          </a:p>
        </p:txBody>
      </p:sp>
      <p:sp>
        <p:nvSpPr>
          <p:cNvPr id="1283" name="AutoShape 11"/>
          <p:cNvSpPr/>
          <p:nvPr/>
        </p:nvSpPr>
        <p:spPr>
          <a:xfrm>
            <a:off x="1960560" y="2162160"/>
            <a:ext cx="3774960" cy="830160"/>
          </a:xfrm>
          <a:prstGeom prst="leftArrow">
            <a:avLst>
              <a:gd name="adj1" fmla="val 40824"/>
              <a:gd name="adj2" fmla="val 59767"/>
            </a:avLst>
          </a:prstGeom>
          <a:solidFill>
            <a:srgbClr val="ff99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eedback     </a:t>
            </a:r>
            <a:endParaRPr b="0" lang="en-US" sz="1600" spc="-1" strike="noStrike">
              <a:solidFill>
                <a:srgbClr val="ffffff"/>
              </a:solidFill>
              <a:latin typeface="Arial"/>
            </a:endParaRPr>
          </a:p>
        </p:txBody>
      </p:sp>
      <p:grpSp>
        <p:nvGrpSpPr>
          <p:cNvPr id="1284" name="Group 12"/>
          <p:cNvGrpSpPr/>
          <p:nvPr/>
        </p:nvGrpSpPr>
        <p:grpSpPr>
          <a:xfrm>
            <a:off x="6723000" y="1978200"/>
            <a:ext cx="2055600" cy="1157040"/>
            <a:chOff x="6723000" y="1978200"/>
            <a:chExt cx="2055600" cy="1157040"/>
          </a:xfrm>
        </p:grpSpPr>
        <p:sp>
          <p:nvSpPr>
            <p:cNvPr id="1285" name="AutoShape 13"/>
            <p:cNvSpPr/>
            <p:nvPr/>
          </p:nvSpPr>
          <p:spPr>
            <a:xfrm>
              <a:off x="7001640" y="1978200"/>
              <a:ext cx="1776960" cy="11570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rs, Government, Donors</a:t>
              </a:r>
              <a:endParaRPr b="0" lang="en-US" sz="1600" spc="-1" strike="noStrike">
                <a:solidFill>
                  <a:srgbClr val="ffffff"/>
                </a:solidFill>
                <a:latin typeface="Arial"/>
              </a:endParaRPr>
            </a:p>
          </p:txBody>
        </p:sp>
        <p:sp>
          <p:nvSpPr>
            <p:cNvPr id="1286" name="Line 14"/>
            <p:cNvSpPr/>
            <p:nvPr/>
          </p:nvSpPr>
          <p:spPr>
            <a:xfrm>
              <a:off x="6723000" y="2558880"/>
              <a:ext cx="253440" cy="4320"/>
            </a:xfrm>
            <a:prstGeom prst="line">
              <a:avLst/>
            </a:prstGeom>
            <a:ln w="28440">
              <a:solidFill>
                <a:srgbClr val="ffffff"/>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grpSp>
      <p:sp>
        <p:nvSpPr>
          <p:cNvPr id="1287" name="AutoShape 15"/>
          <p:cNvSpPr/>
          <p:nvPr/>
        </p:nvSpPr>
        <p:spPr>
          <a:xfrm>
            <a:off x="693720" y="2046240"/>
            <a:ext cx="1197000" cy="115740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a:t>
            </a:r>
            <a:endParaRPr b="0" lang="en-US" sz="1600" spc="-1" strike="noStrike">
              <a:solidFill>
                <a:srgbClr val="ffffff"/>
              </a:solidFill>
              <a:latin typeface="Arial"/>
            </a:endParaRPr>
          </a:p>
        </p:txBody>
      </p:sp>
      <p:grpSp>
        <p:nvGrpSpPr>
          <p:cNvPr id="1288" name="Group 16"/>
          <p:cNvGrpSpPr/>
          <p:nvPr/>
        </p:nvGrpSpPr>
        <p:grpSpPr>
          <a:xfrm>
            <a:off x="2805120" y="3436920"/>
            <a:ext cx="1294920" cy="1238400"/>
            <a:chOff x="2805120" y="3436920"/>
            <a:chExt cx="1294920" cy="1238400"/>
          </a:xfrm>
        </p:grpSpPr>
        <p:sp>
          <p:nvSpPr>
            <p:cNvPr id="1289" name="AutoShape 17"/>
            <p:cNvSpPr/>
            <p:nvPr/>
          </p:nvSpPr>
          <p:spPr>
            <a:xfrm>
              <a:off x="3073680" y="3436920"/>
              <a:ext cx="102636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piled Data</a:t>
              </a:r>
              <a:endParaRPr b="0" lang="en-US" sz="1500" spc="-1" strike="noStrike">
                <a:solidFill>
                  <a:srgbClr val="ffffff"/>
                </a:solidFill>
                <a:latin typeface="Arial"/>
              </a:endParaRPr>
            </a:p>
          </p:txBody>
        </p:sp>
        <p:sp>
          <p:nvSpPr>
            <p:cNvPr id="1290" name="Line 18"/>
            <p:cNvSpPr/>
            <p:nvPr/>
          </p:nvSpPr>
          <p:spPr>
            <a:xfrm>
              <a:off x="2805120" y="3976560"/>
              <a:ext cx="224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1" name="Group 19"/>
          <p:cNvGrpSpPr/>
          <p:nvPr/>
        </p:nvGrpSpPr>
        <p:grpSpPr>
          <a:xfrm>
            <a:off x="961920" y="3214800"/>
            <a:ext cx="1884240" cy="1702800"/>
            <a:chOff x="961920" y="3214800"/>
            <a:chExt cx="1884240" cy="1702800"/>
          </a:xfrm>
        </p:grpSpPr>
        <p:sp>
          <p:nvSpPr>
            <p:cNvPr id="1292" name="Line 20"/>
            <p:cNvSpPr/>
            <p:nvPr/>
          </p:nvSpPr>
          <p:spPr>
            <a:xfrm>
              <a:off x="968400" y="3976560"/>
              <a:ext cx="209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93" name="Group 21"/>
            <p:cNvGrpSpPr/>
            <p:nvPr/>
          </p:nvGrpSpPr>
          <p:grpSpPr>
            <a:xfrm>
              <a:off x="961920" y="3214800"/>
              <a:ext cx="1884240" cy="1702800"/>
              <a:chOff x="961920" y="3214800"/>
              <a:chExt cx="1884240" cy="1702800"/>
            </a:xfrm>
          </p:grpSpPr>
          <p:sp>
            <p:nvSpPr>
              <p:cNvPr id="1294" name="AutoShape 22"/>
              <p:cNvSpPr/>
              <p:nvPr/>
            </p:nvSpPr>
            <p:spPr>
              <a:xfrm>
                <a:off x="1211040" y="3347640"/>
                <a:ext cx="1635120" cy="1569960"/>
              </a:xfrm>
              <a:prstGeom prst="flowChartMulti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nical Histories, Service Statistics</a:t>
                </a:r>
                <a:endParaRPr b="0" lang="en-US" sz="1600" spc="-1" strike="noStrike">
                  <a:solidFill>
                    <a:srgbClr val="ffffff"/>
                  </a:solidFill>
                  <a:latin typeface="Arial"/>
                </a:endParaRPr>
              </a:p>
            </p:txBody>
          </p:sp>
          <p:sp>
            <p:nvSpPr>
              <p:cNvPr id="1295" name="Line 23"/>
              <p:cNvSpPr/>
              <p:nvPr/>
            </p:nvSpPr>
            <p:spPr>
              <a:xfrm flipV="1">
                <a:off x="961920" y="3214800"/>
                <a:ext cx="0" cy="769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96" name="Group 24"/>
          <p:cNvGrpSpPr/>
          <p:nvPr/>
        </p:nvGrpSpPr>
        <p:grpSpPr>
          <a:xfrm>
            <a:off x="5148360" y="2130480"/>
            <a:ext cx="1574640" cy="1451520"/>
            <a:chOff x="5148360" y="2130480"/>
            <a:chExt cx="1574640" cy="1451520"/>
          </a:xfrm>
        </p:grpSpPr>
        <p:sp>
          <p:nvSpPr>
            <p:cNvPr id="1297" name="AutoShape 25"/>
            <p:cNvSpPr/>
            <p:nvPr/>
          </p:nvSpPr>
          <p:spPr>
            <a:xfrm>
              <a:off x="5724360" y="2130480"/>
              <a:ext cx="99864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orts</a:t>
              </a:r>
              <a:endParaRPr b="0" lang="en-US" sz="1600" spc="-1" strike="noStrike">
                <a:solidFill>
                  <a:srgbClr val="ffffff"/>
                </a:solidFill>
                <a:latin typeface="Arial"/>
              </a:endParaRPr>
            </a:p>
          </p:txBody>
        </p:sp>
        <p:grpSp>
          <p:nvGrpSpPr>
            <p:cNvPr id="1298" name="Group 26"/>
            <p:cNvGrpSpPr/>
            <p:nvPr/>
          </p:nvGrpSpPr>
          <p:grpSpPr>
            <a:xfrm>
              <a:off x="5148360" y="3006360"/>
              <a:ext cx="575640" cy="575640"/>
              <a:chOff x="5148360" y="3006360"/>
              <a:chExt cx="575640" cy="575640"/>
            </a:xfrm>
          </p:grpSpPr>
          <p:sp>
            <p:nvSpPr>
              <p:cNvPr id="1299" name="Line 27"/>
              <p:cNvSpPr/>
              <p:nvPr/>
            </p:nvSpPr>
            <p:spPr>
              <a:xfrm flipV="1">
                <a:off x="5148360" y="3006360"/>
                <a:ext cx="0" cy="57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Line 28"/>
              <p:cNvSpPr/>
              <p:nvPr/>
            </p:nvSpPr>
            <p:spPr>
              <a:xfrm>
                <a:off x="5148360" y="3006720"/>
                <a:ext cx="57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0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Flow</a:t>
            </a:r>
            <a:endParaRPr b="1" lang="en-US" sz="3600" spc="-1" strike="noStrike">
              <a:solidFill>
                <a:srgbClr val="ffffff"/>
              </a:solidFill>
              <a:latin typeface="Arial"/>
            </a:endParaRPr>
          </a:p>
        </p:txBody>
      </p:sp>
      <p:grpSp>
        <p:nvGrpSpPr>
          <p:cNvPr id="1302" name="Group 30"/>
          <p:cNvGrpSpPr/>
          <p:nvPr/>
        </p:nvGrpSpPr>
        <p:grpSpPr>
          <a:xfrm>
            <a:off x="1949400" y="2584440"/>
            <a:ext cx="1431720" cy="844560"/>
            <a:chOff x="1949400" y="2584440"/>
            <a:chExt cx="1431720" cy="844560"/>
          </a:xfrm>
        </p:grpSpPr>
        <p:sp>
          <p:nvSpPr>
            <p:cNvPr id="1303" name="Line 31"/>
            <p:cNvSpPr/>
            <p:nvPr/>
          </p:nvSpPr>
          <p:spPr>
            <a:xfrm flipV="1">
              <a:off x="3381120" y="2584440"/>
              <a:ext cx="0" cy="84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Line 32"/>
            <p:cNvSpPr/>
            <p:nvPr/>
          </p:nvSpPr>
          <p:spPr>
            <a:xfrm>
              <a:off x="1949400" y="2584440"/>
              <a:ext cx="14317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sons to Assess Information Flow</a:t>
            </a:r>
            <a:endParaRPr b="1" lang="en-US" sz="3600" spc="-1" strike="noStrike">
              <a:solidFill>
                <a:srgbClr val="ffffff"/>
              </a:solidFill>
              <a:latin typeface="Arial"/>
            </a:endParaRPr>
          </a:p>
        </p:txBody>
      </p:sp>
      <p:sp>
        <p:nvSpPr>
          <p:cNvPr id="1306"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data not used locally</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level information does not return back to local level</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data not assessed in broad context</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incentive to produce high-quality data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7" name="Slide Number Placeholder 4"/>
          <p:cNvSpPr/>
          <p:nvPr/>
        </p:nvSpPr>
        <p:spPr>
          <a:xfrm>
            <a:off x="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F3D1-C8DD-4201-AC6C-794C3B7B429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vestigating Information Flow in Dominica</a:t>
            </a:r>
            <a:endParaRPr b="1" lang="en-US" sz="3600" spc="-1" strike="noStrike">
              <a:solidFill>
                <a:srgbClr val="ffffff"/>
              </a:solidFill>
              <a:latin typeface="Arial"/>
            </a:endParaRPr>
          </a:p>
        </p:txBody>
      </p:sp>
      <p:sp>
        <p:nvSpPr>
          <p:cNvPr id="1309" name=""/>
          <p:cNvSpPr txBox="1"/>
          <p:nvPr/>
        </p:nvSpPr>
        <p:spPr>
          <a:xfrm>
            <a:off x="923760" y="1600200"/>
            <a:ext cx="8010720" cy="469728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tuation:</a:t>
            </a:r>
            <a:r>
              <a:rPr b="0" lang="en-US" sz="2600" spc="-1" strike="noStrike">
                <a:solidFill>
                  <a:srgbClr val="ffffff"/>
                </a:solidFill>
                <a:latin typeface="Arial"/>
              </a:rPr>
              <a:t> local health centers and hospitals report up through the RHIS system.</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blem:</a:t>
            </a:r>
            <a:r>
              <a:rPr b="0" lang="en-US" sz="2600" spc="-1" strike="noStrike">
                <a:solidFill>
                  <a:srgbClr val="ffffff"/>
                </a:solidFill>
                <a:latin typeface="Arial"/>
              </a:rPr>
              <a:t> local facilities never receive full reports after they are completed. </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formation Use Map Suggestions: </a:t>
            </a:r>
            <a:r>
              <a:rPr b="0" lang="en-US" sz="2600" spc="-1" strike="noStrike">
                <a:solidFill>
                  <a:srgbClr val="ffffff"/>
                </a:solidFill>
                <a:latin typeface="Arial"/>
              </a:rPr>
              <a:t>identified opportunities for feedback to facilities and specified how the information could be used for mid-course correct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 </a:t>
            </a:r>
            <a:endParaRPr b="1" lang="en-US" sz="3600" spc="-1" strike="noStrike">
              <a:solidFill>
                <a:srgbClr val="ffffff"/>
              </a:solidFill>
              <a:latin typeface="Arial"/>
            </a:endParaRPr>
          </a:p>
        </p:txBody>
      </p:sp>
      <p:sp>
        <p:nvSpPr>
          <p:cNvPr id="1311" name=""/>
          <p:cNvSpPr txBox="1"/>
          <p:nvPr/>
        </p:nvSpPr>
        <p:spPr>
          <a:xfrm>
            <a:off x="923760" y="1599840"/>
            <a:ext cx="7763040" cy="3962520"/>
          </a:xfrm>
          <a:prstGeom prst="rect">
            <a:avLst/>
          </a:prstGeom>
          <a:noFill/>
          <a:ln w="0">
            <a:noFill/>
          </a:ln>
        </p:spPr>
        <p:txBody>
          <a:bodyPr anchor="t">
            <a:normAutofit/>
          </a:bodyPr>
          <a:p>
            <a:pPr marL="343080" indent="-343080">
              <a:spcBef>
                <a:spcPts val="950"/>
              </a:spcBef>
              <a:spcAft>
                <a:spcPts val="9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343080"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information flow through your organization?</a:t>
            </a:r>
            <a:endParaRPr b="0" lang="en-US" sz="3200" spc="-1" strike="noStrike">
              <a:solidFill>
                <a:srgbClr val="ffffff"/>
              </a:solidFill>
              <a:latin typeface="Arial"/>
            </a:endParaRPr>
          </a:p>
        </p:txBody>
      </p:sp>
      <p:sp>
        <p:nvSpPr>
          <p:cNvPr id="1312" name="Slide Number Placeholder 4"/>
          <p:cNvSpPr/>
          <p:nvPr/>
        </p:nvSpPr>
        <p:spPr>
          <a:xfrm>
            <a:off x="0" y="6124680"/>
            <a:ext cx="10666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3D5F-6A10-46F5-A263-558577F7111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cp:lastPrinted>2010-09-27T20:38:36Z</cp:lastPrinted>
  <dcterms:modified xsi:type="dcterms:W3CDTF">2011-04-14T16:57:59Z</dcterms:modified>
  <cp:revision>144</cp:revision>
  <dc:subject/>
  <dc:title>Slide 1</dc:title>
</cp:coreProperties>
</file>